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8.wmf" ContentType="image/x-wmf"/>
  <Override PartName="/ppt/media/image60.png" ContentType="image/png"/>
  <Override PartName="/ppt/media/image31.wmf" ContentType="image/x-wmf"/>
  <Override PartName="/ppt/media/image28.png" ContentType="image/png"/>
  <Override PartName="/ppt/media/image3.wmf" ContentType="image/x-wmf"/>
  <Override PartName="/ppt/media/image15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0.wmf" ContentType="image/x-wmf"/>
  <Override PartName="/ppt/media/image63.png" ContentType="image/png"/>
  <Override PartName="/ppt/media/image69.wmf" ContentType="image/x-wmf"/>
  <Override PartName="/ppt/media/image29.png" ContentType="image/png"/>
  <Override PartName="/ppt/media/image22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19.wmf" ContentType="image/x-wmf"/>
  <Override PartName="/ppt/media/image2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50.png" ContentType="image/pn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1D6-63FD-493E-977F-D2CD796C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53F-BAE8-4873-9550-CE7E912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49B-1DCD-41E3-B36F-1BB834B4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65A-7A35-4354-B9E5-CA1BFF95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B325-924B-49E5-975B-100E9F8A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6EA-9582-460E-91D1-C75673E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66A-C6A2-4C63-BFDD-92BB2991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2003-8047-4E6E-8712-191F2B6F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B713-522E-49FC-936C-CFCFC86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2286-8E9B-4E43-A4BF-CEB6C4C6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B50-0ACD-40D5-9209-269039A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CDB-CBAC-49EE-998F-05496357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98EF-BC78-4272-AEBB-ADC7E6B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CB40-F47D-42AD-ADE1-6184D27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A356-C458-4065-9094-42794E7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A56-D66A-491B-81FA-975386D4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D92A-F2C7-401E-BF0D-07AA7ABB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258-16B9-41AF-BB80-79D6FA5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9A1-88FA-47E1-917B-A7ED24F9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D44-0EC3-44DA-809C-374F8B44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2A7-971E-42D9-9152-5A66ABE3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7AF-6B3A-480F-89CC-2113301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D44-AA62-4BD9-9B1D-766CC2D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EDA-CFC3-429C-8C0D-BE65307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E658-A176-43FE-9CDD-E7E4A783264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918F-F2DA-43FC-A88C-0AA7B3EBF2E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 for medical image segmen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. Sc. Marko Subaši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bdominal aorta due to weakened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orta may lead to aortic wall rap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ful information can be obtained through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67080" cy="360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11480" y="4437000"/>
            <a:ext cx="198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fur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52671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iac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242100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2200" y="3716280"/>
            <a:ext cx="184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neurz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214720"/>
            <a:ext cx="69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rrent imaging gold standard is Computerized tomography – angiograp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necessary to extract abdominal aorta from the rest of the abdomen in CT slices – segmenta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results can provide useful information about aneurysm shape, size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nformation is useful in diagnostics, procedure planning, and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6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is re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not a difficult tas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wall is much more problema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67480" y="25909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467480" y="46483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egmentation of outer aortic borde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um sediments – calcifications – can appear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intensity in CT scans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still part of the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ome places aorta may touch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 tissue making the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rder between them difficult t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also poses problem to radiolog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514600" cy="244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19333200">
            <a:off x="7162920" y="3429000"/>
            <a:ext cx="457200" cy="304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64000" y="2492280"/>
            <a:ext cx="1874880" cy="1013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657600"/>
            <a:ext cx="304560" cy="9907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56000" y="4191120"/>
            <a:ext cx="777960" cy="390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952880" y="5181480"/>
            <a:ext cx="33530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desired to decrease number of necessary calculations, especially in 3-D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mit calculations only to DM segments that area actually movin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DM has stopped at a certain point no further calculations need to be done for that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roduction of tracking algorithm for D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ints where DM has stopped are excluded from further calcul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decrease of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cution time in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gmentation of tub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ke objects like aor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5181480"/>
            <a:ext cx="3124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 resolution appro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aling of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 is not scal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ing by factor 2 in x and y dimension decreases number of points and number of calculations by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segmentation has been finished at lower resolution it is continued at full resolution for several it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switching to full resolution function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decreased by 1 to avoid spilling of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performed with 3-D DM and poses no significant prob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segmentation results can be used as initialization for aortic wall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segmentation of aortic wall knowledge of aortic wall and segmented aortic interior are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hape of the aneurysm is difficult to predict but we can presume that the outer aortic border is  smoo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nters of mass of aortic interior and aortic wall should be near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-D deformable model used in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14760" y="4419720"/>
          <a:ext cx="589104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419720"/>
                    <a:ext cx="58910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9480" y="2743200"/>
          <a:ext cx="77248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43200"/>
                    <a:ext cx="77248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581280" y="3124080"/>
                <a:ext cx="2384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39880" y="4191120"/>
                <a:ext cx="2176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9880" y="4952880"/>
                <a:ext cx="2309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σ</m:t>
                                    </m:r>
                                  </m:sub>
                                </m:sSub>
                                <m:r>
                                  <m:t xml:space="preserve">∗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402240" y="4191120"/>
                <a:ext cx="1203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92560" y="4191120"/>
                <a:ext cx="860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6400800" y="4876920"/>
          <a:ext cx="190512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876920"/>
                    <a:ext cx="1905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4038480"/>
            <a:ext cx="8229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34320" y="2362320"/>
            <a:ext cx="1752480" cy="531720"/>
            <a:chOff x="6934320" y="23623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934320" y="23623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7812000" y="2724120"/>
              <a:ext cx="1429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dominal aortic aneurysm (segmentation, proble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time re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approaches for AAA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76520" cy="2236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82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same as in the 1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pproach –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egmentation of aortic wall tracking of moving segments of DM is introduc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-D deformable model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ing of stre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05520" y="518148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38280" y="5305320"/>
            <a:ext cx="1187640" cy="121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62520" y="5562720"/>
            <a:ext cx="685800" cy="457200"/>
          </a:xfrm>
          <a:prstGeom prst="rightArrow">
            <a:avLst>
              <a:gd name="adj1" fmla="val 50000"/>
              <a:gd name="adj2" fmla="val 541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ing curve segment is bounded with stationary points – tracking of moving segments (merging and splittin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on coeffici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read coefficien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ping condi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16360" y="4005360"/>
                <a:ext cx="228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716360" y="4581360"/>
                <a:ext cx="12034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716360" y="5445000"/>
                <a:ext cx="2284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2513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29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98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098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2096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094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70102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4100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70102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5410080" y="4572000"/>
            <a:ext cx="15242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ping of DM penetration into surrounding tissue in aortic wall segmentation – pre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reconstruction of outer aortic border with some information flow among neighboring sl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nstruction of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methods are use to enhance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reconstruction of weak outer border knowledge of aortic shape and aneurysm is util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si-convex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tance map and its gradient in radial direction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92320" y="3581280"/>
          <a:ext cx="32353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3581280"/>
                    <a:ext cx="32353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fications – sediments of calcium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bright regions on CT slices – introduces inhomogeneity into aortic wall 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be used in estimation of position of weak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136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248520" y="5029200"/>
            <a:ext cx="163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315200" y="3352680"/>
            <a:ext cx="136224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0574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6576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68580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4572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20574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36576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5257800" y="3276720"/>
            <a:ext cx="1500120" cy="1555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280" y="4952880"/>
            <a:ext cx="8763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1911240" cy="2290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168408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5876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548640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91124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3657600" y="265428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7238880" y="2660760"/>
            <a:ext cx="1758960" cy="175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36576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7219800" y="304920"/>
            <a:ext cx="1924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 are curves or surfaces defined within an image domain that can move under the influence of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defined within the curve or surface itself,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x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computed from the image da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3962520"/>
          <a:ext cx="7705440" cy="285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7054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348000" y="1557360"/>
          <a:ext cx="579600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557360"/>
                    <a:ext cx="5796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2-D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ortic interior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edge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er aortic boundary – aortic wall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segmentation with information flow among neighboring sli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modifications to overcome problems in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of DM in aortic interior segmentation using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erial slice sequence in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in aortic wall segmentation using segmentation results of aortic inter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 i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M holds 5 term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tant speed ter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tant expansion of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vature based term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astic proper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09680" y="3124080"/>
                <a:ext cx="4800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7086600" y="2590920"/>
            <a:ext cx="1752480" cy="531720"/>
            <a:chOff x="7086600" y="25909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7086600" y="25909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7964640" y="2952720"/>
              <a:ext cx="142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12000" y="4005360"/>
                <a:ext cx="804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84720" y="4869000"/>
                <a:ext cx="222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590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that enforces curvature similarity of inner and outer aortic b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age based component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ly similar pixels are a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based on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908680" y="2255760"/>
                <a:ext cx="3083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740640" y="3540240"/>
                <a:ext cx="1720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137280" y="5160960"/>
                <a:ext cx="2747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93432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391520" y="1600200"/>
            <a:ext cx="1218960" cy="1625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502920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12408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6934320" y="3276720"/>
            <a:ext cx="1689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son with manually corrected semiautomatic metho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correlation coefficien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5,3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ndard deviation of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,68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35680" y="2133720"/>
          <a:ext cx="3976560" cy="41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2133720"/>
                    <a:ext cx="397656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methods have been presented for segmentation of abdominal aortic aneurysm that require minimal user interven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are based on geometric deformable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differ in a way of solving the specific problem of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have been tested on patient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le application of the methods is in diagnostics, procedure planning and condition track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do not function well in the presence of strong image degradation such as artifacts produced by metal parts of stent graft de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 is not possible to use these methods in postoperative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successful is the method that utilizes knowledge of aortic sha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designed to keep the model smooth during de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xternal forces are defined to move the model toward an object boundary or other desired features within an im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Ms often combine several image processing methods and incorporates prior information about object being segm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bustness to both image noise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boundary ga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oal is to describe the object in the image using a mathematical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deformable model is deformed toward its final shape with the help of various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successful application in medical image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application in 2-D space and also in higher dimensional sp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st type of deformable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del is given in parametric 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segment complex objects in a straight forward mann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change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e recent d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olution of DM depends on geometric properties rather then paramete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lves problems of parametric D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anges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n model complex shap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ed on curve evolution theory or minimization of ener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tilizes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evel se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lgorith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urve is represente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licitly as a set of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ero valued p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awback is higher complexity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increased number of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904760" cy="1900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876920"/>
            <a:ext cx="2554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2209680"/>
          <a:ext cx="4876560" cy="30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876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70720" y="3733920"/>
                <a:ext cx="2603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∇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76520" y="5334120"/>
                <a:ext cx="2322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81800" y="4724280"/>
                <a:ext cx="293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V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391520" y="4648320"/>
            <a:ext cx="228600" cy="68580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1600" y="54100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ifference between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rious mode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3:03:47Z</dcterms:created>
  <dc:creator>ZESOI</dc:creator>
  <dc:description/>
  <dc:language>en-US</dc:language>
  <cp:lastModifiedBy>GOR</cp:lastModifiedBy>
  <dcterms:modified xsi:type="dcterms:W3CDTF">2004-07-20T10:35:37Z</dcterms:modified>
  <cp:revision>150</cp:revision>
  <dc:subject/>
  <dc:title>Deformabilni model za segmentaciju medicnskih slika</dc:title>
</cp:coreProperties>
</file>