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0BC-681A-454E-B35A-62ACA327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86E-D268-4FA4-82EB-3279494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521-8C1F-4B6C-A5D6-675A22BF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631-8378-412F-B8CB-9BAA3588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1EC-95BE-43E2-BAFA-E3377FE6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B5A-16D0-41DA-B431-58CCE7B0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475-B137-4FCE-A5A3-51F6ED6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C7B-2C9F-4D43-A0B7-F563487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88F-4F9E-48AF-8F48-BAFD687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A7F-DEE0-4AD2-A103-7D1E7FF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6A6-2A25-4538-A698-3B200CA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2F4-B20F-4DBD-9104-043998E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EAA-CE45-4770-96CD-9330B8E262B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yorsulás mérése szabadesés köz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on eső vonatkoztatási rendszerben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úlytalanság állap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dobás is szabadesés, más kezdőfeltéte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ellenállás befolyá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rúdra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úd stabilitást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57880" y="1981080"/>
            <a:ext cx="5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gyorsulásszenz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dat elejtjük, feldobjuk, majd elkap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badesés idejére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szabadesés köz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kapási tranzien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s a vezeték esetleges fokozott igénybevétel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48:21Z</dcterms:modified>
  <cp:revision>117</cp:revision>
  <dc:subject/>
  <dc:title>PowerPoint Presentation</dc:title>
</cp:coreProperties>
</file>