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BD1-7D9C-4E24-9238-267624E3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B92-215C-42D8-BD0B-D54B0ED7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E59-3227-4F3C-8046-5E221278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9A5-6603-4FB0-856A-2453FFE9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1A3-4863-4AD8-B9C9-2D95BAD3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1C4-FCC9-49D8-9BBE-F76C601F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2F0-6A73-450E-AA44-5CDA5606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A29-E231-4B50-8E21-7FFC88E3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8C0-0F78-41CC-903A-8855A2C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6F9-F9FB-4CA5-B5E0-41A9268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63D-1DA9-4A95-93E4-974FD88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65A-4611-4FD2-97E4-DD591958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396-6707-41C1-90DD-22F11A45579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hűlési törvény kísérleti vizsg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próbálhatjuk folyadékk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nk a szenzor épség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zeg hőmérsékletét meg kell becsülnünk a logaritmálás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lszerű ezt állíthatóra tenni és értékét a leglineárisabb esethez igazíta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őmérséklet változási sebessége arányos a különbség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ponenciális lehű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: környe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: kezd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3280" y="1955880"/>
                <a:ext cx="3745080" cy="27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környező közeg felmeleged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őátadás több közegen megy á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ugvó levegő vagy köz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ősugárz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misz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termisz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termisz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1Hz (1s felbont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500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legítsük fel a termisztort kézzel 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 fö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dítsuk el a mér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 levegőn (ne érjen semmihez) hagyjuk hű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19280" y="1843200"/>
          <a:ext cx="590544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3200"/>
                    <a:ext cx="59054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916280"/>
          <a:ext cx="5193000" cy="41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19300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 txBox="1"/>
          <p:nvPr/>
        </p:nvSpPr>
        <p:spPr>
          <a:xfrm>
            <a:off x="5795640" y="1981080"/>
            <a:ext cx="26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kete: mé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os: illeszt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/0,00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 Newton-féle lehűlési törvé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blázatkezelővel linearizá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enesillesztéssel az időállandó megad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3T00:35:33Z</dcterms:modified>
  <cp:revision>125</cp:revision>
  <dc:subject/>
  <dc:title>PowerPoint Presentation</dc:title>
</cp:coreProperties>
</file>