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115-3E6C-4711-9C65-2A0D2B85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6C8-27D6-4B68-9A21-36D5C20E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48C-E41C-48CE-92A3-5A56EA03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BFE-FDED-4E98-B233-82ED1F6C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ABA-2F4B-49F7-9D7C-D0E9AE2C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EBB-E13F-4F89-A7A4-63C7C95E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58A-09E9-4CB6-98D7-026BF04C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79B-6EAE-4439-9B5C-9DADB5A4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D72-3ADB-4659-BCF5-91FF4A0B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37E-C082-4BA5-A435-19086973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2C4-F712-4CC4-8F31-02D9BEE0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C71-39FC-41B6-B38B-B96A7965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DCD9-00A8-443E-8F4E-EDE0A40E324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Rugóra függesztett test mozgásának mérése gyorsulásszenzor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lengési idő: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gyorsulásszenzorral mér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rugóállandó mér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illapodó lengési amplitúd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929120" y="2133720"/>
                <a:ext cx="343692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-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ztesé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ugóra tömeget függesztü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estre rögzítjük a szenz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sznált csatornák: A (gyorsulásszenz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kálázási adatok : lineá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tavételi rát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00Hz (1ms felbon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00Hz (0,5ms felbon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dőablak: 10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üszöbszint: a nyugalmi érté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iszterézis: 0,1V (az amplitúdónál kisebb legy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ezgést elindí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érünk néhány szintmetszési idő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atokat táblázatkezelőbe vihetj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 lengési időátlagát, szórását számolha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ugóállandó 1-2% pontossággal mér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i adatokat táblázatkezelővel dolgozhatjuk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léltethet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yorsulás időfügg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ugók soros, párhuzamos kapcso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ezgés csillapod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ugó helyett gumiszálat is próbálhat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sillapodási tényező függ az anyagt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 hibájának becslé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dőfelbontás: 1/mintavételi r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dőalap pontossága 0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2T23:37:35Z</dcterms:modified>
  <cp:revision>115</cp:revision>
  <dc:subject/>
  <dc:title>PowerPoint Presentation</dc:title>
</cp:coreProperties>
</file>