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5B7-4A52-4E0F-9DF6-14B3C30D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4AC-69C1-4E69-A00D-63D5FD1C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E98-6530-47D5-95E4-354F117B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841-DF2D-4E14-BCA3-22231F67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8C1-4525-4E51-8F31-F429EE5C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75F-024A-4682-8727-A6873B91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FEC-1346-4F32-8600-0617ABD6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3F0-AAB0-4617-8967-5AF8A649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DB8-DD68-49E8-BFD7-6929C4F1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8BB-DEEF-4953-A309-4E98EA27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A8A-2DED-44A1-B7D9-49E00BF6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855-D0B2-4284-8BE7-B645133E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D6E5-7C67-4B3D-9DCC-A5E0C6AE9F0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abadon eső létra vizsgá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pasz Katalin, Makra Péter, Gingl Zol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ww.noise.physx.u-szeged.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ged,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méleti hátté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enletes gyorsul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ezdőfeltételek: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gyorsulás: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időfüggés ism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sebesség lineá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megtett út para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195640" y="4221000"/>
                <a:ext cx="4535280" cy="19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nyire igaz az elméletü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egellenállás számíthat, 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besség n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ömeg kic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lület n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ísérleti elrend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onalzó, szigetelőszal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9mm szalagszélessé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5cm periód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tokapuval mérhetjük a sávok kapuhoz érkezési pillanat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megtett út sávonként 5cm-rel n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308720" y="1989000"/>
          <a:ext cx="1103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1989000"/>
                    <a:ext cx="1103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beáll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t csatornák: B (fotokap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kálázási adatok : lineá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tavételi ráta: 1000Hz (1ms felbont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dőablak: 1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üszöbszint: 2,5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iszterézis: 0,1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éré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otokaput az asztal széléhez rögztj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érést elindí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vonalzót a kapu érzékelője előtt leej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Ügyeljünk a szabályos ejtés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2-3% pontossággal mérh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érési adatokat táblázatkezelővel dolgozhatjuk f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g értéke görbeillesztéssel kaphat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) : para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) : egy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apasztalatok, javas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parabola illesztés pontosabb eredményt 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ebesség pontossága nagyobb értékeknél kise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li</cp:lastModifiedBy>
  <dcterms:modified xsi:type="dcterms:W3CDTF">2010-03-22T22:59:34Z</dcterms:modified>
  <cp:revision>118</cp:revision>
  <dc:subject/>
  <dc:title>PowerPoint Presentation</dc:title>
</cp:coreProperties>
</file>