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A6AF-53CA-4556-BF18-125CEDA10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85D3-CEC1-4801-9204-E935574CC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183E-3294-4B67-8D9B-AAB31FDAD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6542-2265-4B0A-9F31-034C9F129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ECDF-AE48-4802-85CC-4C1D38A6D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E322-4968-48D0-9D85-C331D7B86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6589-7DAA-470F-BC65-D221F3E30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D2E4-E09F-4EB6-B74D-574B4C7F4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F170-3531-448E-8E84-E87B57513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1186-04EB-4E15-926B-B532C134F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FB09-3B36-439C-B4D5-A9FCF7631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220C-0887-49A2-B826-AA447A012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da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a7744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Times New Roman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a7744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Times New Roman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59600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a7744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26A50-F1E6-41F1-B423-5DA65650E092}" type="slidenum">
              <a:rPr b="0" lang="hu-HU" sz="1400" spc="-1" strike="noStrike">
                <a:solidFill>
                  <a:srgbClr val="a7744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468360" y="1557360"/>
            <a:ext cx="8207280" cy="4680000"/>
          </a:xfrm>
          <a:prstGeom prst="rect">
            <a:avLst/>
          </a:prstGeom>
          <a:solidFill>
            <a:srgbClr val="cdb279"/>
          </a:solidFill>
          <a:ln w="9360">
            <a:solidFill>
              <a:srgbClr val="a784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9"/>
          <p:cNvSpPr/>
          <p:nvPr/>
        </p:nvSpPr>
        <p:spPr>
          <a:xfrm>
            <a:off x="468360" y="260280"/>
            <a:ext cx="8207280" cy="1152720"/>
          </a:xfrm>
          <a:prstGeom prst="rect">
            <a:avLst/>
          </a:prstGeom>
          <a:solidFill>
            <a:srgbClr val="a77447"/>
          </a:solidFill>
          <a:ln cap="rnd" w="9360">
            <a:solidFill>
              <a:srgbClr val="765232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1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2F5D3-96BD-42AB-B260-A3F13A07E856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16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17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" name="Picture 9" descr="adatbázisvonal"/>
          <p:cNvPicPr/>
          <p:nvPr/>
        </p:nvPicPr>
        <p:blipFill>
          <a:blip r:embed="rId2"/>
          <a:stretch/>
        </p:blipFill>
        <p:spPr>
          <a:xfrm>
            <a:off x="7074000" y="3429000"/>
            <a:ext cx="2070000" cy="342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da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7"/>
          <p:cNvSpPr/>
          <p:nvPr/>
        </p:nvSpPr>
        <p:spPr>
          <a:xfrm>
            <a:off x="468360" y="260280"/>
            <a:ext cx="8207280" cy="5977080"/>
          </a:xfrm>
          <a:prstGeom prst="rect">
            <a:avLst/>
          </a:prstGeom>
          <a:solidFill>
            <a:srgbClr val="cdb279"/>
          </a:solidFill>
          <a:ln w="9360">
            <a:solidFill>
              <a:srgbClr val="a784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9" descr="adatbázisvonal"/>
          <p:cNvPicPr/>
          <p:nvPr/>
        </p:nvPicPr>
        <p:blipFill>
          <a:blip r:embed="rId2"/>
          <a:stretch/>
        </p:blipFill>
        <p:spPr>
          <a:xfrm>
            <a:off x="7072200" y="3427560"/>
            <a:ext cx="2071800" cy="343044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10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4744C-AF41-4605-8F6B-0587EF72ACD6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1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2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Programozás I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2. gyakorl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Osztály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5998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class dia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z osztályokból osztálydiagramokat állíthatunk össze, mely leírja a programunk szerkezeté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E3ADC-7DC9-4336-9EC9-FE57FCE5DC1E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UM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5998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Unified Modeling Language (Egységesített Modellező Nyelv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Egy nyelv: szintaktikai és szemantikai szabályok összessé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Szoftverrendszer elemeine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vizualizálására   ( </a:t>
            </a:r>
            <a:r>
              <a:rPr b="0" lang="hu-HU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Grafiku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specifikálásá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létrehozásá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dokumentálásá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Hivatalos oldal: http://www.uml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D2A0F-639C-489E-B6A9-E7C1E66EA01B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UML osztály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Grafikus szemléltetésre különböző diagramok készíthetők, ezek egyike az osztály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Elemei: osztályok, interfészek, csomagok, megjegyzés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Kapcsolatok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sszociáci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ggregáci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kompozíci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öröklőd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C22D5-C628-4945-A6C6-8DBD17351DFF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9" descr=""/>
          <p:cNvPicPr/>
          <p:nvPr/>
        </p:nvPicPr>
        <p:blipFill>
          <a:blip r:embed="rId1"/>
          <a:stretch/>
        </p:blipFill>
        <p:spPr>
          <a:xfrm>
            <a:off x="3994200" y="3573360"/>
            <a:ext cx="2276280" cy="23749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9" descr="A kabinet modellje"/>
          <p:cNvPicPr/>
          <p:nvPr/>
        </p:nvPicPr>
        <p:blipFill>
          <a:blip r:embed="rId2"/>
          <a:stretch/>
        </p:blipFill>
        <p:spPr>
          <a:xfrm>
            <a:off x="6372360" y="3084480"/>
            <a:ext cx="226836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sszociáci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Osztályok közötti kétirányú összeköttet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Használati kapcsolat” - létük egymástól  általában független, de legalább az egyik ismeri és/vagy használja a másik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Gyakorlatilag az egyik osztály használja a másikat (vagy egy metódusát, st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sszociáció lehet egy- vagy kétirány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dhatunk nevet az asszociáción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sszociációs osztály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sszociáció, kapcsolat részlete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843BF-9982-4242-9894-3209D5014486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sszociáci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A2A97-B2F2-4149-9DE3-C50F976C9255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9" descr="Asszociáció"/>
          <p:cNvPicPr/>
          <p:nvPr/>
        </p:nvPicPr>
        <p:blipFill>
          <a:blip r:embed="rId1"/>
          <a:stretch/>
        </p:blipFill>
        <p:spPr>
          <a:xfrm>
            <a:off x="636480" y="2133720"/>
            <a:ext cx="787428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ggregáci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Rész-egész kapcsol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z egyik objektum fizikailag tartalmazza a másik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 rész-objektum(ok) léte az egész-objektumtól füg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Kétféle lehe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gyenge aggregáci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erős aggregáció ( = kompozíció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4BE4E-66DD-47D6-99E9-E6D7D68BCE2D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Gyenge aggregáci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Speciális asszociáció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A tartalmazó létezhet a tartalmazott nélkül is (pl.: Alma, Kuka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Egyik objektum része a másikna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Nem erős tartalmazá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ACAC1-FA83-4F55-8F6A-BC877AABBE90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9" descr="Példa gyenge aggregációra"/>
          <p:cNvPicPr/>
          <p:nvPr/>
        </p:nvPicPr>
        <p:blipFill>
          <a:blip r:embed="rId1"/>
          <a:stretch/>
        </p:blipFill>
        <p:spPr>
          <a:xfrm>
            <a:off x="2124000" y="3933720"/>
            <a:ext cx="4810320" cy="22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Kompozíci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Fizikai tartalmazás (erős aggregáció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Speciális aggregáci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 tartalmazott nélkül nem létezhet a tartalmazó osztály (pl. Ember, Fej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F5466-FFBE-4C2D-BE60-1D3BA006A137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9" descr="Példa kompozícióra"/>
          <p:cNvPicPr/>
          <p:nvPr/>
        </p:nvPicPr>
        <p:blipFill>
          <a:blip r:embed="rId1"/>
          <a:stretch/>
        </p:blipFill>
        <p:spPr>
          <a:xfrm>
            <a:off x="2124000" y="3860640"/>
            <a:ext cx="474192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Öröklődé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Osztályok közötti kapcsolat (reláció), ahol egy osztály megosztja a struktúráját és/vagy a viselkedését egy vagy több másik osztálly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Öröklődési hierarch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származtatott (gyerek) osztály mindent örököl az őstől és kiegészítheti ezeket saját adatokkal/viselkedéss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Ősosztály: F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Gyerekosztályok: Almafa, Körtefa, Szilvaf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5FDB7-8C13-41BF-B9EF-3797566CEF89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Öröklődé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 gyerek mindent örököl az őstől, de ezen felül tartalmazhat mást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overriding (felüldefiniálás): az örökölt operáció saját implementáció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vagyis „még egyszer implementáljuk” az adott operációt a gyerekosztályon belü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polimorfizm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öbbszörös öröklődés Javaban nincs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06E8C-035B-440C-9478-04016C8B9B4C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Vizuális modellezé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5998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Programozá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Modellezés és tervez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Implementálás (kódolá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Dokumentálás és tesztel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megtervezetlen programozás sosem vezet jóra, főleg nagy, bonyolultabb rendszereknél !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tervezés hiánya garantált kudarc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tervezésnek mindig meg kell előznie az implementálás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20EE6-DD03-45BF-A819-820898F43522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9" descr="Példa örökl&amp;odblac;désre"/>
          <p:cNvPicPr/>
          <p:nvPr/>
        </p:nvPicPr>
        <p:blipFill>
          <a:blip r:embed="rId1"/>
          <a:stretch/>
        </p:blipFill>
        <p:spPr>
          <a:xfrm>
            <a:off x="3564000" y="1700280"/>
            <a:ext cx="5124240" cy="315288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Öröklődé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90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Általánosítá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Bizonyos osztályok közös tulajdonságai alapján egy új osztály létrehozá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Specializáci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Egy osztály speciális esete(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65FED-9038-40D7-B772-5BD3E92923D2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öbbszörös öröklődé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4614840"/>
          </a:xfrm>
          <a:prstGeom prst="rect">
            <a:avLst/>
          </a:prstGeom>
          <a:ln w="0">
            <a:noFill/>
          </a:ln>
        </p:spPr>
      </p:pic>
      <p:sp>
        <p:nvSpPr>
          <p:cNvPr id="197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02FF0-DCCD-4951-A221-FE7530FA5212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2" descr="Példa többszörös örökl&amp;odblac;désre"/>
          <p:cNvPicPr/>
          <p:nvPr/>
        </p:nvPicPr>
        <p:blipFill>
          <a:blip r:embed="rId2"/>
          <a:stretch/>
        </p:blipFill>
        <p:spPr>
          <a:xfrm>
            <a:off x="611280" y="1844640"/>
            <a:ext cx="786132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UML Osztálydiagram pél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0D544-3AC0-43BC-87F4-F44E71FD341D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9" descr=""/>
          <p:cNvPicPr/>
          <p:nvPr/>
        </p:nvPicPr>
        <p:blipFill>
          <a:blip r:embed="rId1"/>
          <a:stretch/>
        </p:blipFill>
        <p:spPr>
          <a:xfrm>
            <a:off x="179280" y="1916280"/>
            <a:ext cx="872352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UML Osztálydiagram pél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0352F-E3FA-4474-8651-D05CADC50E7C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9" descr=""/>
          <p:cNvPicPr/>
          <p:nvPr/>
        </p:nvPicPr>
        <p:blipFill>
          <a:blip r:embed="rId1"/>
          <a:stretch/>
        </p:blipFill>
        <p:spPr>
          <a:xfrm>
            <a:off x="1123920" y="1197000"/>
            <a:ext cx="648036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Osztályok közötti kapcsolatok – implementációs példá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sszociáci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osztály egy metódusának paramétere B típus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osztály egy metódusa hívja B egy metódusá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osztály egy metódusa (lokálisan) példányosítja B-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osztály egy metódusának visszatérési értéke B típus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ggregáci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A osztály tartalmaz egy B-re mutató pointert/referenciá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Kompozíci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A osztály tartalmaz egy B adattago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Öröklőd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A osztály B osztályból származi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4A1CC-3424-462C-96F3-5FB2DAFEFD01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UML Eszközö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rgoUM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http://argouml.tigris.org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BOUM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http://www.bouml.fr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y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http://www.yworks.com/en/products_yed_about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Gliff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https://www.gliffy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UML Eszközök listáj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http://en.wikipedia.org/wiki/List_of_UML_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C4968-ABC2-4C23-81ED-0658D5235BBB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Feladat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Modellezd a bankkártyás fizetés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 modellben szerepeljenek a következő osztályo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Ba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Szám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Szemé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Kárty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Terminál ( két fajta: automata és POS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valamint a közöttük lévő kapcsolato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E0904-B847-4885-81D7-A5BB297FB1A0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Vizuális modellezé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5998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Szabványos grafikai eszközökkel írjuk le a problémá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Célja: Jobban átlátható legyen a program felépíté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Programozásban nem jártas emberek is megértsék a rendszer működésé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Hibák jelentős része itt felfedezhető, és gyorsan javítható, komolyabb mellékhatás nélkül (Ellenben egy félkész/kész programm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91577-36B9-4CFB-A6E8-EAFC044D773D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Modell és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5998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Modell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: A teljes rendszer leírása, amely magába foglalja a rendszer teljes életciklusát (tervezés, implementálás, dokumentáció, tesztelé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Diagram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: A rendszer egy részének (vagy egészének) vizuális reprezentáció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Osztálydiagram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: Osztályok vizuális reprezentáció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UML nyel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1FDF3-0087-4B3E-B624-FD403D9DDED4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Objektumorientáltsá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5998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Objektum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: Egy valós vagy elképzelt entitás ábrázolása számítógépen, mely minden esetben rendelkezi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állapot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viselkedéss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identitáss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Tehát az objektum lehet bármi, ami rendelkezik ezzel a három tulajdonságg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számítógé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szemé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F5F92-4BB5-40FF-91DC-C93DCE37D3FB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Objektum állapo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5998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Objektum állapota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: egy a lehetséges létezési lehetőségek közül (aktuális tulajdonságok által meghatározv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Időben változó leh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ttribútumok határozzák m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van egy lámpa, ami ki vagy be van kapcsol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dott egy személy, akinek van ne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dott egy bor, ami fehér vagy vörö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Ezek az attribútumok a programozásban lehetnek különböző típusú változók valamilyen értékke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pl.: adott egy Bor objektum </a:t>
            </a:r>
            <a:r>
              <a:rPr b="0" lang="hu-HU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String tipu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38336-9B58-420F-8B41-EF76255BF943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Objektum viselkedé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5998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nnak módja, hogyan reagál más objektumok kérése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z objektum kérésre csinál „valamit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Mindent definiál, amit az objektum csinál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Operációk (metódusok) határozzák me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Nyúl típusú objektumnak lehetnek „ugrik” és „eszik” operáció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egy Lámpa típusú objektumnak lehetnek „bekapcsol”, „kikapcsol”, „elromlik” operáció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B3A80-468C-4EFC-9A49-001C6FC3F061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Objektum identitá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5998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Minden objektum egyedi ! (még akkor is, ha az állapotuk azono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pl.: a </a:t>
            </a: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programozas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és </a:t>
            </a: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algoritmusok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különböző objektumok, de mindkettő Kurzus (ugyanabba az osztályba tartozna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torpeNyul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és az </a:t>
            </a: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angolNyul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különböző objektumok, de mindkettő Nyú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87C1A-0248-468C-8F2C-F7D0788FF90D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Osztá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5998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Leírás objektumok csoportjához, melyeknek közösek a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ttribútumai, operáció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más objektumokkal való kapcsolata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viselkedésü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z osztály az objektum típu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csomagok (packag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z osztályok csomagokba rendezhetők, hierarchikus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220AC-2865-483D-BD1F-041B84FF757F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1T21:15:37Z</dcterms:created>
  <dc:creator>hapci</dc:creator>
  <dc:description/>
  <dc:language>en-US</dc:language>
  <cp:lastModifiedBy>kutyamutya</cp:lastModifiedBy>
  <dcterms:modified xsi:type="dcterms:W3CDTF">2017-02-20T09:46:17Z</dcterms:modified>
  <cp:revision>100</cp:revision>
  <dc:subject/>
  <dc:title>1. dia</dc:title>
</cp:coreProperties>
</file>