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E3A-0F5D-4AD8-9C41-C8C5349B56F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F4A0-C18B-43B4-BA93-B3E6B95147A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8C73-ECD0-4EA7-B4E7-1D86AACB5DE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204-9222-4719-81BA-36AD41BBDAE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5AE-A956-4BB2-B7A7-3DF7161B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9F3-9DC3-4CF0-86CC-8CFD11B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E7D-04C4-4340-892E-A4ED7E6D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A76-DD4B-47EE-B9DA-55CD9959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CC6-B893-42C4-85DE-0CC1B98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C17-C839-4AAC-909D-6C57AF3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466-2B29-4207-9B18-E1586A3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FF8-EE7F-4A78-BB7E-7D50770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73A-9848-412C-BC6C-9AD17D50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F69-F67C-4D6C-AB6B-043D847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FFC-A022-4DD1-9118-AA9DEE5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D10-9DD4-4FF5-B3F3-BAAA7B5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3EB-4610-4797-BB82-3C1BE3D5E98F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062-AE86-4576-B5C8-D213018FD1E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2D6-45BF-4A4E-9E73-F63C062EA36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művel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enkénti És (&amp;), Bitenkénti Vagy (|), Kizáró Vagy (^), Komplementer képzés (~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amp;=,  |=, ^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romoperandusú if-else ( ?: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tetel ? muvelet_ha_igaz : muvelet_ha_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adás, összevont értékadás (balhoz a jobb oldal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, +=, -=, *=, /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2781-3204-4ECD-A4D4-B49A6E3B28D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i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(&amp;&amp;), Vagy (||), Negálás (!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k boolean értékekre használhatóa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tett kifejezések addig értékelődnek ki, amíg egyértelműen ki nem derül a kifejezés értéke: lusta kiérték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 if( arg1==0 || arg2 == 1 || arg3 == 0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láció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!=, ==, &gt;=, &lt;=, &lt;,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értékkel térnek viss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mitív típusoknál érték szerint hasonlí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umoknál referencia  összehasonlítás ( objektum összehasonlításra a .equals() metódus használato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zövegdoboz 1"/>
          <p:cNvSpPr/>
          <p:nvPr/>
        </p:nvSpPr>
        <p:spPr>
          <a:xfrm>
            <a:off x="3924360" y="16304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ttp://en.wikipedia.org/wiki/Short-circuit_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léptető operátoro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jeltartó (&gt;&gt;,&lt;&lt;), Előjeltelen(&gt;&gt;&gt;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lra (&lt;&lt;) : 2 n-edik hatványával szorozzuk a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bbra ( &gt;&gt;) : 2 n-edik hatványával osztjuk a szám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ssz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ciklusban (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típusból több változó definiálása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konverzió: (type)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mitívek között korlátozás nélkül engedélyez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umok között csak az öröklődési fá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: double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 = 5/2;  (c értéke 2.0 les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 = ((double)5/2); (c értéke 2.5 le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A35-FAA8-429C-B249-E8CFA426012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krementálás/dekrement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b = ++a;  (prefix operá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övelése, majd értékadás (b értéke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c = a++;  (postfix operá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 értéke 5 lesz, majd az értékadás után növelődik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gyanez a helyzet a „--a”, és „a--" -ná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program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peratorok.jav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p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520D-6E6C-42CB-BA95-D5B82DCF0B6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C-beli vezérlési szerkezetet támogat a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véve a goto-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lccszó létezik, de nincs implementá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ha ne használju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f, for, while,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ímk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3C0-8F35-4F89-B307-35793A3CB25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f-else if - else, valamint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753000" cy="264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3052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hile, Do-While,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7993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me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értelmezett kim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értelmezett hibakim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e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kettőnél használhat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l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24F7-B9A6-4018-AAC9-D0F4938BE74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úgy, hogy az első sorba csak az elsőt, a másodikba az első kettőt szóközzel elválasztva, a harmadikba az első hármat, stb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ava Main egy ketto kutya cica fag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 c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 cica fag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90C-1FCF-4DF9-9397-5E5408CA431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sd ki a parancssoron kapott két időpont (óra perc óra perc) között eltelt időt, és írasd ki a konzolra (óra perc formába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gram elkészítése során ügyelj az adatok helyesség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menő paraméter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órák 0-23 intervallumba kell, hogy ess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ercek 0-59 intervallumba kell, hogy esse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634-AD12-4C35-BA39-C43B8446670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ncssori ar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parancssorból indított Java alkalmazásnak átadhatunk argumentumok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et a main függvén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g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nevezetű String tömbjében érjük 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ömbindexelés 0-tól kezdő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0. indexen lévő argumentum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 program ne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ek darabszáma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gs.length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egy egész értéket (int) ad vis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ACB-295C-4E27-84F0-105D15C6607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ancssori paraméterek alapján döntsd el, hogy egy a bemenő szám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tani (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+ (n – 1) * 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értani (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* q 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n – 1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ik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tehetjük, hogy mindegyik egész szám, és legalább 3 db paraméterünk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D0F6-C0C6-4245-AFBE-7753B5433AA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zi 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a konzol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a konzolra, fordított sorrend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 közül a legnagyobbat, legkisebbet, valamint az értékek átlagát. (korábban zh-n volt ilyen felada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ncssori ar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48392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Arial"/>
              </a:rPr>
              <a:t>Integer.parseInt(args[0]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z args tömb első elemét számmá alakítju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rgs tömb egy String tömb, nekünk viszont int-re van szükségünk, ezért át kell alakítani (Ez csak akkor működik, ha tényleg számokat adunk át paraméter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általános alak: &lt;Típus&gt;.parse&lt;Típus&gt;(”string”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&lt;Típus&gt; lehet: Integer, Double, Float, stb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.parseInt(“5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uble.parseDouble(“6.15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iszo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String.valueOf(&lt;bármi&gt;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698-08C7-46D0-A846-EFBC47083E5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imitív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Élőláb helye 4"/>
          <p:cNvSpPr/>
          <p:nvPr/>
        </p:nvSpPr>
        <p:spPr>
          <a:xfrm>
            <a:off x="741528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348-B49E-49BC-AC52-2E594C7ADB7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476280"/>
          <a:ext cx="8209080" cy="5575320"/>
        </p:xfrm>
        <a:graphic>
          <a:graphicData uri="http://schemas.openxmlformats.org/drawingml/2006/table">
            <a:tbl>
              <a:tblPr/>
              <a:tblGrid>
                <a:gridCol w="1281240"/>
                <a:gridCol w="1858680"/>
                <a:gridCol w="1171800"/>
                <a:gridCol w="1172880"/>
                <a:gridCol w="2724480"/>
              </a:tblGrid>
              <a:tr h="534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glalt t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al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94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–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768 –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532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7483648 - 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5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223372036854775808 -  9223372036854775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754 lebegőpo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1.4E-45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/-3.40E+38,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infinity, +/-0, N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754 lebegőpo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4.9E-324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1.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308,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infinity, +/-0,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u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u0000 - \u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 –nincs precíz d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mória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mitív típ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okális változ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, kic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bjek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obális, a program egésze alatt létező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assú, de n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11A6-64FB-4EEB-A898-4A810663EED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imitív típusok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ck-en jönnek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ig érték szerint tárolód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más (objektumok) referencia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k előjeles típusok van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nincs unsigned int, csak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peciális osztályo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igInteger - Akármekkora egész tárol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igDecimal - Akármekkora szám tárol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program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rimitivTipusok.jav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p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A0A4-69E2-4469-89B5-1942A880FFD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somagoló/Wrapper 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primitív típusokat „becsomagolhatjuk” objektumokká, erre szolgálnak a wrapper osztályo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Primitív típusokat objektumokként tudjuk kezel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stack helyett a heapen lesznek tárol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Implicit konverzió a wrapper osztály és a primitív típus közö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inden primitív típusnak van csomagoló osztály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primitív típus, stack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ger a = new Integer(4);  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objektum, hea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843E-BB29-49BC-887E-48B9EE851FD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070080" y="58482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en.wikipedia.org/wiki/Primitive_wrapper_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somagoló/Wrapper 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nteg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 b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nteg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„a” ugyanoda mutat, mint a „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= new Intege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„b” értéke „a”-ba má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a és b primitív típus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b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=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adás, a értéke b le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8EA-F6FD-48F3-90C8-446768EA856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imitív típusoknál értékmásol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jektumoknál referenciamás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ényleges másolás a copy konstruktor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áris aritmet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jelváltás (+ , -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krementálás/dekrementálás (++, 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 aritmet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 (+), kivonás (-), szorzás (*), osztás (/), maradékképzé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3C2-2E6E-476D-BA09-AF40A4A848A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Windows User</cp:lastModifiedBy>
  <dcterms:modified xsi:type="dcterms:W3CDTF">2018-02-28T21:58:06Z</dcterms:modified>
  <cp:revision>147</cp:revision>
  <dc:subject/>
  <dc:title>1. dia</dc:title>
</cp:coreProperties>
</file>