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A29-3E2C-460A-AC81-9C7BDD40AD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F79-BBFA-44A7-9ACD-CA0A5F7DD36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5F6B-7D65-45D9-BA9A-F1C47C449A2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AF50-01C2-4390-8D6D-1A7C0B40896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8EA-CDB7-49ED-A52B-0184C0FB091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F33-E4FD-4551-9198-86D2AA5A964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320-9027-4117-A892-D228AE43D8C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5CD2-709A-44EE-923D-0353D784136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F38E-7461-494B-822A-B38068DF072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66EB-7AF2-4BC1-B239-A8DA0591359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153-6A95-4156-AB90-56F8B450318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A071-D1F4-4876-AA6B-3CCF67CFE24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E357-3259-4ABB-B478-8866A508304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F3EB-604E-44B5-B40A-10A9D997C75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5BB-4140-4906-B369-03B40B3BB28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0DD7-3EB9-4F6C-922B-4848072ED87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7640-53D2-4BE8-ACF7-D16E690956C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5D6F-6276-4B77-8C8F-3B200FEEC6E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2133-9B40-4E73-8F24-01744BEA8A8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FF6C-AEBF-4D46-8C00-1BEF0CA8FCD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D91-53FE-4F74-9C5D-6B4153C284F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D064-021B-45E4-9FA1-4AFBC7F7802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5ECF-93B9-4350-865C-B473D775396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6EF-EE74-46FE-BB7E-2FBBBD564B6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2BD3-9892-463B-ACE1-0B5B2C2D170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9A4A-7A67-42F4-94FB-54B979942EE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09D-969A-4538-8185-C67FBADF957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7691-1566-4494-9B1C-71FF0B32BDC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8AB-025F-4A5E-ACA3-AE9F6490443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5B5-6BAD-4267-B6D7-16476D1E641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039-99B8-439B-9E71-CB5AAEFA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099-BAF5-4D80-8E85-43F573D9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141-B3A9-45EC-87AA-C9084077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C62-DE43-4DCE-AED0-D541CB16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0A1-E7CF-4AF4-B6FF-E12A32D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7CB-20EF-467C-A566-33A23FB0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E3B-48CD-4959-8B91-2AE9E46C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E32-988C-44F6-9829-131CA1B9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1E5-331B-43EB-A686-8257934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DD8-B1AB-4E60-AC5F-FBAF5E64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E25-7D08-46A5-AD80-76F3AA0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05D-46EA-4997-BD01-80C34C2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B93-8ED7-476F-8500-F1DEF1061A78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627A-6CF8-429F-828D-9D0440518D7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adatbázisvonal"/>
          <p:cNvPicPr/>
          <p:nvPr/>
        </p:nvPicPr>
        <p:blipFill>
          <a:blip r:embed="rId2"/>
          <a:stretch/>
        </p:blipFill>
        <p:spPr>
          <a:xfrm>
            <a:off x="7074000" y="3429000"/>
            <a:ext cx="207000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datbázisvonal"/>
          <p:cNvPicPr/>
          <p:nvPr/>
        </p:nvPicPr>
        <p:blipFill>
          <a:blip r:embed="rId2"/>
          <a:stretch/>
        </p:blipFill>
        <p:spPr>
          <a:xfrm>
            <a:off x="7072200" y="3427560"/>
            <a:ext cx="207180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F099-0E6B-4066-9703-13FC3D40FBD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class Ember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ivate String nev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ivate int kor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void beszel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)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v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” beszel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class Program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static void main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rg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mber jozsi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mber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)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// példány jozsi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szel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)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érés vezérlése (külső osztály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tagok és metódusok láthatóságát korlátozni k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O fontos eleme az implementáció elrejtése: a felhasználó használhatja anélkül, hogy pontosan ismerné a működését (kevesebb programhi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áthatóság beállításával módosíthatjuk, hogy ki mit érhet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nincs megadva láthatóság, akkor package-private lesz („friendly”)  (nincs kulcsszav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n belül public, csomagon kívül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láthatóság ezen kívül leh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minden külső osztály számára látható, szabadon használha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az adott osztály és a gyerekosztályai használhatjá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az osztályon kívül nem érhető el, csak az adott osztályon belül, ahol létrehoztá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adattagok általában private láthatóságú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in függvény mindig public láthatóság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en a futtatókörnyezet nem férne hozz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614840"/>
          </a:xfrm>
          <a:prstGeom prst="rect">
            <a:avLst/>
          </a:prstGeom>
          <a:ln w="0">
            <a:noFill/>
          </a:ln>
        </p:spPr>
      </p:pic>
      <p:sp>
        <p:nvSpPr>
          <p:cNvPr id="13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E07-7912-44AB-A293-2FE56FA1028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28760" y="2214720"/>
            <a:ext cx="8256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ülönleges metód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ve meg kell egyezzen az osztály nev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sszatérési értéke/típusa nincs (nem lehe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új objektum létrejöttekor fut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agok inicializálására használjuk leggyakrab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talában public láthatóság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fault 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 konstruktornak nincsenek paraméterei, akkor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default konstrukt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k, ellenkező esetben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araméter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k nevezz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értelmezett beállításokkal rendelkező objektumok létrehozására haszná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nem készítünk semmilyen konstruktort a fordító létrehoz egy default konstrukt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legalább egy konstruktort készítettünk, akkor nem jön létre default konstru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ruktor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class Pon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ate int x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ate int y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Pon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default konstru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Pon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x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t y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parameteres konstru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x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y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ráció kiterjesztése (overloading): Ugyanaz a függvénynév, de más a paraméter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tuk a konstruktoroknál, de egyéb metódusokra is működik, pl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osszeAd(int a, int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osszeAd(int a, int b, int 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osszeAd(int a, double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etter/S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dattagok értékeinek lekérésére (getter), valamint inicializálás utáni módosítására (setter) használj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nevezési szabá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tter: getAdattagNev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típusa: az adattag típ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adattag boolean, akkor get helyett is-t használunk, pl.: boolean ferfi;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sFerfi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tter: setAdattagNev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típusa v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nél több érték tárolására vannak kitalálva, de az elemek száma rögzíte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ott számú, azonos típust tartalmazó adattí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ndexelés 0-val kezd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mböket dinamikusan, a new operátorral lehet létrehozni, mérete a length adatmezővel lekérdez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ava teljes körű indexhatár-ellenőrzést végez, kivétellel jelzi, ha alul- vagy túlindexelés törté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3DF5-8DCF-46AD-A258-BDEC39DDCE4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etter/S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 getter metódusok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class Alma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int 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boolean 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int get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boolean is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etter/S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 setter metódusok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class Alma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int 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boolean 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void set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t t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omeg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void set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oolean f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rges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his kulcssz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vatkozás az aktuális objektum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kor használjuk, ha egy metódus formális paraméterének neve megegyezik az egyik adattag nevével, példáu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Pont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x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nt y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his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his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c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datta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esetén: ugyanazon a helyen tárolódik az összes példány </a:t>
            </a:r>
            <a:r>
              <a:rPr b="0" lang="hu-H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ugyanaz lesz az értéke bármely objektumpéldány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ma osztály adattagja legyen: tome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int tomeg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Alma típusú objektum tömege ugyanannyi le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kus adattag objektumpéldány nélkül is létez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ma osztály tömeg adattagjára hivatk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ma.tomeg;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A publikus az adattag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c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ód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Objektum létrehozása nélkül is meghív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public static void main(), Integer.parseI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felüldefini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tikus metódusban csak statikus adattagok használható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inal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datta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az adattag kezdeti értékét nem változtathatjuk meg (adni kell kezdőértéke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private final int tomeg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meg=20; // Fordítási hiba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ód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a gyerekosztályban nem lehet felüldefini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public final leesik()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private metódus impiciten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inal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sztál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nem lehet gyerekosztál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final class Alma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metódusa impliciten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primitív típusokra használva nem az osztály final, hanem a 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ódi konstans létrehozása a static és final kulcsszava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dőértékük nem változtatható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vüket csupa nagybetűvel szoktuk í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határnál aláhúzást tesz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class Alma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final int ALMA_TOMEG =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ek elérése kívülrő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a_tom = Alma.ALMA_TOME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arbage col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bjektumok élettartama Java-b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lettartam: objektum létrejöttétől a felszabadítá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étrejöttekor (new kulcsszóval) a heapen keletkezik (ellentétben a primitív típusokk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szabadítás: automatikus, a garbage collector („Szemétgyűjtő”) vég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ulcsszó: Azt jelöli, hogy az adott referencia nem hivatkozik egyetlen objektumra sem (pl. jozsi = null;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rbage collector hívása manuálisan (nem biztos hogy lef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tem.gc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en.wikipedia.org/wiki/Object_lifetime#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egy osztály, amely téglalapot reprezentál,annak oldalhosszait tár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az osztálynak egy default konstruk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az osztálynak egy konstruktort, amely egy paramétert vár és amellyel négyzet hozható lé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az osztálynak metódusokat a kerület és a terület kiszám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egy futtatható osztályt, amely parancssori paraméterek alapján létrehoz objektumokat a Téglalap osztályból, majd kiszámolja azok területeinek kerületeinek átlag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dimenzió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etlen kiterjedéssel rendelkező tömböket szokás vektornak is nev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iníci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ípus tömbnév[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ípus[ ] tömbné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ömböt futás során a new operátorral hozzuk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w típus[ méret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éret egy nemnegatív egész szám, értéke nem lehet nagyobb, mint az Integer.MAX_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int[ ] x = new int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mei: x[0], x[1], x[2], x[3], x[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csmaszimulátor: http://www.inf.u-szeged.hu/~antal/prog1gyak/gyak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4B20-829F-4739-88AD-0C27FDC6828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dimenzió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Java lehetővé teszi, hogy a tömböket a definiálás során konstans értékekkel töltsük fel. Ilyenkor a tömböt a fordító hozza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[ ] tömbnév = { konstans1, konstans2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[ ] arr = { 1, 2, 3, 4, 5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dimenzió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hivatkozás definíció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[ ] [ ] ... [ ] tömbné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 tömbnév[ ][ ] ... [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D-s tömb létrehozás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w típus[ méret1 ][ méret2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icializálás konstans értékekk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[ ][ ] matrix = {  { 1, 2 }, { 3, 4 }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namik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[ ][ ] matrix = new int[ 2 ][ 2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mbök máso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3296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ystem.arraycopy() metódus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void arraycopy(Object forrás, int forrásKezdetiElem, Object cél, int kezdetiPozíció, int hoss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har[] copyFrom = { 'd', 'e', 'c', 'a', 'f', 'f', 'e', 'i', 'n', 'a', 't', 'e', 'd' 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har[] copyTo = new char[7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ystem.arraycopy(copyFrom, 2, copyTo, 0,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ystem.out.println(new String(copyTo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97E-FBCD-420F-B213-896C104CCC1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357720" y="4714920"/>
            <a:ext cx="49813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zzunk létre egy 7*10-es int-eket tartalmazó tömböt, töltsük fel ő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mb[x][y] = x*y; (pl.: tömb[5][8] = 40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zzunk létre egy karakter tömböt ‘t’ ‘e’ ‘l’ ‘e’  ‘f’ ‘o’ ‘n’ karakter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oljuk egy új tömbbe a ‘l’ ‘e’ karaktere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bjektumok formai leírása, melyek azonos tulajdonságokkal és operációkkal rendelkez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sztályokból objektumokat készítü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t példányosításnak nevezz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objektum pontosan egy osztály példá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osztályból több objektumpéldány is létrehoz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osztálynak lehetne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ag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tódu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agok megad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láthatóság] [static] [final] [transient] [volatile] típus változóNé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ódusok megad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láthatóság] [static] [abstract] [final] [native] [synchronized] visszatérésiTípus metódusNév ([paraméterek]) [throws kivételList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6084720" y="508464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788000" y="3716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Windows User</cp:lastModifiedBy>
  <cp:lastPrinted>2017-03-06T09:52:21Z</cp:lastPrinted>
  <dcterms:modified xsi:type="dcterms:W3CDTF">2018-03-08T06:11:27Z</dcterms:modified>
  <cp:revision>164</cp:revision>
  <dc:subject/>
  <dc:title>1. dia</dc:title>
</cp:coreProperties>
</file>