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250-5F1F-47F8-97AA-EFFAFCB0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20E-0466-4AFC-8AA2-8373034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365-BCD4-4C6B-91BE-8BDB42E3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0C7-6C87-4ED1-B5D0-99A97CDC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E41-A930-431E-870B-78BA38A0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FE2-CE9B-430B-A4F8-D5AE823E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4F6-E9C9-4BBB-B993-7A6313B5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02D-1746-42CE-BF23-5CA3FEE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9FB-1F51-4D86-AF92-C6DD89A9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684-1335-471C-8D53-18B6E94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F7F-F43C-4F28-85A4-0E321AF4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B4E-28F5-413B-9E28-13A66D6E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AFE1-CBFE-46CA-8ADF-6793DEEB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A Pascal program szerkez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fej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PROGRAM Nyolc_kiralyn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klarációs rés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ARRAY[1..8] OF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ARRAY[2..16] OF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ARRAY[-7..7] OF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ARRAY[1..8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75C-B54F-4FE1-9CB6-D9B717977F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A Pascal program szerkez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grehajtó rés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I:= 1 TO 8 DO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I] :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I:= 2 TO 16 DO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I] :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I:= -7 TO 7 DO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I] :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rob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BB3-279C-4D0F-A4C1-D3CFCB6DE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Értékadó utasít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Letszam := 5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Letszam := Letszam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Fejadag := (Adag1 + Adag2) * Adag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Osszesen := Fejadag * Letsz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2A9-A293-4593-B51F-AB62B6E0DE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Adatok bevitele, kiír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Read(Letsza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Readln(Letszam, Fejada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Writeln(Letszam,’*’,Fejadag:4:1,’kg =‘, Osszesen:5:1,’ kg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Osszesen := Fejadag * Letsz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E42-0AAA-4CA1-843F-AE178B819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4-09-28T07:11:23Z</dcterms:modified>
  <cp:revision>47</cp:revision>
  <dc:subject/>
  <dc:title>Példa gépi kódra</dc:title>
</cp:coreProperties>
</file>