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06A-466F-427F-8E1C-D70E2D19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8CC-036B-4BDC-8AB5-B4EDD171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7BC-0DDC-4E98-A740-DC794C75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B0C-F45D-478B-AC4F-B6DBF274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220-4D73-4F9F-905A-19B9CF06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C28-7055-45F2-8499-881B8D6F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C93-DF88-4F56-A629-7F2BC655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58D-511E-4810-BFC6-8E13E571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AAA-4EAE-4D40-A5CF-87BB3757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E82-684E-4FEF-B670-C643E0E6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B1E-448A-47EF-BA27-53D8EAA6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FFC-49E7-4FA4-9E8C-0B0A4A46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B414-FDB8-4D99-B469-A36DBDBAA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149720"/>
            <a:ext cx="8280360" cy="24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341360"/>
            <a:ext cx="8280360" cy="266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Példa gépi kód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7440" y="2133720"/>
            <a:ext cx="2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508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380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7016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744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472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380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2720" y="2133720"/>
            <a:ext cx="2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908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544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780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080" y="2133720"/>
            <a:ext cx="2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2144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052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9780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508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74160" y="2133720"/>
            <a:ext cx="287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3502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űvelet 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5800" y="2854440"/>
            <a:ext cx="341280" cy="574560"/>
          </a:xfrm>
          <a:prstGeom prst="upArrow">
            <a:avLst>
              <a:gd name="adj1" fmla="val 50000"/>
              <a:gd name="adj2" fmla="val 4208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2720" y="35020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árcím vagy eszközc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9080" y="2854440"/>
            <a:ext cx="341280" cy="574560"/>
          </a:xfrm>
          <a:prstGeom prst="upArrow">
            <a:avLst>
              <a:gd name="adj1" fmla="val 50000"/>
              <a:gd name="adj2" fmla="val 4208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4869000"/>
            <a:ext cx="28728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51280" y="4869000"/>
            <a:ext cx="28728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40360" y="4869000"/>
            <a:ext cx="28728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4869000"/>
            <a:ext cx="28728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4869000"/>
            <a:ext cx="28728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4869000"/>
            <a:ext cx="28764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1280" y="4869000"/>
            <a:ext cx="28728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4869000"/>
            <a:ext cx="28728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kumul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5516640"/>
            <a:ext cx="341280" cy="574560"/>
          </a:xfrm>
          <a:prstGeom prst="upArrow">
            <a:avLst>
              <a:gd name="adj1" fmla="val 50000"/>
              <a:gd name="adj2" fmla="val 4208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155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zérlőegy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4365720"/>
            <a:ext cx="33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metikai logikai egy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022-5D17-4833-8A1E-FF6805637A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sítás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ÁROL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00000010 + TÁRC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ÖSSZEAD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00000011 + TÁRC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BEVITE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00000100 + ESZKÖZAZONOSÍ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KIVITE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00000101 + ESZKÖZAZONOSÍ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zközö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ERMINÁL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00000000 0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YOMTATÓ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00000000 00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BILLENTYŰZET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00000000 00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rcíme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00000000 00000001, 00000000 00000010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élda gépi kó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84C-C2D3-4C57-BE9F-625D1EBB01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pi kódú minta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00000100 00000000 00000011 (BEVITEL BILLENTYŰZ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00000010 00000000 00000001 (TÁROL TÁRCÍM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00000100 00000000 00000011 (BEVITEL BILLENTYŰZ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00000010 00000000 00000010 (TÁROL TÁRCÍM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00000100 00000000 00000011 (BEVITEL BILLENTYŰZ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00000011 00000000 00000001 (ÖSSZEAD TÁRCÍM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00000011 00000000 00000010 (ÖSSZEAD TÁRCÍM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00000101 00000000 00000001 (KIVITEL TERMINÁ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élda gépi kó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459-991F-4992-B205-4C75028753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élda assembly nyel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nemonik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TÁROL 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ÖSSZEAD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BEVITEL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I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KIVITEL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TERMINÁL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NYOMTATÓ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P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BILLENTYŰZET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K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árcímek azonosítá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ff"/>
                </a:solidFill>
                <a:latin typeface="Arial"/>
              </a:rPr>
              <a:t>M1,M2,M3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D4B-0298-49D9-9A45-7A5CEF17C6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élda assembly nyel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y minta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NP,  K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TO, 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NP,  K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TO, 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NP,  K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DD, 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DD, 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UT,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84B-DD9F-496E-A8FA-311AA2EE3D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ascal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200" spc="-1" strike="noStrike">
                <a:solidFill>
                  <a:srgbClr val="3333ff"/>
                </a:solidFill>
                <a:latin typeface="Arial"/>
              </a:rPr>
              <a:t>Program Pelda(Input,Outpu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hu-HU" sz="3200" spc="-1" strike="noStrike">
                <a:solidFill>
                  <a:srgbClr val="3333ff"/>
                </a:solidFill>
                <a:latin typeface="Arial"/>
              </a:rPr>
              <a:t>Var M1,M2,M3 : 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hu-HU" sz="3200" spc="-1" strike="noStrike">
                <a:solidFill>
                  <a:srgbClr val="3333ff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hu-HU" sz="2800" spc="-1" strike="noStrike">
                <a:solidFill>
                  <a:srgbClr val="3333ff"/>
                </a:solidFill>
                <a:latin typeface="Arial"/>
              </a:rPr>
              <a:t>Readln(M1,M2,M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hu-HU" sz="2800" spc="-1" strike="noStrike">
                <a:solidFill>
                  <a:srgbClr val="3333ff"/>
                </a:solidFill>
                <a:latin typeface="Arial"/>
              </a:rPr>
              <a:t>Writeln(M1+M2+M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ff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BA1-3F30-418F-9A15-1304EE663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rogram ford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989000"/>
            <a:ext cx="1871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2060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989000"/>
            <a:ext cx="187164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2060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dí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1989000"/>
            <a:ext cx="187164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2060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dítá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b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4078440"/>
            <a:ext cx="1871640" cy="93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4292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árgy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205000"/>
            <a:ext cx="720720" cy="432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2205000"/>
            <a:ext cx="720720" cy="432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321300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49D-22DB-4DCE-893D-C6347E8192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rogram szerkesz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2720" y="3357720"/>
            <a:ext cx="1871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3645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árgy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3357720"/>
            <a:ext cx="187164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342900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rkeszt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3357720"/>
            <a:ext cx="1871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61080" y="3645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árgy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5445000"/>
            <a:ext cx="187164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5516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tath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9080" y="3573360"/>
            <a:ext cx="720720" cy="432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5653080" y="3573360"/>
            <a:ext cx="720720" cy="432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458136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458136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5446800"/>
            <a:ext cx="1871640" cy="93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551808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rkeszté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b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1484280"/>
            <a:ext cx="1871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7080" y="17715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árgy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139640" y="2709720"/>
            <a:ext cx="720720" cy="431640"/>
          </a:xfrm>
          <a:prstGeom prst="rightArrow">
            <a:avLst>
              <a:gd name="adj1" fmla="val 50000"/>
              <a:gd name="adj2" fmla="val 41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49C-C902-4130-AD8F-E150A9CEFD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Program fu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4000" y="3357720"/>
            <a:ext cx="187164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64000" y="342900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5445000"/>
            <a:ext cx="187164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0" y="57340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458136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458136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5446800"/>
            <a:ext cx="1871640" cy="93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551808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á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b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4000" y="1484280"/>
            <a:ext cx="1871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37080" y="17715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139640" y="2709720"/>
            <a:ext cx="720720" cy="431640"/>
          </a:xfrm>
          <a:prstGeom prst="rightArrow">
            <a:avLst>
              <a:gd name="adj1" fmla="val 50000"/>
              <a:gd name="adj2" fmla="val 41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F65-6BE7-4E5A-8423-30D428ACC2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49:32Z</dcterms:created>
  <dc:creator>bekesi</dc:creator>
  <dc:description/>
  <dc:language>en-US</dc:language>
  <cp:lastModifiedBy>bekesi</cp:lastModifiedBy>
  <dcterms:modified xsi:type="dcterms:W3CDTF">2004-09-17T15:14:13Z</dcterms:modified>
  <cp:revision>22</cp:revision>
  <dc:subject/>
  <dc:title>Példa gépi kódra</dc:title>
</cp:coreProperties>
</file>