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240-D3C3-4EB5-8E63-66810C9C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DD2-DCC0-48A6-8B44-019DE14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2DC-1D07-41CA-8B1A-8F4AFB69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DFD-570D-45BA-B944-B3616462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0D5-8C64-4414-8D04-1E73828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C6D-8603-4422-9F09-635190AB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5F0-4BA3-44D4-A60C-C9D56BF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5A9-62F3-46A0-BF27-7EF03F5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9F1-E717-4C24-81FD-91396A5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022-ADBF-4F1C-9CA3-C643ED9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3BD-D4CC-4D38-951B-797BFF1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5EB-060D-4EB2-AE6A-EA1191D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F07-604C-49F6-AAE9-B80D7B118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anoi tor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00280"/>
            <a:ext cx="7632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n 3 oszlop, az első oszlopon van valahány lyukas korong. Rakjuk át a korongokat az első oszlopról a másodikra a harmadik használatával úgy, hogy csak nagyobb korongra lehet kisebbet rak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429000"/>
            <a:ext cx="21564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3429000"/>
            <a:ext cx="21564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3429000"/>
            <a:ext cx="21564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021360"/>
            <a:ext cx="2880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5805360"/>
            <a:ext cx="2519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8560" y="5589720"/>
            <a:ext cx="2158920" cy="215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5373720"/>
            <a:ext cx="1800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157720"/>
            <a:ext cx="1440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A83-AC72-47BF-A2BF-F51CDD37C8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anoi tor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84280"/>
            <a:ext cx="770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oldás 3 korong eseté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lépés: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lépés: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lépés: 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 lépés: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 lépés: 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. lépés: 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. lépés: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→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149720"/>
            <a:ext cx="7920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urzív algoritmu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lépés: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együk át az első n-1 korongot a szabályok szerint a 3. oszlopra a 2. oszlop használatá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lépés: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 megmaradt korongot tegyük át a 2. oszlopra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lépés: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z n-1 korongot tegyük át a 3. oszlopról a 2. oszlopra az 1. oszlop használatá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C6B-0555-4F77-94B0-1C899E057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anoi tor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700280"/>
            <a:ext cx="828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TYPE INTERVAL_1_3=1..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PROCEDURE HANOI(N:INTEGER; MIROL,MIRE,MIVEL:INTERVAL_1_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IF N = 1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WRITELN(MIROL,’</a:t>
            </a:r>
            <a:r>
              <a:rPr b="0" lang="hu-HU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’, MI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HANOI(N-1,MIROL,MIVEL,MI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WRITELN(MIROL,’</a:t>
            </a:r>
            <a:r>
              <a:rPr b="0" lang="hu-HU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’, MI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HANOI(N-1,MIVEL,MIRE,MIR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5CD-6A85-40EA-96EF-44B683CA9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25T17:01:19Z</dcterms:modified>
  <cp:revision>98</cp:revision>
  <dc:subject/>
  <dc:title>Példa gépi kódra</dc:title>
</cp:coreProperties>
</file>