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43C0-A531-40C4-9ADE-B70C73650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7712-CE84-48B4-A778-62EF7A3E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B9D5-94A0-413D-B12E-B836A1E88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2E8A-0B7A-4119-B12D-A370ECDB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88F9-D361-4658-93DF-4C43B9B0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6477-E5B1-462C-9ADE-E77EB5B0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2E79-D31F-4222-A08C-029F1579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67C2-8D97-4898-8A06-47070BF2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FDB8-C859-4DDD-9FB3-E5176AAD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DC55-50B9-423E-A3D0-AE639CEE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2F0A-CBC8-4569-8AA1-325CAECF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FF39-8779-44C2-AAD6-2CDF11A1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541C-C6E3-43DA-9F46-17A4AF2C6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8436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ff"/>
                </a:solidFill>
                <a:latin typeface="Arial"/>
              </a:rPr>
              <a:t>Hilbert görbe elkészít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1773360"/>
            <a:ext cx="82296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lad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Készítsünk olyan programot, amely elkészíti a Hilbert-görbé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ilbert görb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3333ff"/>
                </a:solidFill>
                <a:latin typeface="Arial"/>
              </a:rPr>
              <a:t>Elsőrendű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9800" y="34862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47800" y="3322800"/>
            <a:ext cx="865080" cy="792000"/>
            <a:chOff x="847800" y="3322800"/>
            <a:chExt cx="865080" cy="792000"/>
          </a:xfrm>
        </p:grpSpPr>
        <p:sp>
          <p:nvSpPr>
            <p:cNvPr id="45" name=""/>
            <p:cNvSpPr/>
            <p:nvPr/>
          </p:nvSpPr>
          <p:spPr>
            <a:xfrm flipH="1">
              <a:off x="847800" y="3322800"/>
              <a:ext cx="79200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47800" y="3322800"/>
              <a:ext cx="0" cy="79200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47800" y="4114800"/>
              <a:ext cx="86508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2612520" y="3251160"/>
            <a:ext cx="794160" cy="827280"/>
            <a:chOff x="2612520" y="3251160"/>
            <a:chExt cx="794160" cy="827280"/>
          </a:xfrm>
        </p:grpSpPr>
        <p:sp>
          <p:nvSpPr>
            <p:cNvPr id="49" name=""/>
            <p:cNvSpPr/>
            <p:nvPr/>
          </p:nvSpPr>
          <p:spPr>
            <a:xfrm flipV="1">
              <a:off x="3406680" y="3251160"/>
              <a:ext cx="0" cy="82728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2612520" y="3286080"/>
              <a:ext cx="79236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647800" y="3251160"/>
              <a:ext cx="0" cy="82728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519440" y="3250800"/>
            <a:ext cx="866880" cy="794160"/>
            <a:chOff x="4519440" y="3250800"/>
            <a:chExt cx="866880" cy="794160"/>
          </a:xfrm>
        </p:grpSpPr>
        <p:sp>
          <p:nvSpPr>
            <p:cNvPr id="53" name=""/>
            <p:cNvSpPr/>
            <p:nvPr/>
          </p:nvSpPr>
          <p:spPr>
            <a:xfrm>
              <a:off x="4591800" y="4044960"/>
              <a:ext cx="79236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5386320" y="3250800"/>
              <a:ext cx="0" cy="79236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4519440" y="3252960"/>
              <a:ext cx="86544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429240" y="3213000"/>
            <a:ext cx="792360" cy="866880"/>
            <a:chOff x="6429240" y="3213000"/>
            <a:chExt cx="792360" cy="866880"/>
          </a:xfrm>
        </p:grpSpPr>
        <p:sp>
          <p:nvSpPr>
            <p:cNvPr id="57" name=""/>
            <p:cNvSpPr/>
            <p:nvPr/>
          </p:nvSpPr>
          <p:spPr>
            <a:xfrm>
              <a:off x="6429240" y="3286080"/>
              <a:ext cx="0" cy="79236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29240" y="4079880"/>
              <a:ext cx="79236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7221600" y="3213000"/>
              <a:ext cx="0" cy="86544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073240" y="34671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17960" y="3467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18320" y="3467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1600" y="4437000"/>
            <a:ext cx="151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Másodrendű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611280" y="4941360"/>
            <a:ext cx="6893640" cy="1338840"/>
            <a:chOff x="611280" y="4941360"/>
            <a:chExt cx="6893640" cy="1338840"/>
          </a:xfrm>
        </p:grpSpPr>
        <p:grpSp>
          <p:nvGrpSpPr>
            <p:cNvPr id="65" name=""/>
            <p:cNvGrpSpPr/>
            <p:nvPr/>
          </p:nvGrpSpPr>
          <p:grpSpPr>
            <a:xfrm>
              <a:off x="611280" y="5001840"/>
              <a:ext cx="1187280" cy="1278360"/>
              <a:chOff x="611280" y="5001840"/>
              <a:chExt cx="1187280" cy="1278360"/>
            </a:xfrm>
          </p:grpSpPr>
          <p:sp>
            <p:nvSpPr>
              <p:cNvPr id="66" name=""/>
              <p:cNvSpPr/>
              <p:nvPr/>
            </p:nvSpPr>
            <p:spPr>
              <a:xfrm flipH="1">
                <a:off x="611280" y="5073480"/>
                <a:ext cx="395280" cy="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11280" y="5073480"/>
                <a:ext cx="0" cy="39528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11280" y="5468760"/>
                <a:ext cx="431640" cy="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1798560" y="5865480"/>
                <a:ext cx="0" cy="41436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1403280" y="5883120"/>
                <a:ext cx="395280" cy="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420920" y="5865840"/>
                <a:ext cx="0" cy="41436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366920" y="5038560"/>
                <a:ext cx="0" cy="39528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366920" y="5433840"/>
                <a:ext cx="395280" cy="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1762200" y="5001840"/>
                <a:ext cx="0" cy="43164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611280" y="5865840"/>
                <a:ext cx="395280" cy="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11280" y="5865840"/>
                <a:ext cx="0" cy="39528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11280" y="6261120"/>
                <a:ext cx="431640" cy="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971640" y="5073480"/>
                <a:ext cx="395280" cy="0"/>
              </a:xfrm>
              <a:prstGeom prst="line">
                <a:avLst/>
              </a:prstGeom>
              <a:ln w="381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1006560" y="5457960"/>
                <a:ext cx="0" cy="395280"/>
              </a:xfrm>
              <a:prstGeom prst="line">
                <a:avLst/>
              </a:prstGeom>
              <a:ln w="381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006560" y="6267600"/>
                <a:ext cx="395280" cy="0"/>
              </a:xfrm>
              <a:prstGeom prst="line">
                <a:avLst/>
              </a:prstGeom>
              <a:ln w="381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410560" y="5013360"/>
              <a:ext cx="1280520" cy="1187280"/>
              <a:chOff x="2410560" y="5013360"/>
              <a:chExt cx="1280520" cy="118728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3619440" y="5013360"/>
                <a:ext cx="0" cy="39528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3222720" y="5013360"/>
                <a:ext cx="395280" cy="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224160" y="5013360"/>
                <a:ext cx="0" cy="43164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410560" y="6200640"/>
                <a:ext cx="414360" cy="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2809800" y="5805360"/>
                <a:ext cx="0" cy="39528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2410920" y="5823000"/>
                <a:ext cx="414360" cy="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3257640" y="5769000"/>
                <a:ext cx="395280" cy="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259080" y="5769000"/>
                <a:ext cx="0" cy="39528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259080" y="6164280"/>
                <a:ext cx="432000" cy="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2827440" y="5013360"/>
                <a:ext cx="0" cy="39528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2430360" y="5013360"/>
                <a:ext cx="395280" cy="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32160" y="5013360"/>
                <a:ext cx="0" cy="43164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619440" y="5373720"/>
                <a:ext cx="0" cy="395280"/>
              </a:xfrm>
              <a:prstGeom prst="line">
                <a:avLst/>
              </a:prstGeom>
              <a:ln w="381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838600" y="5408640"/>
                <a:ext cx="395280" cy="0"/>
              </a:xfrm>
              <a:prstGeom prst="line">
                <a:avLst/>
              </a:prstGeom>
              <a:ln w="381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25680" y="5408640"/>
                <a:ext cx="0" cy="395280"/>
              </a:xfrm>
              <a:prstGeom prst="line">
                <a:avLst/>
              </a:prstGeom>
              <a:ln w="381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4356000" y="4941360"/>
              <a:ext cx="1189080" cy="1280160"/>
              <a:chOff x="4356000" y="4941360"/>
              <a:chExt cx="1189080" cy="1280160"/>
            </a:xfrm>
          </p:grpSpPr>
          <p:sp>
            <p:nvSpPr>
              <p:cNvPr id="98" name=""/>
              <p:cNvSpPr/>
              <p:nvPr/>
            </p:nvSpPr>
            <p:spPr>
              <a:xfrm>
                <a:off x="5148360" y="6149880"/>
                <a:ext cx="395280" cy="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5545080" y="5753160"/>
                <a:ext cx="0" cy="39528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5113080" y="5754600"/>
                <a:ext cx="431640" cy="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357800" y="4941720"/>
                <a:ext cx="0" cy="41436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56000" y="5340240"/>
                <a:ext cx="395280" cy="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4735440" y="4941360"/>
                <a:ext cx="0" cy="41436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4789440" y="5788080"/>
                <a:ext cx="0" cy="39528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4392720" y="5789520"/>
                <a:ext cx="395280" cy="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94160" y="5789520"/>
                <a:ext cx="0" cy="43200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148360" y="5357880"/>
                <a:ext cx="395280" cy="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5545080" y="4960800"/>
                <a:ext cx="0" cy="39528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5113080" y="4962600"/>
                <a:ext cx="431640" cy="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4788000" y="6149880"/>
                <a:ext cx="395280" cy="0"/>
              </a:xfrm>
              <a:prstGeom prst="line">
                <a:avLst/>
              </a:prstGeom>
              <a:ln w="381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149800" y="5369040"/>
                <a:ext cx="0" cy="395280"/>
              </a:xfrm>
              <a:prstGeom prst="line">
                <a:avLst/>
              </a:prstGeom>
              <a:ln w="381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753080" y="4956120"/>
                <a:ext cx="395280" cy="0"/>
              </a:xfrm>
              <a:prstGeom prst="line">
                <a:avLst/>
              </a:prstGeom>
              <a:ln w="381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6225840" y="5011560"/>
              <a:ext cx="1279080" cy="1189080"/>
              <a:chOff x="6225840" y="5011560"/>
              <a:chExt cx="1279080" cy="1189080"/>
            </a:xfrm>
          </p:grpSpPr>
          <p:sp>
            <p:nvSpPr>
              <p:cNvPr id="114" name=""/>
              <p:cNvSpPr/>
              <p:nvPr/>
            </p:nvSpPr>
            <p:spPr>
              <a:xfrm>
                <a:off x="6297480" y="5803920"/>
                <a:ext cx="0" cy="39528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297480" y="6200640"/>
                <a:ext cx="395280" cy="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6694560" y="5768640"/>
                <a:ext cx="0" cy="43164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7089480" y="5013360"/>
                <a:ext cx="414360" cy="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107120" y="5011560"/>
                <a:ext cx="0" cy="39564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090560" y="5391000"/>
                <a:ext cx="414360" cy="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262560" y="5445000"/>
                <a:ext cx="395280" cy="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657840" y="5048280"/>
                <a:ext cx="0" cy="39528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6225840" y="5049720"/>
                <a:ext cx="431640" cy="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091280" y="5803920"/>
                <a:ext cx="0" cy="39528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091280" y="6200640"/>
                <a:ext cx="395280" cy="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7486560" y="5768640"/>
                <a:ext cx="0" cy="43164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6297480" y="5443560"/>
                <a:ext cx="0" cy="395280"/>
              </a:xfrm>
              <a:prstGeom prst="line">
                <a:avLst/>
              </a:prstGeom>
              <a:ln w="381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683400" y="5805360"/>
                <a:ext cx="395280" cy="0"/>
              </a:xfrm>
              <a:prstGeom prst="line">
                <a:avLst/>
              </a:prstGeom>
              <a:ln w="381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7493040" y="5408640"/>
                <a:ext cx="0" cy="395280"/>
              </a:xfrm>
              <a:prstGeom prst="line">
                <a:avLst/>
              </a:prstGeom>
              <a:ln w="381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20B1-DF13-40D6-8281-358B4EB561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4360" y="189000"/>
            <a:ext cx="78436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6920" y="189000"/>
            <a:ext cx="78440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ff"/>
                </a:solidFill>
                <a:latin typeface="Arial"/>
              </a:rPr>
              <a:t>Hilbert görbe elkészít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042920" y="2120400"/>
            <a:ext cx="1187280" cy="1278360"/>
            <a:chOff x="1042920" y="2120400"/>
            <a:chExt cx="1187280" cy="1278360"/>
          </a:xfrm>
        </p:grpSpPr>
        <p:sp>
          <p:nvSpPr>
            <p:cNvPr id="132" name=""/>
            <p:cNvSpPr/>
            <p:nvPr/>
          </p:nvSpPr>
          <p:spPr>
            <a:xfrm flipH="1">
              <a:off x="1042920" y="2192040"/>
              <a:ext cx="39528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42920" y="2192040"/>
              <a:ext cx="0" cy="39528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42920" y="2587320"/>
              <a:ext cx="43164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2230200" y="2984040"/>
              <a:ext cx="0" cy="41436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834920" y="3001680"/>
              <a:ext cx="395280" cy="0"/>
            </a:xfrm>
            <a:prstGeom prst="line">
              <a:avLst/>
            </a:prstGeom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52560" y="2984400"/>
              <a:ext cx="0" cy="41436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98560" y="2157120"/>
              <a:ext cx="0" cy="39528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98560" y="2552400"/>
              <a:ext cx="39528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2193840" y="2120400"/>
              <a:ext cx="0" cy="43164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1042920" y="2984400"/>
              <a:ext cx="39528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42920" y="2984400"/>
              <a:ext cx="0" cy="39528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42920" y="3379680"/>
              <a:ext cx="43164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03280" y="2192040"/>
              <a:ext cx="395280" cy="0"/>
            </a:xfrm>
            <a:prstGeom prst="line">
              <a:avLst/>
            </a:prstGeom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1438200" y="2576520"/>
              <a:ext cx="0" cy="395280"/>
            </a:xfrm>
            <a:prstGeom prst="line">
              <a:avLst/>
            </a:prstGeom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38200" y="3386160"/>
              <a:ext cx="39528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843280" y="2131920"/>
            <a:ext cx="1279080" cy="1187280"/>
            <a:chOff x="2843280" y="2131920"/>
            <a:chExt cx="1279080" cy="1187280"/>
          </a:xfrm>
        </p:grpSpPr>
        <p:sp>
          <p:nvSpPr>
            <p:cNvPr id="148" name=""/>
            <p:cNvSpPr/>
            <p:nvPr/>
          </p:nvSpPr>
          <p:spPr>
            <a:xfrm flipV="1">
              <a:off x="4051080" y="2131920"/>
              <a:ext cx="0" cy="39528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654000" y="2131920"/>
              <a:ext cx="39492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655800" y="2131920"/>
              <a:ext cx="0" cy="43164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43280" y="3319200"/>
              <a:ext cx="41400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241440" y="2923920"/>
              <a:ext cx="0" cy="39528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843280" y="2941560"/>
              <a:ext cx="41400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688920" y="2887560"/>
              <a:ext cx="39492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90720" y="2887560"/>
              <a:ext cx="0" cy="39528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90720" y="3282840"/>
              <a:ext cx="43164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259080" y="2131920"/>
              <a:ext cx="0" cy="39528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2861640" y="2131920"/>
              <a:ext cx="39492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63800" y="2131920"/>
              <a:ext cx="0" cy="43164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51080" y="2492280"/>
              <a:ext cx="0" cy="395280"/>
            </a:xfrm>
            <a:prstGeom prst="line">
              <a:avLst/>
            </a:prstGeom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0240" y="2527200"/>
              <a:ext cx="394920" cy="0"/>
            </a:xfrm>
            <a:prstGeom prst="line">
              <a:avLst/>
            </a:prstGeom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57320" y="2527200"/>
              <a:ext cx="0" cy="395280"/>
            </a:xfrm>
            <a:prstGeom prst="line">
              <a:avLst/>
            </a:prstGeom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788000" y="2060640"/>
            <a:ext cx="1189080" cy="1279080"/>
            <a:chOff x="4788000" y="2060640"/>
            <a:chExt cx="1189080" cy="1279080"/>
          </a:xfrm>
        </p:grpSpPr>
        <p:sp>
          <p:nvSpPr>
            <p:cNvPr id="164" name=""/>
            <p:cNvSpPr/>
            <p:nvPr/>
          </p:nvSpPr>
          <p:spPr>
            <a:xfrm>
              <a:off x="5580360" y="3268440"/>
              <a:ext cx="39528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5977080" y="2871360"/>
              <a:ext cx="0" cy="39492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5545080" y="2873160"/>
              <a:ext cx="43164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89800" y="2060640"/>
              <a:ext cx="0" cy="41400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88000" y="2458800"/>
              <a:ext cx="39528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5167440" y="2060640"/>
              <a:ext cx="0" cy="41400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5221440" y="2906280"/>
              <a:ext cx="0" cy="39492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24720" y="2908080"/>
              <a:ext cx="39528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26160" y="2908080"/>
              <a:ext cx="0" cy="43164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80360" y="2476440"/>
              <a:ext cx="39528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5977080" y="2079000"/>
              <a:ext cx="0" cy="39492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5545080" y="2081160"/>
              <a:ext cx="43164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220000" y="3268440"/>
              <a:ext cx="395280" cy="0"/>
            </a:xfrm>
            <a:prstGeom prst="line">
              <a:avLst/>
            </a:prstGeom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81800" y="2487600"/>
              <a:ext cx="0" cy="394920"/>
            </a:xfrm>
            <a:prstGeom prst="line">
              <a:avLst/>
            </a:prstGeom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5185080" y="2074680"/>
              <a:ext cx="395280" cy="0"/>
            </a:xfrm>
            <a:prstGeom prst="line">
              <a:avLst/>
            </a:prstGeom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657480" y="2130480"/>
            <a:ext cx="1279080" cy="1189080"/>
            <a:chOff x="6657480" y="2130480"/>
            <a:chExt cx="1279080" cy="1189080"/>
          </a:xfrm>
        </p:grpSpPr>
        <p:sp>
          <p:nvSpPr>
            <p:cNvPr id="180" name=""/>
            <p:cNvSpPr/>
            <p:nvPr/>
          </p:nvSpPr>
          <p:spPr>
            <a:xfrm>
              <a:off x="6729120" y="2922840"/>
              <a:ext cx="0" cy="39528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29120" y="3319560"/>
              <a:ext cx="39528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7126200" y="2887560"/>
              <a:ext cx="0" cy="43164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7521120" y="2132280"/>
              <a:ext cx="41436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38760" y="2130480"/>
              <a:ext cx="0" cy="39564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22200" y="2509920"/>
              <a:ext cx="41436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694200" y="2563920"/>
              <a:ext cx="39528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7089480" y="2167200"/>
              <a:ext cx="0" cy="39528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657480" y="2168640"/>
              <a:ext cx="43164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22920" y="2922840"/>
              <a:ext cx="0" cy="39528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22920" y="3319560"/>
              <a:ext cx="39528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918200" y="2887560"/>
              <a:ext cx="0" cy="43164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729120" y="2562480"/>
              <a:ext cx="0" cy="395280"/>
            </a:xfrm>
            <a:prstGeom prst="line">
              <a:avLst/>
            </a:prstGeom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7115040" y="2924280"/>
              <a:ext cx="395280" cy="0"/>
            </a:xfrm>
            <a:prstGeom prst="line">
              <a:avLst/>
            </a:prstGeom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7924680" y="2527560"/>
              <a:ext cx="0" cy="395280"/>
            </a:xfrm>
            <a:prstGeom prst="line">
              <a:avLst/>
            </a:prstGeom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950760" y="1504800"/>
            <a:ext cx="67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        B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         C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   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5560" y="3735360"/>
            <a:ext cx="35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:    D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←  A   ↓   A  → 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75720" y="436572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:    C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↑   B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B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7880" y="5013360"/>
            <a:ext cx="35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:    B  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C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6800" y="5661000"/>
            <a:ext cx="357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:    A   ↓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←  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↑  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5FE1-9072-47F5-B218-9187324C88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826920" y="0"/>
            <a:ext cx="78440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ff"/>
                </a:solidFill>
                <a:latin typeface="Arial"/>
              </a:rPr>
              <a:t>Hilbert görbe elkészít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1700280"/>
            <a:ext cx="828036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ROCEDURE A(I:INTEG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F I &gt; 0 T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(I-1); X := X - H; PLO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(I-1); Y := Y + H; PLO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(I-1); X := X + H; PLO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(I-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397480" y="2517480"/>
            <a:ext cx="1187640" cy="1278360"/>
            <a:chOff x="5397480" y="2517480"/>
            <a:chExt cx="1187640" cy="1278360"/>
          </a:xfrm>
        </p:grpSpPr>
        <p:sp>
          <p:nvSpPr>
            <p:cNvPr id="203" name=""/>
            <p:cNvSpPr/>
            <p:nvPr/>
          </p:nvSpPr>
          <p:spPr>
            <a:xfrm flipH="1">
              <a:off x="5397480" y="2589120"/>
              <a:ext cx="39528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97480" y="2589120"/>
              <a:ext cx="0" cy="39528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97480" y="2984400"/>
              <a:ext cx="43200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585120" y="3381120"/>
              <a:ext cx="0" cy="41436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6189840" y="3398760"/>
              <a:ext cx="39528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07120" y="3381480"/>
              <a:ext cx="0" cy="41436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53120" y="2554200"/>
              <a:ext cx="0" cy="39528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53120" y="2949480"/>
              <a:ext cx="39528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6548400" y="2517480"/>
              <a:ext cx="0" cy="43164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5397480" y="3381480"/>
              <a:ext cx="39528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97480" y="3381480"/>
              <a:ext cx="0" cy="39528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97480" y="3776760"/>
              <a:ext cx="43200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57840" y="2589120"/>
              <a:ext cx="395280" cy="0"/>
            </a:xfrm>
            <a:prstGeom prst="line">
              <a:avLst/>
            </a:prstGeom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792760" y="2973240"/>
              <a:ext cx="0" cy="395280"/>
            </a:xfrm>
            <a:prstGeom prst="line">
              <a:avLst/>
            </a:prstGeom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92760" y="3782880"/>
              <a:ext cx="395280" cy="0"/>
            </a:xfrm>
            <a:prstGeom prst="line">
              <a:avLst/>
            </a:prstGeom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F98C-F813-4588-AD25-6FC059BD5F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ff"/>
                </a:solidFill>
                <a:latin typeface="Arial"/>
              </a:rPr>
              <a:t>Hilbert görbe elkészít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ROCEDURE B(I:INTEG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F I &gt; 0 T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(I-1); Y := Y - H; PLO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(I-1); X := X + H; PLO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(I-1); Y := Y + H; PLO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(I-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397480" y="2517840"/>
            <a:ext cx="1279080" cy="1187280"/>
            <a:chOff x="5397480" y="2517840"/>
            <a:chExt cx="1279080" cy="1187280"/>
          </a:xfrm>
        </p:grpSpPr>
        <p:sp>
          <p:nvSpPr>
            <p:cNvPr id="221" name=""/>
            <p:cNvSpPr/>
            <p:nvPr/>
          </p:nvSpPr>
          <p:spPr>
            <a:xfrm flipV="1">
              <a:off x="6605280" y="2517840"/>
              <a:ext cx="0" cy="39528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6208200" y="2517840"/>
              <a:ext cx="39492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10000" y="2517840"/>
              <a:ext cx="0" cy="43164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97480" y="3705120"/>
              <a:ext cx="41400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5795640" y="3309840"/>
              <a:ext cx="0" cy="39528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397480" y="3327480"/>
              <a:ext cx="41400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243120" y="3273480"/>
              <a:ext cx="39492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244920" y="3273480"/>
              <a:ext cx="0" cy="39528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44920" y="3668760"/>
              <a:ext cx="43164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813280" y="2517840"/>
              <a:ext cx="0" cy="39528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5415840" y="2517840"/>
              <a:ext cx="39492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418000" y="2517840"/>
              <a:ext cx="0" cy="43164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05280" y="2878200"/>
              <a:ext cx="0" cy="395280"/>
            </a:xfrm>
            <a:prstGeom prst="line">
              <a:avLst/>
            </a:prstGeom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824440" y="2913120"/>
              <a:ext cx="394920" cy="0"/>
            </a:xfrm>
            <a:prstGeom prst="line">
              <a:avLst/>
            </a:prstGeom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411520" y="2913120"/>
              <a:ext cx="0" cy="395280"/>
            </a:xfrm>
            <a:prstGeom prst="line">
              <a:avLst/>
            </a:prstGeom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5DA8-E1C0-459E-8BD0-C90C4DD5B7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ff"/>
                </a:solidFill>
                <a:latin typeface="Arial"/>
              </a:rPr>
              <a:t>Hilbert görbe elkészít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ROCEDURE C(I:INTEG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F I &gt; 0 T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(I-1); X := X + H; PLO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(I-1); Y := Y - H; PLO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(I-1); X := X - H; PLO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(I-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397480" y="2517840"/>
            <a:ext cx="1189080" cy="1279080"/>
            <a:chOff x="5397480" y="2517840"/>
            <a:chExt cx="1189080" cy="1279080"/>
          </a:xfrm>
        </p:grpSpPr>
        <p:sp>
          <p:nvSpPr>
            <p:cNvPr id="239" name=""/>
            <p:cNvSpPr/>
            <p:nvPr/>
          </p:nvSpPr>
          <p:spPr>
            <a:xfrm>
              <a:off x="6189840" y="3725640"/>
              <a:ext cx="39528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6586560" y="3328560"/>
              <a:ext cx="0" cy="39492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154560" y="3330360"/>
              <a:ext cx="43164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99280" y="2517840"/>
              <a:ext cx="0" cy="41400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97480" y="2916000"/>
              <a:ext cx="39528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5776920" y="2517840"/>
              <a:ext cx="0" cy="41400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5830920" y="3363480"/>
              <a:ext cx="0" cy="39492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434200" y="3365280"/>
              <a:ext cx="39528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35640" y="3365280"/>
              <a:ext cx="0" cy="43164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189840" y="2933640"/>
              <a:ext cx="39528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6586560" y="2536200"/>
              <a:ext cx="0" cy="39492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6154560" y="2538360"/>
              <a:ext cx="43164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829480" y="3725640"/>
              <a:ext cx="395280" cy="0"/>
            </a:xfrm>
            <a:prstGeom prst="line">
              <a:avLst/>
            </a:prstGeom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91280" y="2944800"/>
              <a:ext cx="0" cy="394920"/>
            </a:xfrm>
            <a:prstGeom prst="line">
              <a:avLst/>
            </a:prstGeom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5794560" y="2531880"/>
              <a:ext cx="395280" cy="0"/>
            </a:xfrm>
            <a:prstGeom prst="line">
              <a:avLst/>
            </a:prstGeom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B67A-B4D7-4055-824C-9A091B4AE3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ff"/>
                </a:solidFill>
                <a:latin typeface="Arial"/>
              </a:rPr>
              <a:t>Hilbert görbe elkészít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ROCEDURE D(I:INTEG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F I &gt; 0 T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(I-1); Y := Y + H; PLO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(I-1); X := X - H; PLO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(I-1); Y := Y - H; PLO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(I-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5397120" y="2517840"/>
            <a:ext cx="1279080" cy="1189080"/>
            <a:chOff x="5397120" y="2517840"/>
            <a:chExt cx="1279080" cy="1189080"/>
          </a:xfrm>
        </p:grpSpPr>
        <p:sp>
          <p:nvSpPr>
            <p:cNvPr id="257" name=""/>
            <p:cNvSpPr/>
            <p:nvPr/>
          </p:nvSpPr>
          <p:spPr>
            <a:xfrm>
              <a:off x="5468760" y="3310200"/>
              <a:ext cx="0" cy="39528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468760" y="3706920"/>
              <a:ext cx="39528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5865840" y="3274920"/>
              <a:ext cx="0" cy="43164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260760" y="2519640"/>
              <a:ext cx="41436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78400" y="2517840"/>
              <a:ext cx="0" cy="39564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61840" y="2897280"/>
              <a:ext cx="41436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33840" y="2951280"/>
              <a:ext cx="39528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5829120" y="2554560"/>
              <a:ext cx="0" cy="39528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397120" y="2556000"/>
              <a:ext cx="43164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62560" y="3310200"/>
              <a:ext cx="0" cy="39528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62560" y="3706920"/>
              <a:ext cx="39528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6657840" y="3274920"/>
              <a:ext cx="0" cy="43164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5468760" y="2949840"/>
              <a:ext cx="0" cy="395280"/>
            </a:xfrm>
            <a:prstGeom prst="line">
              <a:avLst/>
            </a:prstGeom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5854680" y="3311640"/>
              <a:ext cx="395280" cy="0"/>
            </a:xfrm>
            <a:prstGeom prst="line">
              <a:avLst/>
            </a:prstGeom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6664320" y="2914920"/>
              <a:ext cx="0" cy="395280"/>
            </a:xfrm>
            <a:prstGeom prst="line">
              <a:avLst/>
            </a:prstGeom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CDAA-45AE-4258-B1E9-CF5B726271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ff"/>
                </a:solidFill>
                <a:latin typeface="Arial"/>
              </a:rPr>
              <a:t>Hilbert görbe elkészít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050920" y="1628640"/>
          <a:ext cx="4930920" cy="484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1628640"/>
                    <a:ext cx="4930920" cy="48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1388160" y="1144440"/>
            <a:ext cx="26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Ötödrendű Hilbert gör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6052-721A-43E9-BCFD-BF34266ECA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7:49:32Z</dcterms:created>
  <dc:creator>bekesi</dc:creator>
  <dc:description/>
  <dc:language>en-US</dc:language>
  <cp:lastModifiedBy>bekesi</cp:lastModifiedBy>
  <dcterms:modified xsi:type="dcterms:W3CDTF">2004-11-26T15:26:05Z</dcterms:modified>
  <cp:revision>92</cp:revision>
  <dc:subject/>
  <dc:title>Példa gépi kódra</dc:title>
</cp:coreProperties>
</file>