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E2C-89E5-4171-A8B3-EACAF4F0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CE9-0279-4DFF-93BB-ACDB1300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7A4-F4D2-41FA-8C57-C470676C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D92-538C-4F10-B690-9186F7C1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FD3-2984-41F7-B4F4-034CF7E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089-FD0E-45D3-8039-7A5302E2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8D7-C07A-4DCC-8C27-F88B5CC9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B86-F354-4F29-A30F-99A3EC6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524-62BB-4EE4-B126-2CB2581B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8A8-FF2F-4BF3-BAF5-60317A9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847-5607-4CF4-8508-479B0DC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9CB-C246-4986-98B1-0A882C1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AD5E-3704-4FBD-A767-64EE64CA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yolc királynő probl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700280"/>
            <a:ext cx="7632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yezzünk el egy sakktáblára 8 királynőt úgy, hogy egyik se üsse a másik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03640" y="3213000"/>
                <a:ext cx="253044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>
                          <m:r>
                            <m:t xml:space="preserve">X</m:t>
                          </m:r>
                        </m:e>
                        <m:e/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>
                          <m:r>
                            <m:t xml:space="preserve">X</m:t>
                          </m:r>
                        </m:e>
                        <m:e/>
                        <m:e/>
                      </m:mr>
                      <m:mr>
                        <m:e/>
                        <m:e/>
                        <m:e/>
                        <m:e>
                          <m:r>
                            <m:t xml:space="preserve">X</m:t>
                          </m:r>
                        </m:e>
                        <m:e/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X</m:t>
                          </m:r>
                        </m:e>
                        <m:e/>
                        <m:e/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  <m:e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/>
                        <m:e/>
                        <m:e>
                          <m:r>
                            <m:t xml:space="preserve">X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>
                          <m:r>
                            <m:t xml:space="preserve">X</m:t>
                          </m:r>
                        </m:e>
                        <m:e/>
                      </m:mr>
                      <m:mr>
                        <m:e>
                          <m:r>
                            <m:t xml:space="preserve">X</m:t>
                          </m:r>
                        </m:e>
                        <m:e/>
                        <m:e/>
                        <m:e/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9BB-9D18-4EE6-A850-66BC6D555F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yolc királynő probl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773360"/>
            <a:ext cx="770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us (módszeres próbálgatás rekurzióval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lépés: Tegyük fel az első i-1 (i&lt;8) oszlopba már sikerült elhelyezni a szabályok szerint i-1 db királynőt. Legyen 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←1 és vizsgáljuk az i. oszlopot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lépés: Ha a k. sorba sikerül a királynőt elhelyezni, akkor alkalmazzuk ugyanezt a módszert a következő oszlopra, feltéve hogy i&lt;&gt;8. Ha i=8, akkor találtunk egy megoldást, írassuk 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lépés: Legyen 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←k+1 és ha k&lt;=8 akkor ismételjük a 2. lép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607-FE69-4B2D-848A-AA905CAA2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yolc királynő probl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700280"/>
            <a:ext cx="8280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 ábrázolás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Olyan ábrázolás kell, amivel gyorsan el tudjuk dönteni, van-e királynő az adott sorban, illetve átlók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X:ARRAY[1..8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:ARRAY[1..8]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:ARRAY[B1..B2]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C:ARRAY[C1..C2]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X[i] : a királynő pozíciója az i. oszlop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[i] : igaz, ha nincs királynő az i. so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[i]: igaz, ha nincs királynő az i.        átl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C[i]: igaz, ha nincs királynő az i.        átl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886200" y="4821120"/>
            <a:ext cx="216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5157720"/>
            <a:ext cx="28908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55640" y="5805360"/>
            <a:ext cx="216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5800" y="56610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átló: i+j álland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6237360"/>
            <a:ext cx="28872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6160" y="6165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átló: i-j álland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05C-65AB-4DD3-A33F-1E4FDBE05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yolc királynő probl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rálynő elhelyezése (i. oszlop j. soráb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X[I] := J; A[J] := FALSE; B[I+J] := FALSE; C[I-J] :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rálynő levétele (i. oszlop j. sorából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[J] := TRUE; B[I+J] := TRUE; C[I-J] 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rálynő elhelyezhető-e (i. oszlop j. soráb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[J]  AND B[I+J] AND C[I-J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494-046D-467B-BF49-64A401519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Nyolc királynő probl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GRAM NYOLC_KIRALYNO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I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:ARRAY[1..8] OF BOOLEA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:ARRAY[2..16] OF BOOLEA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:ARRAY[-7..7] OF BOOLEA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X:ARRAY[1..8] OF 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CEDURE NYOMTA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K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K:= 1 TO 8 DO WRITE(X[K]:4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RITEL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CEDURE PROBAL(I:INTEG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VAR J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J:= 1 TO 8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F A[J] AND B[I+J] AND C[I-J]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X[I] := J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[J] := FALSE; B[I+J] := FALSE; C[I-J] := FALS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F I&lt;8 THEN PROBAL(I+1) ELSE NYOMTA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[J] := TRUE; B[I+J] := TRUE; C[I-J] := TRU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I:= 1 TO 8 DO A[I] := TRU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I:= 2 TO 16 DO B[I] := TRU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OR I:= -7 TO 7 DO C[I] := TRU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BAL(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E88-013A-47CE-8AA1-585CA78EE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1-26T14:57:45Z</dcterms:modified>
  <cp:revision>106</cp:revision>
  <dc:subject/>
  <dc:title>Példa gépi kódra</dc:title>
</cp:coreProperties>
</file>