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8C2-7F86-40AA-9FA7-B6D9D37E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C52-C562-4C3C-BFD2-BC06A4DC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B3C-CE6D-4686-B8A0-B42834EF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58F-AE97-478F-BBC3-96B00CB3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986-DA20-4220-A87E-5C0B3764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175-7657-4DBF-AE0D-5DA644A4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F0C-0D85-4069-ACE9-59351A85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F89-A384-4104-8B81-AF3F3DE9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AA2-1D06-46DB-AF08-F01A9AFE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A2D-5059-4A92-8A65-E928AFC7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CBF-D220-484A-873D-6A9EB518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D7B-0E68-4031-B7EF-C3E9A2CD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77B4-F6E2-472F-A8A2-D7DBFCA96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Faktoriális számít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916280"/>
            <a:ext cx="82296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Számítsuk ki egy természetes szám faktoriálisá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N!=1*2*…*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kurzív megoldá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UNCTION FAKT(N:INTEGER):INTEGER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IF N&gt;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FAKT:=N*FAKT(N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AKT: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BB4-D741-43D0-857B-41D1AB0362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8900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Faktoriális szám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2060640"/>
            <a:ext cx="828036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rekurzív megoldá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UNCTION FAKT(N:INTEGER):INTEGER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VAR I: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: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OR I:=2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:=F*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AKT := 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2E9-C6C2-462F-949B-BC7211B717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6920" y="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ff"/>
                </a:solidFill>
                <a:latin typeface="Arial"/>
              </a:rPr>
              <a:t>Fibonacci sorozat kiszám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Számítsuk ki a Fibonacci sorozat tetszőleges elemé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=0;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f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=1;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f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=f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+f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n-2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, ha n&gt;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kurzív megoldá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UNCTION FIB(N:INTEGER):INTEGER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IF N=0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IB: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IF N=1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IB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IB := FIB(N-1) + FIB(N-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CB5-C8A7-4934-8635-EFA91BE9E6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ff"/>
                </a:solidFill>
                <a:latin typeface="Arial"/>
              </a:rPr>
              <a:t>Fibonacci sorozat kiszám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m rekurzív megoldá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FUNCTION FIB(N:INTEGER):INTEGER;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VAR I,X,Y,Z:INTE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X:=1; Y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FOR I:=2 TO N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Z:=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X:=X+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Y:=Z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IF N=0 T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FIB:=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FIB:=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D7D-F334-4318-8F36-8948E701B7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49:32Z</dcterms:created>
  <dc:creator>bekesi</dc:creator>
  <dc:description/>
  <dc:language>en-US</dc:language>
  <cp:lastModifiedBy>bekesi</cp:lastModifiedBy>
  <dcterms:modified xsi:type="dcterms:W3CDTF">2004-11-26T15:26:24Z</dcterms:modified>
  <cp:revision>78</cp:revision>
  <dc:subject/>
  <dc:title>Példa gépi kódra</dc:title>
</cp:coreProperties>
</file>