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52D-01FC-4181-B2CE-344A6CF8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0B7-259C-49BE-9771-F98B8354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44E-70A4-438F-BEC7-0F509CC2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B38-0308-4BF6-9188-E0D16877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4B5-4D60-4C59-8879-F1E38C2B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7C9-A26A-4665-8206-799A047E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0F1-1BA0-45C2-8F67-F3809123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90E-E4C0-457B-B8AC-44D0AFD3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6E7-3F71-40E6-B7CE-2C4F2D61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636-BF85-4A96-8F61-70E3C99A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1CD-D0D0-46F8-BB7B-65E70B12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ED8-EADE-4AA5-937A-AEFE45FF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9643-8325-43DE-898D-B173FCE8B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3333ff"/>
                </a:solidFill>
                <a:latin typeface="Arial"/>
              </a:rPr>
              <a:t>Összeadási algoritmus pszeudókódd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916280"/>
            <a:ext cx="82296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Adott (u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…u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és (v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…v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n jegyű egészek. Állítsuk elő ezek (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…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összegé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goritmu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[Inicializálás] Legyen j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n, k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0 (j végigfut a számjegypozíciókon, k az átvit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2[Jegyek összeadása] Legyen 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(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+v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+k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) mod b, k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(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+v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+k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) div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( k 0 vagy 1 lehet, attól függően, hogy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+v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+k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≥b vagy sem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3[Ismétlés] Legyen j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j-1. Ha j&gt;0 akkor visszatérünk az A2 lépésre, egyébként legyen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Legyen 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k és vége az algoritmusnak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472-07A1-47A4-8634-99FF296436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89000"/>
            <a:ext cx="7844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3333ff"/>
                </a:solidFill>
                <a:latin typeface="Arial"/>
              </a:rPr>
              <a:t>Szorzási algoritmus pszeudokódd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700280"/>
            <a:ext cx="8280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Adott (u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…u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és (v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…v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n jegyű egészek. Állítsuk elő ezek (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…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n+m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szorzat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goritmu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S1[Inicializálás] Legyen 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m+1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m+2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,…, 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m+n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0. Legyen j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S2[Nulla szorzó?] Ha v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legyen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← 0 és menjünk az S6 lépés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S3[Részszorzat kiszámításnak inicializálása] Legyen i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n, k ←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(i végigfut a számjegypozíciókon, k az átvite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S4[Szorzás és összeadás] Legyen t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x v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 + 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j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+k. Legyen 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j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t mod b. k← t div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S5 [Részszorzta kiszámításának ciklusa] Legyen i ←i-1.  Ha i&gt;0 akkor visszatérünk az S4 lépésre, egyébként w</a:t>
            </a:r>
            <a:r>
              <a:rPr b="0" lang="hu-HU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j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←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S6 [Összeadás ciklusa] Legyen j ←j-1.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  <a:ea typeface="Arial"/>
              </a:rPr>
              <a:t>Ha j&gt;0 akkor visszatérünk az S2 lépésre, egyébként vége az algoritmusna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F1E-4DA0-4C05-9DC0-E3216FC889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49:32Z</dcterms:created>
  <dc:creator>bekesi</dc:creator>
  <dc:description/>
  <dc:language>en-US</dc:language>
  <cp:lastModifiedBy>bekesi</cp:lastModifiedBy>
  <dcterms:modified xsi:type="dcterms:W3CDTF">2004-10-12T09:36:03Z</dcterms:modified>
  <cp:revision>65</cp:revision>
  <dc:subject/>
  <dc:title>Példa gépi kódra</dc:title>
</cp:coreProperties>
</file>