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BCD-CE5C-4A65-8835-DE8E49C5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A75-0E54-4F89-A730-0A24A88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DF2-7949-49F9-A327-BCC11D36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AEC-640A-4021-9A53-0D57718D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A5C-8BDA-4B59-88C4-7129A23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3A4-A398-45AD-B1F9-A56053B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FA5-67EA-4238-B4C4-BE9347D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7E2-EE69-46DA-ACA4-0D9BCD6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155-5A51-49AD-A073-A764180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F2E-A32F-498C-9CF6-3D163FA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838-E685-44B0-9165-8C57E2F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64F-9AF1-4D3D-BEA6-B71381E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34E5-3A5F-4CF3-A666-245D22AEE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űvös négyzet létreh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00280"/>
            <a:ext cx="7632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észítsünk olyan NxN-es számnégyzetet ( n páratlan ), amelyben az 1,2,..,n</a:t>
            </a:r>
            <a:r>
              <a:rPr b="0" lang="hu-H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számok szerepelnek és minden sorban illetve oszlopban és a főátlókban a számok összege ugyana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132000" y="3284640"/>
                <a:ext cx="2843280" cy="29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6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8</m:t>
                          </m:r>
                        </m:e>
                      </m:mr>
                      <m:mr>
                        <m:e>
                          <m:r>
                            <m:t xml:space="preserve">7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9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C88-F6D3-4000-936B-60B7D17F1B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űvös négyzet létreh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773360"/>
            <a:ext cx="770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. lépés: Legyen i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 , s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, 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n div 2 +1.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2. lépés: Helyezzük el i-t, az s sor o oszlopába. Ha i nem osztható n-nel, akkor legyen s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s-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, 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o-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 egyébként legyen s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s+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3. lépés: Ha s&lt;1 akkor legyen s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n. Ha o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&lt;1 akkor legyen 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n.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4. lépés: Legyen i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i+1 és ha i&lt;=n</a:t>
            </a:r>
            <a:r>
              <a:rPr b="0" lang="hu-HU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akkor ismételjük a 2. lép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E5D-B44E-4BF1-AB5B-EBCF98816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0"/>
            <a:ext cx="7844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Bűvös négyzet létreh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57400"/>
            <a:ext cx="8136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PROGRAM BUVO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CONST    N=3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TYPE BTOMB = ARRAY[1..N,1..N] OF 0..N*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INDEX = 0..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VAR NEGYZET:BTOMB; I,J: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PROCEDURE CSOKK(VAR SOR,OSZLOP:INDE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SOR := SOR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IF SOR &lt; 1 THEN SOR := 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OSZLOP := OSZLOP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IF OSZLOP &lt; 1 THEN OSZLOP := 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PROCEDURE KITOLT(VAR NEGYZET : BTOMB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VAR SOR,OSZLOP : INDE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I,J : INTEG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SOR := 1; OSZLOP := N DIV 2 +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FOR I := 1 TO N*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NEGYZET[SOR,OSZLOP] := 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IF I MOD N &lt;&gt; 0 THEN CSOKK(SOR,OSZLOP) ELSE SOR := SOR+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KITOLT(NEGYZE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FOR I:=1 TO N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FOR J:=1 TO N DO WRITE(NEGYZET[I,J],' '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WRITEL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EEC-F088-4435-B28B-F4AAE80D1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26T15:23:25Z</dcterms:modified>
  <cp:revision>112</cp:revision>
  <dc:subject/>
  <dc:title>Példa gépi kódra</dc:title>
</cp:coreProperties>
</file>