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A2E5-48DA-4CFB-B86F-A8651C68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44FB-6115-4756-8052-B0BDFCB8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B34B-0AEC-4372-9928-07748CA9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5BE3-56C6-423A-86CE-54DA18C68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24E0-0415-4697-9E0D-2FA6B0AB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FF82-341D-4C85-B7A2-51DC9D9A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55C8-BB8F-4592-B05F-F6CFCFC5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9F0E-7AAF-4096-B7FC-348A4F7F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E456-7017-44C7-8835-BCCCA869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59E0-E814-43EA-841D-629C5A8F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D199-90BD-47DA-A1ED-E73CAD31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4CF4-BBDD-4458-9661-4CFA27FD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C135-389C-45FC-8F7A-81BB55AE3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8436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Mátrix nyeregpontjának meghatároz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700280"/>
            <a:ext cx="7632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ad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dott egy mátrix, határozzuk meg az összes nyeregpontját. Egy mátrix nyeregpontja olyan elem, amely a sorában minimális, az oszlopában pedig maximál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971640" y="4365720"/>
          <a:ext cx="988920" cy="101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4365720"/>
                    <a:ext cx="98892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87240" y="378936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y nyeregp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75240" y="37893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öbb nyeregp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276720" y="4365720"/>
          <a:ext cx="988920" cy="1015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76720" y="4365720"/>
                    <a:ext cx="98892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5080320" y="378936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ncs nyeregp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435640" y="4365720"/>
          <a:ext cx="988920" cy="1015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35640" y="4365720"/>
                    <a:ext cx="98892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C2D5-B86A-4A76-8BD2-2397841F34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4360" y="189000"/>
            <a:ext cx="78436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6920" y="189000"/>
            <a:ext cx="78440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Mátrix nyeregpontjának meghatároz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39640" y="2276640"/>
            <a:ext cx="8585640" cy="942840"/>
            <a:chOff x="539640" y="2276640"/>
            <a:chExt cx="8585640" cy="942840"/>
          </a:xfrm>
        </p:grpSpPr>
        <p:graphicFrame>
          <p:nvGraphicFramePr>
            <p:cNvPr id="55" name=""/>
            <p:cNvGraphicFramePr/>
            <p:nvPr/>
          </p:nvGraphicFramePr>
          <p:xfrm>
            <a:off x="1476360" y="2301840"/>
            <a:ext cx="2403360" cy="449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76360" y="2301840"/>
                      <a:ext cx="2403360" cy="44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" name=""/>
            <p:cNvSpPr/>
            <p:nvPr/>
          </p:nvSpPr>
          <p:spPr>
            <a:xfrm>
              <a:off x="3930480" y="2276640"/>
              <a:ext cx="5194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Az a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Arial"/>
                </a:rPr>
                <a:t>i0j0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elem akkor és csak akkor nyeregpont, h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8" name=""/>
            <p:cNvGraphicFramePr/>
            <p:nvPr/>
          </p:nvGraphicFramePr>
          <p:xfrm>
            <a:off x="2700360" y="2779920"/>
            <a:ext cx="2616120" cy="439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700360" y="2779920"/>
                      <a:ext cx="261612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" name=""/>
            <p:cNvSpPr/>
            <p:nvPr/>
          </p:nvSpPr>
          <p:spPr>
            <a:xfrm>
              <a:off x="539640" y="2276640"/>
              <a:ext cx="93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Legy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520920" y="1719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Állítá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7760" y="3716280"/>
            <a:ext cx="65368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mus vázl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szlopmaximumok minimumának meghatározás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egfelelő sorminimumok megkeresése a sorok vizsgálatá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B3AE-79F9-4CED-905E-D4D1EB6254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26920" y="0"/>
            <a:ext cx="78440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Mátrix nyeregpontjának meghatároz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70028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lgoritmu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NY1 [Inicializálás] OSZLOP </a:t>
            </a:r>
            <a:r>
              <a:rPr b="0" lang="hu-HU" sz="1400" spc="-1" strike="noStrike">
                <a:solidFill>
                  <a:srgbClr val="ff0000"/>
                </a:solidFill>
                <a:latin typeface="Arial"/>
                <a:ea typeface="Arial"/>
              </a:rPr>
              <a:t>← 1, OMAXMIN ← MAX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NY2 [Oszlop maximum megkeresése] Legyen OMAX[OSZLOP] </a:t>
            </a:r>
            <a:r>
              <a:rPr b="0" lang="hu-HU" sz="1400" spc="-1" strike="noStrike">
                <a:solidFill>
                  <a:srgbClr val="ff0000"/>
                </a:solidFill>
                <a:latin typeface="Arial"/>
                <a:ea typeface="Arial"/>
              </a:rPr>
              <a:t>← MAX(M[I,OSZLOP], I=1,2,…,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NY3 [Ellenőrzés] Ha OMAXMIN &gt; OMAX[OSZLOP] akkor legyen OMAXMIN </a:t>
            </a:r>
            <a:r>
              <a:rPr b="0" lang="hu-HU" sz="1400" spc="-1" strike="noStrike">
                <a:solidFill>
                  <a:srgbClr val="ff0000"/>
                </a:solidFill>
                <a:latin typeface="Arial"/>
                <a:ea typeface="Arial"/>
              </a:rPr>
              <a:t>← </a:t>
            </a: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OMAX[OSZLOP]</a:t>
            </a:r>
            <a:r>
              <a:rPr b="0" lang="hu-HU" sz="14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NY4 [Következő oszlop vizsgálata] OSZLOP </a:t>
            </a:r>
            <a:r>
              <a:rPr b="0" lang="hu-HU" sz="1400" spc="-1" strike="noStrike">
                <a:solidFill>
                  <a:srgbClr val="ff0000"/>
                </a:solidFill>
                <a:latin typeface="Arial"/>
                <a:ea typeface="Arial"/>
              </a:rPr>
              <a:t>← OSZLOP +1. Ha OSZLOP ≤N, akkor menjünk az NY2 lépés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NY5 [Sorvizsgálat inicializálása] SOR </a:t>
            </a:r>
            <a:r>
              <a:rPr b="0" lang="hu-HU" sz="1400" spc="-1" strike="noStrike">
                <a:solidFill>
                  <a:srgbClr val="ff0000"/>
                </a:solidFill>
                <a:latin typeface="Arial"/>
                <a:ea typeface="Arial"/>
              </a:rPr>
              <a:t>←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NY6 [Adott sor vizsgálatának inicializálása] OSZLOP </a:t>
            </a:r>
            <a:r>
              <a:rPr b="0" lang="hu-HU" sz="1400" spc="-1" strike="noStrike">
                <a:solidFill>
                  <a:srgbClr val="ff0000"/>
                </a:solidFill>
                <a:latin typeface="Arial"/>
                <a:ea typeface="Arial"/>
              </a:rPr>
              <a:t>← 1, NYI ←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NY7 [Elem vizsgálata] Ha M[SOR,OSZLOP] &lt; OMAXMIN akkor menjünk az NY11 lépésre</a:t>
            </a:r>
            <a:r>
              <a:rPr b="0" lang="hu-HU" sz="14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Arial"/>
                <a:ea typeface="Arial"/>
              </a:rPr>
              <a:t>NY8 </a:t>
            </a: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[Nyeregpont jelölt-e?] HA M[SOR,OSZLOP] = OMAXMIN és M[SOR,OSZLOP] = OMAX[OSZLOP] akkor </a:t>
            </a:r>
            <a:r>
              <a:rPr b="0" lang="hu-HU" sz="1400" spc="-1" strike="noStrike">
                <a:solidFill>
                  <a:srgbClr val="ff0000"/>
                </a:solidFill>
                <a:latin typeface="Arial"/>
                <a:ea typeface="Arial"/>
              </a:rPr>
              <a:t>NYITAR[NYI] ← OSZLOP, </a:t>
            </a: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NYI </a:t>
            </a:r>
            <a:r>
              <a:rPr b="0" lang="hu-HU" sz="1400" spc="-1" strike="noStrike">
                <a:solidFill>
                  <a:srgbClr val="ff0000"/>
                </a:solidFill>
                <a:latin typeface="Arial"/>
                <a:ea typeface="Arial"/>
              </a:rPr>
              <a:t>← NYI + 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NY9 [Sor vizsgálata kész?] OSZLOP </a:t>
            </a:r>
            <a:r>
              <a:rPr b="0" lang="hu-HU" sz="1400" spc="-1" strike="noStrike">
                <a:solidFill>
                  <a:srgbClr val="ff0000"/>
                </a:solidFill>
                <a:latin typeface="Arial"/>
                <a:ea typeface="Arial"/>
              </a:rPr>
              <a:t>← OSZLOP + 1. Ha OSZLOP ≤N, akkor menjünk az NY7 lépés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NY10 [Megvannak a nyeregpontok] Írjuk ki az NYI db nyeregpontot a NYITAR tömbből</a:t>
            </a:r>
            <a:r>
              <a:rPr b="0" lang="hu-HU" sz="14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NY11 [Sorvizsgálat kész?] SOR </a:t>
            </a:r>
            <a:r>
              <a:rPr b="0" lang="hu-HU" sz="1400" spc="-1" strike="noStrike">
                <a:solidFill>
                  <a:srgbClr val="ff0000"/>
                </a:solidFill>
                <a:latin typeface="Arial"/>
                <a:ea typeface="Arial"/>
              </a:rPr>
              <a:t>← SOR + 1. Ha SOR ≤M, akkor menjünk az NY6 lépés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D94E-CC81-45A3-9D51-AAE75C5F81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Mátrix nyeregpontjának meghatározá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ROGRAM NYEREGPO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CONST N=3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TYPE INDEX=0..N+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ATRIX=ARRAY[1..N,1..N] OF INTEG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NYILISTA=ARRAY[1..N] OF INDEX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AXLISTA=ARRAY[1..N] OF INTEG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VAR   M:MATRIX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OM:MAXLIS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I,J:INDEX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FUNCTION OSZLOPMAX(OSZLOP:INDEX):INTEG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VAR I:INDEX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OMAX:INTEG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OMAX := M[1,OSZLOP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FOR I:=2 TO N 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IF M[I,OSZLOP] &gt; OMAX TH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OMAX := M[I,OSZLOP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OSZLOPMAX := OMAX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EN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FUNCTION OSZLOPMAXMIN:INTEG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VAR OMAXMIN,R:INTEG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OSZLOP:INDEX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OMAXMIN := MAXI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FOR OSZLOP:=1 TO N 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OM[OSZLOP]:=OSZLOPMAX(OSZLOP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IF OMAXMIN &gt; OM[OSZLOP] THEN OMAXMIN := OM[OSZLOP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EN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OSZLOPMAXMIN := OMAXMIN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EN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069C-3BA1-40DF-9403-1DBB8D460C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Mátrix nyeregpontjának meghatározá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ROCEDURE SORVIZSGALA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VAR SOR,OSZLOP,I:INDEX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OMAXMIN:INTEG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NYI:INDEX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NYITAR:NYILIS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OMAXMIN:=OSZLOPMAXMIN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FOR SOR := 1 TO N 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OSZLOP := 1; NYI :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WHILE ( M[SOR,OSZLOP] &gt;= OMAXMIN ) AND ( OSZLOP &lt;= N ) 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IF  ( M[SOR,OSZLOP] = OM[OSZLOP] )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( M[SOR,OSZLOP] = OMAXMIN ) TH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NYI := NYI + 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NYITAR[NYI] := OSZLOP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EN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OSZLOP := OSZLOP + 1 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EN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IF OSZLOP = N + 1 TH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FOR I := 1 TO NYI 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WRITELN('M[',SOR,',',NYITAR[I],']=',OMAXMIN:4: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EN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EN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FOR I:= 1 TO N 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FOR J:= 1 TO N 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AD(M[I,J]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ADLN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EN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ORVIZSGALA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E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6E47-EBC2-4F18-92BA-99F1F1C047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7:49:32Z</dcterms:created>
  <dc:creator>bekesi</dc:creator>
  <dc:description/>
  <dc:language>en-US</dc:language>
  <cp:lastModifiedBy>BJ</cp:lastModifiedBy>
  <dcterms:modified xsi:type="dcterms:W3CDTF">2004-11-28T18:31:22Z</dcterms:modified>
  <cp:revision>111</cp:revision>
  <dc:subject/>
  <dc:title>Példa gépi kódra</dc:title>
</cp:coreProperties>
</file>