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322C-8415-49C2-BDFC-98F49E94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6DB3-CB2C-453E-B9B5-F1DF226F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50A-7E28-4C4F-8BE8-5AC91C88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D8FC-B250-4979-9897-E54883CA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79FA-896E-43DA-A421-AFD8CDE8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2D5-E2F0-45B8-82A6-262B106C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BE15-48F1-46A2-9BF1-EB850F96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794-B701-4CEC-97BC-9FDF0459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21F-CF1D-4DA7-851D-31C626C6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853-C887-4BAB-BF5C-8A7E7200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AB6-E91B-4448-B343-9438DB10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F6F6-E18C-4624-80B9-1B319DAB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A8A4-ADDF-4706-830E-B3975A60A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Szám beolvasása a bemenetrő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916280"/>
            <a:ext cx="82296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ad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Állítsunk össze egy INTEGER típusú számot a standard adatbeviteli berendezésről beolvasott számjegyekb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goritmu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1[Inicializálás]  sz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 0, jegy ← első számjegy érték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2[Számjegy feldolgozása] Legyen sz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 sz * 10 + je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3[Ismétlés] Legyen jegy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 következő számjegy értéke. Ha jegy a szám végét jelző érték akkor vége az algoritmusnak, egyébként visszatérünk az A2 lépés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D04-1BB5-461B-89AC-82C4DDF0DF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89000"/>
            <a:ext cx="78440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zám beolvasása a bemenetrő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2060640"/>
            <a:ext cx="828036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PROGRAM Beolv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Var Kar : Ch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  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Szam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BEG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Szam :=0; Read(K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Szam := Szam * 10 + Ord(Kar) – Ord(‘0’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Read(K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UNTIL (Kar &lt; ‘0’) Or (Kar &gt; ‘9’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Write(Sza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E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70D-15E0-4909-9A2F-4A52DDFEE6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26920" y="0"/>
            <a:ext cx="78440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zám beolvasása a bemenetről ellenőrzés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700280"/>
            <a:ext cx="8280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PROGRAM Beolv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Var Kar : Ch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  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Szam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  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Tulnagy :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BEG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Szam :=0; Read(K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IF Not Tulnag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BEGIN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        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Szam := Szam * 10 + Ord(Kar) – Ord(‘0’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        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Tulnagy  := Maxint DIV 10 &lt;= Sza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Read(K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UNTIL (Kar &lt; ‘0’) Or (Kar &gt; ‘9’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Write(Sza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E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FFBB-2439-41CA-BD88-CA301C27B3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49:32Z</dcterms:created>
  <dc:creator>bekesi</dc:creator>
  <dc:description/>
  <dc:language>en-US</dc:language>
  <cp:lastModifiedBy>bekesi</cp:lastModifiedBy>
  <dcterms:modified xsi:type="dcterms:W3CDTF">2004-11-10T15:36:31Z</dcterms:modified>
  <cp:revision>69</cp:revision>
  <dc:subject/>
  <dc:title>Példa gépi kódra</dc:title>
</cp:coreProperties>
</file>