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A58-46F0-4224-B988-15CC64CC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927-D1E6-42F8-A048-51BBD0C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EB8-1684-4DF1-AE96-1998D080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8C8-CA23-481C-9B6C-9DF5B9C8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941-E883-4BD1-8D23-4BC2FE5C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D00-344C-4EB8-B89F-3EE7BB9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4AC-4F4A-4F49-B47A-ED945A15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992-F7E7-4F44-B4B6-DA6E277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CA6-9C87-4EF0-BE62-E46ED84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C90-EBED-4D61-8AA2-986CE1F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5E7-7C3B-4E44-96F2-CCBF112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7C-E33F-4153-A699-E4D995F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0BF-7AD3-4E34-8EFB-284A67682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8436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Példa algoritmusok tervezésére lépésenkénti finomítás módszeré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ső 1000 prímszám táblázatának kinyomt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 „Nyomtasd ki az első 1000 prímszámo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B6F-0A46-4EE6-9D38-FD203B70A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47628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2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1. Var „p-tábláz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 „Töltsd fel a p-táblázatot az első 1000 prímszámmal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3. „Nyomtasd ki a p-táblázato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284640"/>
            <a:ext cx="73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2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1 Var „egész tömb p[1..1000]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 „Legyen p[k] egyenlő a k-adik prímszámmal minden k-ra 1-től 1000-ig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3. „Nyomtasd ki p[k]-t minden k-ra 1-től 1000-ig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D54-58CA-404F-B706-4CF874BBD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4130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3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1. Var k,j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2. j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3. For k:=3 To 1000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    „Növeld j-t a legközelebbi prímszámig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5.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  p[k] := 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012-8092-4FBD-A50A-4DA0A9C4D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49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4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1 Var jprim: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2. Rep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3.        j:=j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        „Add jprime-nek azt az értéket, hogy a j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prímszám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5.  Until jprim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24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2.4.3.        j:=j+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95E-06A5-4672-AC3B-4A5F4684AE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83664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5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1 „Határozzuk meg j-re ord értéké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2. Var n: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3.  n:=3; jprime :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4. While (n&lt;ord) and jprim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5.       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6.      „Add jprime-nek azt az értéket, hogy p[n]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nem osztója j-nek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7.       n:=n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231-8F03-4FE5-99F9-C018C8312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33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6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1.1 Var ord: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1.2. ord :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1.3. While (p[ord]^2 &lt;= j)  Do ord := ord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70828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6. sz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6.1 Var r: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6.2. „Legyen r j-nek a p[n]-nel való osztási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       maradék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6.3. jprime := (r &lt;&gt;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51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7. sz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.2.4.4.6.2.1. r :=j mod p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B72-8B6D-4262-B257-3CE5B6E91E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0"/>
            <a:ext cx="7993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rocedure pri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Var p : Array[1..1000] Of Intege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ord,k,j,r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jprime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j := 1; ord  := 1 ; p[1]:=1; p[2]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r k := 3 To 1000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j := j+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While p[ord]^2 &lt;= j Do ord := ord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n := 3 ; jprime :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While (n &lt; ord) And jprim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r := j Mod p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jprime := (r &lt;&g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n := n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Until jpr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[k] := 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nd;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A5F-2274-4D9E-AA74-A0F711B67E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49:32Z</dcterms:created>
  <dc:creator>bekesi</dc:creator>
  <dc:description/>
  <dc:language>en-US</dc:language>
  <cp:lastModifiedBy>bekesi</cp:lastModifiedBy>
  <dcterms:modified xsi:type="dcterms:W3CDTF">2005-01-18T13:25:08Z</dcterms:modified>
  <cp:revision>47</cp:revision>
  <dc:subject/>
  <dc:title>Példa gépi kódra</dc:title>
</cp:coreProperties>
</file>