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D64-FE6A-4618-8C30-19B3F97B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333-4F6F-4787-8D0D-04F0C866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D8D-98CB-4630-A133-C7595E24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0FF-7A9F-4445-B722-A96D99B8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9779-F88A-47A3-B0AB-2A5CE077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AB1C-70A3-4609-88A9-6DEC2F8B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EED9-8168-42C8-BC63-93C8385C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3A8B-3E1B-4AEF-B730-638BE342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940A-2EEA-43F1-9540-A6EA6302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F64B-71D0-4682-AB27-1DB7FF43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EE84-36C5-43E7-8989-15F3E2DB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C5D-80EE-41D0-B7CA-2A9626FF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8B96-1047-4B4D-B0E5-AFBAA8B2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3DBC-0B48-47DF-B4F9-2DEA3D00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C03D-DB94-4CEA-B525-F9E808FC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8633-15AC-4683-BCC8-BEE09A5B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EE76-7A58-4201-80C8-7512595D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AE1-EDF9-4087-A6D1-43343809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3C6-E673-4E57-9A86-D2C91FD8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E73-A6FC-4056-B9DE-99D5CD51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D9D-50D9-42F7-867D-E5E6CB2F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15A-055F-437A-8D51-76FFF4B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43B-3BBF-4830-8C45-AE2BA985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8E7-CF75-4D53-9EEA-46E107CB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8C75-9371-4023-892D-5A2D00A55FC0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1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93F1-DE27-497F-9725-B308DE80D5B1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A701-DC25-4CB8-AE7E-898201A71194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1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524C-8D68-4C92-B567-178D18163F28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Arial"/>
              </a:rPr>
              <a:t>Számítógépes Grafika</a:t>
            </a:r>
            <a:br>
              <a:rPr sz="4400"/>
            </a:b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Geometriai Transzformáció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9000" y="2338560"/>
            <a:ext cx="36576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 u="sng">
                <a:solidFill>
                  <a:srgbClr val="ff0033"/>
                </a:solidFill>
                <a:uFillTx/>
                <a:latin typeface="Times New Roman"/>
              </a:rPr>
              <a:t>Előadó</a:t>
            </a:r>
            <a:r>
              <a:rPr b="0" lang="hu-HU" sz="3200" spc="-1" strike="noStrike">
                <a:solidFill>
                  <a:srgbClr val="ff0033"/>
                </a:solidFill>
                <a:latin typeface="Times New Roman"/>
              </a:rPr>
              <a:t>: Kuba Att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1000" y="5904000"/>
            <a:ext cx="450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Készítette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: Horváth Tam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BD6B-6766-48EF-BB4A-DD01F4726E0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5D3B8D-CDFE-419C-BDF0-3E00EFFE30AB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2D skálázás</a:t>
            </a:r>
            <a:r>
              <a:rPr b="1" lang="hu-HU" sz="4400" spc="-1" strike="noStrike">
                <a:solidFill>
                  <a:srgbClr val="ffcc66"/>
                </a:solidFill>
                <a:latin typeface="Arial"/>
              </a:rPr>
              <a:t> - matematikaila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4803840" cy="1524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1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91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hu-HU" sz="91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u-HU" sz="8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91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91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9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37960" y="1027080"/>
            <a:ext cx="47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1143000"/>
            <a:ext cx="1600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0  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0   s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0    0   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8520" y="1066680"/>
            <a:ext cx="35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1424160"/>
            <a:ext cx="319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’ = S(s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s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7040" y="2971800"/>
            <a:ext cx="88869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’ = S(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x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y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·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 ,   P’’= S(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x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y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·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’ = S(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x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y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·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S(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x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y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·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4640" y="2381400"/>
            <a:ext cx="35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smételt skálázáso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2400" y="3581280"/>
            <a:ext cx="34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átrixokkal felír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54160" y="4057560"/>
            <a:ext cx="7899120" cy="1916280"/>
            <a:chOff x="254160" y="4057560"/>
            <a:chExt cx="7899120" cy="1916280"/>
          </a:xfrm>
        </p:grpSpPr>
        <p:sp>
          <p:nvSpPr>
            <p:cNvPr id="239" name=""/>
            <p:cNvSpPr/>
            <p:nvPr/>
          </p:nvSpPr>
          <p:spPr>
            <a:xfrm>
              <a:off x="254160" y="4057560"/>
              <a:ext cx="789912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hu-HU" sz="4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)(  </a:t>
              </a:r>
              <a:r>
                <a:rPr b="0" lang="hu-HU" sz="6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 )</a:t>
              </a:r>
              <a:r>
                <a:rPr b="0" lang="hu-HU" sz="7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hu-HU" sz="54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360" y="4272120"/>
              <a:ext cx="1600200" cy="12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hu-HU" sz="2300" spc="-1" strike="noStrike" baseline="-25000">
                  <a:solidFill>
                    <a:srgbClr val="ffffff"/>
                  </a:solidFill>
                  <a:latin typeface="Times New Roman"/>
                </a:rPr>
                <a:t>x2</a:t>
              </a: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  0     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0    s</a:t>
              </a:r>
              <a:r>
                <a:rPr b="1" lang="hu-HU" sz="2300" spc="-1" strike="noStrike" baseline="-25000">
                  <a:solidFill>
                    <a:srgbClr val="ffffff"/>
                  </a:solidFill>
                  <a:latin typeface="Times New Roman"/>
                </a:rPr>
                <a:t>y2  </a:t>
              </a: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  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0033"/>
                  </a:solidFill>
                  <a:latin typeface="Times New Roman"/>
                </a:rPr>
                <a:t>0     0    1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67160" y="4259160"/>
              <a:ext cx="1600200" cy="12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hu-HU" sz="2300" spc="-1" strike="noStrike" baseline="-25000">
                  <a:solidFill>
                    <a:srgbClr val="ffffff"/>
                  </a:solidFill>
                  <a:latin typeface="Times New Roman"/>
                </a:rPr>
                <a:t>x1</a:t>
              </a: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  0   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0   s</a:t>
              </a:r>
              <a:r>
                <a:rPr b="1" lang="hu-HU" sz="2300" spc="-1" strike="noStrike" baseline="-25000">
                  <a:solidFill>
                    <a:srgbClr val="ffffff"/>
                  </a:solidFill>
                  <a:latin typeface="Times New Roman"/>
                </a:rPr>
                <a:t>y1</a:t>
              </a: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  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0033"/>
                  </a:solidFill>
                  <a:latin typeface="Times New Roman"/>
                </a:rPr>
                <a:t>0    0    1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94280" y="4357800"/>
              <a:ext cx="3006720" cy="12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hu-HU" sz="2300" spc="-1" strike="noStrike" baseline="-25000">
                  <a:solidFill>
                    <a:srgbClr val="ffffff"/>
                  </a:solidFill>
                  <a:latin typeface="Times New Roman"/>
                </a:rPr>
                <a:t>x1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· </a:t>
              </a: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hu-HU" sz="2300" spc="-1" strike="noStrike" baseline="-25000">
                  <a:solidFill>
                    <a:srgbClr val="ffffff"/>
                  </a:solidFill>
                  <a:latin typeface="Times New Roman"/>
                </a:rPr>
                <a:t>x2  </a:t>
              </a: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      0         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0        s</a:t>
              </a:r>
              <a:r>
                <a:rPr b="1" lang="hu-HU" sz="2300" spc="-1" strike="noStrike" baseline="-25000">
                  <a:solidFill>
                    <a:srgbClr val="ffffff"/>
                  </a:solidFill>
                  <a:latin typeface="Times New Roman"/>
                </a:rPr>
                <a:t>x1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· </a:t>
              </a: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hu-HU" sz="2300" spc="-1" strike="noStrike" baseline="-25000">
                  <a:solidFill>
                    <a:srgbClr val="ffffff"/>
                  </a:solidFill>
                  <a:latin typeface="Times New Roman"/>
                </a:rPr>
                <a:t>y2</a:t>
              </a: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     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0033"/>
                  </a:solidFill>
                  <a:latin typeface="Times New Roman"/>
                </a:rPr>
                <a:t>    </a:t>
              </a:r>
              <a:r>
                <a:rPr b="1" lang="hu-HU" sz="2300" spc="-1" strike="noStrike">
                  <a:solidFill>
                    <a:srgbClr val="ff0033"/>
                  </a:solidFill>
                  <a:latin typeface="Times New Roman"/>
                </a:rPr>
                <a:t>0            0         1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41760" y="5394240"/>
              <a:ext cx="420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ffffff"/>
                  </a:solidFill>
                  <a:latin typeface="Times New Roman"/>
                </a:rPr>
                <a:t>=S(s</a:t>
              </a:r>
              <a:r>
                <a:rPr b="0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x1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· </a:t>
              </a:r>
              <a:r>
                <a:rPr b="0" lang="hu-HU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x2</a:t>
              </a:r>
              <a:r>
                <a:rPr b="0" lang="hu-HU" sz="2800" spc="-1" strike="noStrike">
                  <a:solidFill>
                    <a:srgbClr val="ffffff"/>
                  </a:solidFill>
                  <a:latin typeface="Times New Roman"/>
                </a:rPr>
                <a:t>, s</a:t>
              </a:r>
              <a:r>
                <a:rPr b="0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y1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· </a:t>
              </a:r>
              <a:r>
                <a:rPr b="0" lang="hu-HU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y2</a:t>
              </a:r>
              <a:r>
                <a:rPr b="0" lang="hu-HU" sz="2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· </a:t>
              </a:r>
              <a:r>
                <a:rPr b="0" lang="hu-HU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 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11B-1557-42BE-BAB7-9951BF586B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EB624-F56A-4248-BA40-954C080644FA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8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2D forgatás</a:t>
            </a:r>
            <a:r>
              <a:rPr b="1" lang="hu-HU" sz="4400" spc="-1" strike="noStrike">
                <a:solidFill>
                  <a:srgbClr val="ffcc66"/>
                </a:solidFill>
                <a:latin typeface="Arial"/>
              </a:rPr>
              <a:t> - matematikaila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5960" y="148716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1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91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hu-HU" sz="91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u-HU" sz="8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hu-HU" sz="91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u-HU" sz="91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9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8120" y="1447920"/>
            <a:ext cx="47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92480" y="1563840"/>
            <a:ext cx="266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-sin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cos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0          0      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94320" y="1563840"/>
            <a:ext cx="35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7280" y="1716120"/>
            <a:ext cx="249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’=R(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R(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ortogoná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3560" y="3143160"/>
            <a:ext cx="35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smételt forgatáso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7040" y="3733920"/>
            <a:ext cx="888696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P’ = R(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P ,   P’’= R(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P’ = R(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 R(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P = R(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3280" y="472428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imes New Roman"/>
              </a:rPr>
              <a:t>(Bizonyítás: Házi Felada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449-9B80-491F-AA9A-4228F441BF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1E088-FA34-4A09-9707-7E6869B2B308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80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cc66"/>
                </a:solidFill>
                <a:uFillTx/>
                <a:latin typeface="Arial"/>
              </a:rPr>
              <a:t>2D nyírás</a:t>
            </a:r>
            <a:r>
              <a:rPr b="1" lang="hu-HU" sz="4000" spc="-1" strike="noStrike">
                <a:solidFill>
                  <a:srgbClr val="ffcc66"/>
                </a:solidFill>
                <a:latin typeface="Arial"/>
              </a:rPr>
              <a:t> - affin transzformációk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2560" y="1219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árhuzamos egyenesek képe párhuz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hosszak és a szögek változatlano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Pl: eltolások, nagyítások, és forgatások tetszőleges számú és sorrendű egymás utáni alkalmazásával kapott traf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agy 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nyírás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41080" y="3657600"/>
            <a:ext cx="2814480" cy="1434600"/>
            <a:chOff x="541080" y="3657600"/>
            <a:chExt cx="2814480" cy="1434600"/>
          </a:xfrm>
        </p:grpSpPr>
        <p:sp>
          <p:nvSpPr>
            <p:cNvPr id="256" name=""/>
            <p:cNvSpPr/>
            <p:nvPr/>
          </p:nvSpPr>
          <p:spPr>
            <a:xfrm>
              <a:off x="1311120" y="3657600"/>
              <a:ext cx="2044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800" spc="-1" strike="noStrike">
                  <a:solidFill>
                    <a:srgbClr val="ffffff"/>
                  </a:solidFill>
                  <a:latin typeface="Times New Roman"/>
                </a:rPr>
                <a:t>(    )</a:t>
              </a:r>
              <a:endParaRPr b="0" lang="en-US" sz="8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1080" y="4232160"/>
              <a:ext cx="84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H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93440" y="3886200"/>
              <a:ext cx="124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1    a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 1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0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436560" y="3657600"/>
            <a:ext cx="2967480" cy="1434600"/>
            <a:chOff x="3436560" y="3657600"/>
            <a:chExt cx="2967480" cy="1434600"/>
          </a:xfrm>
        </p:grpSpPr>
        <p:sp>
          <p:nvSpPr>
            <p:cNvPr id="260" name=""/>
            <p:cNvSpPr/>
            <p:nvPr/>
          </p:nvSpPr>
          <p:spPr>
            <a:xfrm>
              <a:off x="4359240" y="3657600"/>
              <a:ext cx="2044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800" spc="-1" strike="noStrike">
                  <a:solidFill>
                    <a:srgbClr val="ffffff"/>
                  </a:solidFill>
                  <a:latin typeface="Times New Roman"/>
                </a:rPr>
                <a:t>(    )</a:t>
              </a:r>
              <a:endParaRPr b="0" lang="en-US" sz="8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36560" y="4267080"/>
              <a:ext cx="100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, SH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42280" y="3886200"/>
              <a:ext cx="1264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1    0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b    1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0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83040" y="4800600"/>
            <a:ext cx="637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800" spc="-1" strike="noStrike">
                <a:solidFill>
                  <a:srgbClr val="ffffff"/>
                </a:solidFill>
                <a:latin typeface="Times New Roman"/>
              </a:rPr>
              <a:t>( )</a:t>
            </a:r>
            <a:r>
              <a:rPr b="0" lang="hu-HU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hu-HU" sz="8800" spc="-1" strike="noStrike">
                <a:solidFill>
                  <a:srgbClr val="ffffff"/>
                </a:solidFill>
                <a:latin typeface="Times New Roman"/>
              </a:rPr>
              <a:t>(    )(</a:t>
            </a:r>
            <a:r>
              <a:rPr b="0" lang="hu-H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8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u-HU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hu-HU" sz="8800" spc="-1" strike="noStrike">
                <a:solidFill>
                  <a:srgbClr val="ffffff"/>
                </a:solidFill>
                <a:latin typeface="Times New Roman"/>
              </a:rPr>
              <a:t>(   )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3560" y="4952880"/>
            <a:ext cx="47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495288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   a  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0   1  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0   0   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9920" y="4952880"/>
            <a:ext cx="35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22240" y="495288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x+a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010280" y="3162240"/>
            <a:ext cx="1755720" cy="1447920"/>
            <a:chOff x="7010280" y="3162240"/>
            <a:chExt cx="1755720" cy="1447920"/>
          </a:xfrm>
        </p:grpSpPr>
        <p:sp>
          <p:nvSpPr>
            <p:cNvPr id="269" name=""/>
            <p:cNvSpPr/>
            <p:nvPr/>
          </p:nvSpPr>
          <p:spPr>
            <a:xfrm flipV="1">
              <a:off x="7010280" y="316224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10280" y="4610160"/>
              <a:ext cx="1755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7010280" y="3619440"/>
              <a:ext cx="457200" cy="990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997760" y="3619440"/>
              <a:ext cx="457200" cy="990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50240" y="4610160"/>
              <a:ext cx="947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67480" y="3619440"/>
              <a:ext cx="9874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76480" y="3965400"/>
              <a:ext cx="65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SH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010280" y="4786200"/>
            <a:ext cx="1755720" cy="1447920"/>
            <a:chOff x="7010280" y="4786200"/>
            <a:chExt cx="1755720" cy="1447920"/>
          </a:xfrm>
        </p:grpSpPr>
        <p:sp>
          <p:nvSpPr>
            <p:cNvPr id="277" name=""/>
            <p:cNvSpPr/>
            <p:nvPr/>
          </p:nvSpPr>
          <p:spPr>
            <a:xfrm flipV="1">
              <a:off x="7010280" y="47862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10280" y="6234120"/>
              <a:ext cx="1755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143920" y="5090760"/>
              <a:ext cx="0" cy="80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050240" y="5893920"/>
              <a:ext cx="1093680" cy="304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050240" y="5090760"/>
              <a:ext cx="1093680" cy="304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21680" y="5396040"/>
              <a:ext cx="67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SH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050240" y="5395680"/>
              <a:ext cx="0" cy="80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B21-2CCA-4B5A-BA5A-B309800A2C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AE175-F120-4543-8FE4-AC077E512EE1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8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cc66"/>
                </a:solidFill>
                <a:uFillTx/>
                <a:latin typeface="Arial"/>
              </a:rPr>
              <a:t>2D trafók kompozíciója</a:t>
            </a:r>
            <a:r>
              <a:rPr b="1" lang="hu-HU" sz="3600" spc="-1" strike="noStrike">
                <a:solidFill>
                  <a:srgbClr val="ffcc66"/>
                </a:solidFill>
                <a:latin typeface="Arial"/>
              </a:rPr>
              <a:t> - 1. péld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256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orgatás 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val egy tetszőleges 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pont körü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Lépése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) eltolás 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ből O-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) forgatás (O körül)            (O = Origó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) eltolás O-ból 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-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120" y="3311640"/>
            <a:ext cx="79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imes New Roman"/>
              </a:rPr>
              <a:t>Azaz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:           T(x,y)      ·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      R(</a:t>
            </a:r>
            <a:r>
              <a:rPr b="1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             ·     T(-x,-y)     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17320" y="3591000"/>
            <a:ext cx="7044120" cy="2782080"/>
            <a:chOff x="1417320" y="3591000"/>
            <a:chExt cx="7044120" cy="2782080"/>
          </a:xfrm>
        </p:grpSpPr>
        <p:sp>
          <p:nvSpPr>
            <p:cNvPr id="288" name=""/>
            <p:cNvSpPr/>
            <p:nvPr/>
          </p:nvSpPr>
          <p:spPr>
            <a:xfrm>
              <a:off x="1417320" y="3591000"/>
              <a:ext cx="659520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800" spc="-1" strike="noStrike">
                  <a:solidFill>
                    <a:srgbClr val="ffffff"/>
                  </a:solidFill>
                  <a:latin typeface="Times New Roman"/>
                </a:rPr>
                <a:t>(    )(       )(    )</a:t>
              </a:r>
              <a:endParaRPr b="0" lang="en-US" sz="8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hu-HU" sz="8800" spc="-1" strike="noStrike">
                  <a:solidFill>
                    <a:srgbClr val="ffffff"/>
                  </a:solidFill>
                  <a:latin typeface="Times New Roman"/>
                </a:rPr>
                <a:t>(               )</a:t>
              </a:r>
              <a:endParaRPr b="0" lang="en-US" sz="8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30600" y="3772080"/>
              <a:ext cx="124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1    0    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 1   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0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58680" y="3765600"/>
              <a:ext cx="217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-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       0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23040" y="3772080"/>
              <a:ext cx="134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1    0    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 1    -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0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81080" y="5181840"/>
              <a:ext cx="491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-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x · (1-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)+y · 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 y · (1-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)-x · 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   </a:t>
              </a: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      0                 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48520" y="418968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5DF-7E63-4EA6-8E64-F64E8F9A4B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1860D-4DD0-4E64-AA6F-AF5FF7C0966D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8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cc66"/>
                </a:solidFill>
                <a:uFillTx/>
                <a:latin typeface="Arial"/>
              </a:rPr>
              <a:t>2D trafók kompozíciója</a:t>
            </a:r>
            <a:r>
              <a:rPr b="1" lang="hu-HU" sz="3600" spc="-1" strike="noStrike">
                <a:solidFill>
                  <a:srgbClr val="ffcc66"/>
                </a:solidFill>
                <a:latin typeface="Arial"/>
              </a:rPr>
              <a:t> - 2. péld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2560" y="129528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agyítás egy tetszőleges P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pontbó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(x,y)    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S(s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s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T(-x,-y)     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092600" y="2467080"/>
            <a:ext cx="6416280" cy="3475440"/>
            <a:chOff x="1092600" y="2467080"/>
            <a:chExt cx="6416280" cy="3475440"/>
          </a:xfrm>
        </p:grpSpPr>
        <p:sp>
          <p:nvSpPr>
            <p:cNvPr id="297" name=""/>
            <p:cNvSpPr/>
            <p:nvPr/>
          </p:nvSpPr>
          <p:spPr>
            <a:xfrm>
              <a:off x="1092600" y="2467080"/>
              <a:ext cx="575856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800" spc="-1" strike="noStrike">
                  <a:solidFill>
                    <a:srgbClr val="ffffff"/>
                  </a:solidFill>
                  <a:latin typeface="Times New Roman"/>
                </a:rPr>
                <a:t>(    )(    )(    )</a:t>
              </a:r>
              <a:endParaRPr b="0" lang="en-US" sz="8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8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hu-HU" sz="8800" spc="-1" strike="noStrike">
                  <a:solidFill>
                    <a:srgbClr val="ffffff"/>
                  </a:solidFill>
                  <a:latin typeface="Times New Roman"/>
                </a:rPr>
                <a:t>(       )</a:t>
              </a:r>
              <a:endParaRPr b="0" lang="en-US" sz="8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06960" y="2648160"/>
              <a:ext cx="124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1    0    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 1   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0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35400" y="2648160"/>
              <a:ext cx="14000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0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 s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 0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99120" y="2705040"/>
              <a:ext cx="134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1    0    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 1    -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0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43520" y="4019760"/>
              <a:ext cx="2266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x   0    x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· (1-sx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 sy   y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· (1-sy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 0 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96320" y="306540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483-D602-4518-A6EE-F6143FC0FD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91FD2-63A1-491F-AA82-CDB65F805255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cc66"/>
                </a:solidFill>
                <a:uFillTx/>
                <a:latin typeface="Arial"/>
              </a:rPr>
              <a:t>2D trafók kompozíciója</a:t>
            </a:r>
            <a:r>
              <a:rPr b="1" lang="hu-HU" sz="3600" spc="-1" strike="noStrike">
                <a:solidFill>
                  <a:srgbClr val="ffcc66"/>
                </a:solidFill>
                <a:latin typeface="Arial"/>
              </a:rPr>
              <a:t> - 3. példa /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2560" y="1294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ilág koord. rsz”                „Képernyő koord. rsz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289548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7560" y="2286000"/>
            <a:ext cx="925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raf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W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63920" y="1828800"/>
            <a:ext cx="3152160" cy="2364840"/>
            <a:chOff x="763920" y="1828800"/>
            <a:chExt cx="3152160" cy="2364840"/>
          </a:xfrm>
        </p:grpSpPr>
        <p:sp>
          <p:nvSpPr>
            <p:cNvPr id="308" name=""/>
            <p:cNvSpPr/>
            <p:nvPr/>
          </p:nvSpPr>
          <p:spPr>
            <a:xfrm flipV="1">
              <a:off x="1143000" y="19810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43000" y="3809880"/>
              <a:ext cx="266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392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3080" y="373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00200" y="2438280"/>
              <a:ext cx="1143000" cy="914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6000" y="1981080"/>
              <a:ext cx="144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(x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ax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 y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ax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10960" y="3200400"/>
              <a:ext cx="139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(x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 y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183280" y="1828800"/>
            <a:ext cx="3552840" cy="2364840"/>
            <a:chOff x="5183280" y="1828800"/>
            <a:chExt cx="3552840" cy="2364840"/>
          </a:xfrm>
        </p:grpSpPr>
        <p:sp>
          <p:nvSpPr>
            <p:cNvPr id="316" name=""/>
            <p:cNvSpPr/>
            <p:nvPr/>
          </p:nvSpPr>
          <p:spPr>
            <a:xfrm flipV="1">
              <a:off x="5562720" y="19810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62720" y="3809880"/>
              <a:ext cx="266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83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2800" y="373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62720" y="228600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15200" y="228600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7120" y="2438280"/>
              <a:ext cx="685800" cy="762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63800" y="2286000"/>
              <a:ext cx="137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(u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ax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v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ax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82960" y="3124080"/>
              <a:ext cx="131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(u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v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22240" y="4003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épése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5257800"/>
            <a:ext cx="609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53341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5334120"/>
            <a:ext cx="609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43360" y="461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660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0260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19120" y="4384800"/>
            <a:ext cx="1552320" cy="1983600"/>
            <a:chOff x="519120" y="4384800"/>
            <a:chExt cx="1552320" cy="1983600"/>
          </a:xfrm>
        </p:grpSpPr>
        <p:sp>
          <p:nvSpPr>
            <p:cNvPr id="333" name=""/>
            <p:cNvSpPr/>
            <p:nvPr/>
          </p:nvSpPr>
          <p:spPr>
            <a:xfrm flipV="1">
              <a:off x="533520" y="46483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3520" y="5943600"/>
              <a:ext cx="144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38440" y="590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9120" y="438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14400" y="4952880"/>
              <a:ext cx="685800" cy="533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729160" y="4384800"/>
            <a:ext cx="1551960" cy="1983600"/>
            <a:chOff x="2729160" y="4384800"/>
            <a:chExt cx="1551960" cy="1983600"/>
          </a:xfrm>
        </p:grpSpPr>
        <p:sp>
          <p:nvSpPr>
            <p:cNvPr id="339" name=""/>
            <p:cNvSpPr/>
            <p:nvPr/>
          </p:nvSpPr>
          <p:spPr>
            <a:xfrm flipV="1">
              <a:off x="2743200" y="46483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5943600"/>
              <a:ext cx="144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48120" y="590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29160" y="438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410080"/>
              <a:ext cx="685800" cy="533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62520" y="4384800"/>
            <a:ext cx="1552320" cy="1983600"/>
            <a:chOff x="4862520" y="4384800"/>
            <a:chExt cx="1552320" cy="1983600"/>
          </a:xfrm>
        </p:grpSpPr>
        <p:sp>
          <p:nvSpPr>
            <p:cNvPr id="345" name=""/>
            <p:cNvSpPr/>
            <p:nvPr/>
          </p:nvSpPr>
          <p:spPr>
            <a:xfrm flipV="1">
              <a:off x="4876920" y="46483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5943600"/>
              <a:ext cx="144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81840" y="590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62520" y="438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76920" y="5257800"/>
              <a:ext cx="304560" cy="6858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148520" y="4384800"/>
            <a:ext cx="1552320" cy="1983600"/>
            <a:chOff x="7148520" y="4384800"/>
            <a:chExt cx="1552320" cy="1983600"/>
          </a:xfrm>
        </p:grpSpPr>
        <p:sp>
          <p:nvSpPr>
            <p:cNvPr id="351" name=""/>
            <p:cNvSpPr/>
            <p:nvPr/>
          </p:nvSpPr>
          <p:spPr>
            <a:xfrm flipV="1">
              <a:off x="7162920" y="46483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5943600"/>
              <a:ext cx="144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67840" y="590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48520" y="438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2920" y="502920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29600" y="502920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72400" y="5105520"/>
              <a:ext cx="304920" cy="6858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C1D-A84F-48D3-9171-458101A131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5D39F-BE5E-49A9-9A87-C419D24F95F8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cc66"/>
                </a:solidFill>
                <a:uFillTx/>
                <a:latin typeface="Arial"/>
              </a:rPr>
              <a:t>2D trafók kompozíciója</a:t>
            </a:r>
            <a:r>
              <a:rPr b="1" lang="hu-HU" sz="3600" spc="-1" strike="noStrike">
                <a:solidFill>
                  <a:srgbClr val="ffcc66"/>
                </a:solidFill>
                <a:latin typeface="Arial"/>
              </a:rPr>
              <a:t> - 3. példa /2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256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WV=T(u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v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hu-HU" sz="6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hu-HU" sz="6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(-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-y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724280" y="1219320"/>
            <a:ext cx="1882800" cy="1116720"/>
            <a:chOff x="4724280" y="1219320"/>
            <a:chExt cx="1882800" cy="1116720"/>
          </a:xfrm>
        </p:grpSpPr>
        <p:sp>
          <p:nvSpPr>
            <p:cNvPr id="361" name=""/>
            <p:cNvSpPr/>
            <p:nvPr/>
          </p:nvSpPr>
          <p:spPr>
            <a:xfrm>
              <a:off x="4724280" y="182880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24280" y="1219320"/>
              <a:ext cx="18828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ax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-u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ax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-x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172200" y="1219320"/>
            <a:ext cx="1882800" cy="1116720"/>
            <a:chOff x="6172200" y="1219320"/>
            <a:chExt cx="1882800" cy="1116720"/>
          </a:xfrm>
        </p:grpSpPr>
        <p:sp>
          <p:nvSpPr>
            <p:cNvPr id="364" name=""/>
            <p:cNvSpPr/>
            <p:nvPr/>
          </p:nvSpPr>
          <p:spPr>
            <a:xfrm>
              <a:off x="6248520" y="1828800"/>
              <a:ext cx="121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72200" y="1219320"/>
              <a:ext cx="18828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ax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-v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ax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-y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021360" y="1523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200" y="3352680"/>
            <a:ext cx="2209680" cy="1743480"/>
            <a:chOff x="457200" y="3352680"/>
            <a:chExt cx="2209680" cy="1743480"/>
          </a:xfrm>
        </p:grpSpPr>
        <p:sp>
          <p:nvSpPr>
            <p:cNvPr id="368" name=""/>
            <p:cNvSpPr/>
            <p:nvPr/>
          </p:nvSpPr>
          <p:spPr>
            <a:xfrm>
              <a:off x="517680" y="3394080"/>
              <a:ext cx="2149200" cy="17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1   0    u</a:t>
              </a:r>
              <a:r>
                <a:rPr b="1" lang="hu-HU" sz="20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0   1    v</a:t>
              </a:r>
              <a:r>
                <a:rPr b="1" lang="hu-HU" sz="20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0033"/>
                  </a:solidFill>
                  <a:latin typeface="Times New Roman"/>
                </a:rPr>
                <a:t>0   0      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200" y="3352680"/>
              <a:ext cx="76320" cy="1676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352680"/>
              <a:ext cx="76320" cy="1676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209680" y="2971800"/>
            <a:ext cx="4496040" cy="2082960"/>
            <a:chOff x="2209680" y="2971800"/>
            <a:chExt cx="4496040" cy="2082960"/>
          </a:xfrm>
        </p:grpSpPr>
        <p:sp>
          <p:nvSpPr>
            <p:cNvPr id="372" name=""/>
            <p:cNvSpPr/>
            <p:nvPr/>
          </p:nvSpPr>
          <p:spPr>
            <a:xfrm>
              <a:off x="2286000" y="3352680"/>
              <a:ext cx="4419720" cy="17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                              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0                u</a:t>
              </a:r>
              <a:r>
                <a:rPr b="1" lang="hu-HU" sz="20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0                                   v</a:t>
              </a:r>
              <a:r>
                <a:rPr b="1" lang="hu-HU" sz="20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0033"/>
                  </a:solidFill>
                  <a:latin typeface="Times New Roman"/>
                </a:rPr>
                <a:t>            </a:t>
              </a:r>
              <a:r>
                <a:rPr b="1" lang="hu-HU" sz="2000" spc="-1" strike="noStrike">
                  <a:solidFill>
                    <a:srgbClr val="ff0033"/>
                  </a:solidFill>
                  <a:latin typeface="Times New Roman"/>
                </a:rPr>
                <a:t>0                  0                  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09680" y="3352680"/>
              <a:ext cx="76320" cy="1676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95880" y="3352680"/>
              <a:ext cx="76320" cy="1676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438280" y="2971800"/>
              <a:ext cx="1882800" cy="1116720"/>
              <a:chOff x="2438280" y="2971800"/>
              <a:chExt cx="1882800" cy="1116720"/>
            </a:xfrm>
          </p:grpSpPr>
          <p:sp>
            <p:nvSpPr>
              <p:cNvPr id="376" name=""/>
              <p:cNvSpPr/>
              <p:nvPr/>
            </p:nvSpPr>
            <p:spPr>
              <a:xfrm>
                <a:off x="2438280" y="3581280"/>
                <a:ext cx="1219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438280" y="2971800"/>
                <a:ext cx="188280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u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x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886200" y="3581280"/>
              <a:ext cx="1882800" cy="1116720"/>
              <a:chOff x="3886200" y="3581280"/>
              <a:chExt cx="1882800" cy="1116720"/>
            </a:xfrm>
          </p:grpSpPr>
          <p:sp>
            <p:nvSpPr>
              <p:cNvPr id="379" name=""/>
              <p:cNvSpPr/>
              <p:nvPr/>
            </p:nvSpPr>
            <p:spPr>
              <a:xfrm>
                <a:off x="3962520" y="4190760"/>
                <a:ext cx="121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86200" y="3581280"/>
                <a:ext cx="188280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v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y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6400800" y="3352680"/>
            <a:ext cx="2209680" cy="1743480"/>
            <a:chOff x="6400800" y="3352680"/>
            <a:chExt cx="2209680" cy="1743480"/>
          </a:xfrm>
        </p:grpSpPr>
        <p:sp>
          <p:nvSpPr>
            <p:cNvPr id="382" name=""/>
            <p:cNvSpPr/>
            <p:nvPr/>
          </p:nvSpPr>
          <p:spPr>
            <a:xfrm>
              <a:off x="6461280" y="3394080"/>
              <a:ext cx="2149200" cy="17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1   0    -x</a:t>
              </a:r>
              <a:r>
                <a:rPr b="1" lang="hu-HU" sz="20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0   1    -y</a:t>
              </a:r>
              <a:r>
                <a:rPr b="1" lang="hu-HU" sz="20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0033"/>
                  </a:solidFill>
                  <a:latin typeface="Times New Roman"/>
                </a:rPr>
                <a:t>0   0       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00800" y="3352680"/>
              <a:ext cx="76320" cy="1676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24680" y="3352680"/>
              <a:ext cx="76320" cy="1676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062200" y="39052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F81-87EF-44DB-8B19-883F3DA728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823FB-BAA8-4B7E-A259-F918341C6ECA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cc66"/>
                </a:solidFill>
                <a:uFillTx/>
                <a:latin typeface="Arial"/>
              </a:rPr>
              <a:t>2D trafók kompozíciója</a:t>
            </a:r>
            <a:r>
              <a:rPr b="1" lang="hu-HU" sz="3600" spc="-1" strike="noStrike">
                <a:solidFill>
                  <a:srgbClr val="ffcc66"/>
                </a:solidFill>
                <a:latin typeface="Arial"/>
              </a:rPr>
              <a:t> - 3. példa /3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447920" y="1295280"/>
            <a:ext cx="6172200" cy="2531520"/>
            <a:chOff x="1447920" y="1295280"/>
            <a:chExt cx="6172200" cy="2531520"/>
          </a:xfrm>
        </p:grpSpPr>
        <p:sp>
          <p:nvSpPr>
            <p:cNvPr id="388" name=""/>
            <p:cNvSpPr/>
            <p:nvPr/>
          </p:nvSpPr>
          <p:spPr>
            <a:xfrm>
              <a:off x="1523880" y="1676520"/>
              <a:ext cx="6096240" cy="21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                              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0                -x</a:t>
              </a:r>
              <a:r>
                <a:rPr b="1" lang="hu-HU" sz="2000" spc="-1" strike="noStrike" baseline="-25000">
                  <a:solidFill>
                    <a:srgbClr val="ffffff"/>
                  </a:solidFill>
                  <a:latin typeface="Times New Roman"/>
                </a:rPr>
                <a:t>max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· 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                     + u</a:t>
              </a:r>
              <a:r>
                <a:rPr b="1" lang="hu-HU" sz="20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0                                   -y</a:t>
              </a:r>
              <a:r>
                <a:rPr b="1" lang="hu-HU" sz="20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· 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                     + v</a:t>
              </a:r>
              <a:r>
                <a:rPr b="1" lang="hu-HU" sz="20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0033"/>
                  </a:solidFill>
                  <a:latin typeface="Times New Roman"/>
                </a:rPr>
                <a:t>            </a:t>
              </a:r>
              <a:r>
                <a:rPr b="1" lang="hu-HU" sz="2000" spc="-1" strike="noStrike">
                  <a:solidFill>
                    <a:srgbClr val="ff0033"/>
                  </a:solidFill>
                  <a:latin typeface="Times New Roman"/>
                </a:rPr>
                <a:t>0                  0                                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7920" y="1447920"/>
              <a:ext cx="75960" cy="2057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1447920"/>
              <a:ext cx="76320" cy="198108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1676520" y="1295280"/>
              <a:ext cx="1882800" cy="1116720"/>
              <a:chOff x="1676520" y="1295280"/>
              <a:chExt cx="1882800" cy="1116720"/>
            </a:xfrm>
          </p:grpSpPr>
          <p:sp>
            <p:nvSpPr>
              <p:cNvPr id="392" name=""/>
              <p:cNvSpPr/>
              <p:nvPr/>
            </p:nvSpPr>
            <p:spPr>
              <a:xfrm>
                <a:off x="1676520" y="1904760"/>
                <a:ext cx="1219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1295280"/>
                <a:ext cx="188280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u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x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2971800" y="2133720"/>
              <a:ext cx="1882800" cy="1116720"/>
              <a:chOff x="2971800" y="2133720"/>
              <a:chExt cx="1882800" cy="1116720"/>
            </a:xfrm>
          </p:grpSpPr>
          <p:sp>
            <p:nvSpPr>
              <p:cNvPr id="395" name=""/>
              <p:cNvSpPr/>
              <p:nvPr/>
            </p:nvSpPr>
            <p:spPr>
              <a:xfrm>
                <a:off x="3048120" y="2743200"/>
                <a:ext cx="121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1800" y="2133720"/>
                <a:ext cx="188280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v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y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5410080" y="2133720"/>
              <a:ext cx="1882800" cy="1116720"/>
              <a:chOff x="5410080" y="2133720"/>
              <a:chExt cx="1882800" cy="1116720"/>
            </a:xfrm>
          </p:grpSpPr>
          <p:sp>
            <p:nvSpPr>
              <p:cNvPr id="398" name=""/>
              <p:cNvSpPr/>
              <p:nvPr/>
            </p:nvSpPr>
            <p:spPr>
              <a:xfrm>
                <a:off x="5486400" y="2743200"/>
                <a:ext cx="121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10080" y="2133720"/>
                <a:ext cx="188280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v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y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5486400" y="1295280"/>
              <a:ext cx="1882800" cy="1116720"/>
              <a:chOff x="5486400" y="1295280"/>
              <a:chExt cx="1882800" cy="1116720"/>
            </a:xfrm>
          </p:grpSpPr>
          <p:sp>
            <p:nvSpPr>
              <p:cNvPr id="401" name=""/>
              <p:cNvSpPr/>
              <p:nvPr/>
            </p:nvSpPr>
            <p:spPr>
              <a:xfrm>
                <a:off x="5486400" y="1904760"/>
                <a:ext cx="1219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86400" y="1295280"/>
                <a:ext cx="188280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u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x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>
            <a:off x="990720" y="3581280"/>
            <a:ext cx="24541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teh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’ = M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WV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444840" y="3895560"/>
            <a:ext cx="4267080" cy="2183400"/>
            <a:chOff x="3444840" y="3895560"/>
            <a:chExt cx="4267080" cy="2183400"/>
          </a:xfrm>
        </p:grpSpPr>
        <p:grpSp>
          <p:nvGrpSpPr>
            <p:cNvPr id="405" name=""/>
            <p:cNvGrpSpPr/>
            <p:nvPr/>
          </p:nvGrpSpPr>
          <p:grpSpPr>
            <a:xfrm>
              <a:off x="4664160" y="3895560"/>
              <a:ext cx="1676160" cy="1116720"/>
              <a:chOff x="4664160" y="3895560"/>
              <a:chExt cx="1676160" cy="1116720"/>
            </a:xfrm>
          </p:grpSpPr>
          <p:sp>
            <p:nvSpPr>
              <p:cNvPr id="406" name=""/>
              <p:cNvSpPr/>
              <p:nvPr/>
            </p:nvSpPr>
            <p:spPr>
              <a:xfrm>
                <a:off x="4740120" y="4505040"/>
                <a:ext cx="121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64160" y="3895560"/>
                <a:ext cx="167616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u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x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4664160" y="4962240"/>
              <a:ext cx="1882800" cy="1116720"/>
              <a:chOff x="4664160" y="4962240"/>
              <a:chExt cx="1882800" cy="1116720"/>
            </a:xfrm>
          </p:grpSpPr>
          <p:sp>
            <p:nvSpPr>
              <p:cNvPr id="409" name=""/>
              <p:cNvSpPr/>
              <p:nvPr/>
            </p:nvSpPr>
            <p:spPr>
              <a:xfrm>
                <a:off x="4740480" y="5571720"/>
                <a:ext cx="121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64160" y="4962240"/>
                <a:ext cx="188280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v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-y</a:t>
                </a:r>
                <a:r>
                  <a:rPr b="1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3521160" y="4276440"/>
              <a:ext cx="419076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(x-x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)                   + u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(y-y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)                    + v</a:t>
              </a:r>
              <a:r>
                <a:rPr b="1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44840" y="3971880"/>
              <a:ext cx="76320" cy="20574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26120" y="3971880"/>
              <a:ext cx="76320" cy="2057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5A5-F229-4AF9-AE61-60C226E771B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27B95-EC55-4C92-A91E-238748D7A691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cc66"/>
                </a:solidFill>
                <a:uFillTx/>
                <a:latin typeface="Arial"/>
              </a:rPr>
              <a:t>Ált. komp. mátrix, gyorsítások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46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u-HU" sz="3200" spc="-1" strike="noStrike">
                <a:solidFill>
                  <a:srgbClr val="ff0033"/>
                </a:solidFill>
                <a:latin typeface="Times New Roman"/>
              </a:rPr>
              <a:t>Általános kompozíciós mátrix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imes New Roman"/>
              </a:rPr>
              <a:t>Ahol </a:t>
            </a:r>
            <a:r>
              <a:rPr b="1" lang="hu-HU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: skálázás/forgarás ,  és </a:t>
            </a:r>
            <a:r>
              <a:rPr b="1" lang="hu-HU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: elto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jele: 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hu-HU" sz="3200" spc="-1" strike="noStrike">
                <a:solidFill>
                  <a:srgbClr val="ff0033"/>
                </a:solidFill>
                <a:latin typeface="Times New Roman"/>
              </a:rPr>
              <a:t>Gyorsítási lehetőségek M · P számításakor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. Nem kell 9 szorzás és 6 összeadás, elegend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x’ = x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y’ = x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kiszámítása (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ami csa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4 szorzás és 4 összeadá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. Ha kicsi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szöggel forgatunk, akkor cos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⋍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, í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x’ = x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- y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⋍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x - y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y’ = x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⋍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+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ami csa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2 szorzás és két összeadás (+sin műveletek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39800" y="874800"/>
            <a:ext cx="231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800" spc="-1" strike="noStrike">
                <a:solidFill>
                  <a:srgbClr val="ffffff"/>
                </a:solidFill>
                <a:latin typeface="Times New Roman"/>
              </a:rPr>
              <a:t>(     )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1480" y="1057320"/>
            <a:ext cx="15112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r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r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1" lang="hu-H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0    0   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023-D86B-43FA-A580-E5069ED5F9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F099F-1F73-4191-8BCE-3BF2A7E83019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805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cc66"/>
                </a:solidFill>
                <a:uFillTx/>
                <a:latin typeface="Arial"/>
              </a:rPr>
              <a:t>3D transzformációk</a:t>
            </a:r>
            <a:r>
              <a:rPr b="1" lang="hu-HU" sz="2800" spc="-1" strike="noStrike">
                <a:solidFill>
                  <a:srgbClr val="ffcc66"/>
                </a:solidFill>
                <a:latin typeface="Arial"/>
              </a:rPr>
              <a:t> - homogén koordináták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2560" y="1066320"/>
            <a:ext cx="7772400" cy="3676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x,y,z) leírása </a:t>
            </a:r>
            <a:r>
              <a:rPr b="0" lang="hu-HU" sz="2800" spc="-1" strike="noStrike">
                <a:solidFill>
                  <a:srgbClr val="ff0033"/>
                </a:solidFill>
                <a:latin typeface="Times New Roman"/>
              </a:rPr>
              <a:t>homogén koordinátákkal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 (x,y,z,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x,y,z,W) = (x’,y’,z’,W’), ha van olyan β, h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x’ = β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x,  y’ = β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y,  z’ = β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z, és W’ = β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Ha W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≠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0: </a:t>
            </a:r>
            <a:r>
              <a:rPr b="0" lang="hu-HU" sz="5400" spc="-1" strike="noStrike">
                <a:solidFill>
                  <a:srgbClr val="ffffff"/>
                </a:solidFill>
                <a:latin typeface="Times New Roman"/>
              </a:rPr>
              <a:t>(         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a szokásos jelö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Ha W=0: (x,y,z,0)    végtelen távoli p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33"/>
                </a:solidFill>
                <a:latin typeface="Times New Roman"/>
              </a:rPr>
              <a:t>Kapcsolat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 (x,y,z) - egyenes a 4-dimenziós térben aminek a W=1 -re való vetülete a homogén koordiná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438280" y="2362320"/>
            <a:ext cx="1714320" cy="825480"/>
            <a:chOff x="2438280" y="2362320"/>
            <a:chExt cx="1714320" cy="825480"/>
          </a:xfrm>
        </p:grpSpPr>
        <p:sp>
          <p:nvSpPr>
            <p:cNvPr id="421" name=""/>
            <p:cNvSpPr/>
            <p:nvPr/>
          </p:nvSpPr>
          <p:spPr>
            <a:xfrm>
              <a:off x="2440080" y="2362320"/>
              <a:ext cx="155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x      y      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W   W   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87480" y="2533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4480" y="25146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38280" y="2801880"/>
              <a:ext cx="34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03480" y="2805120"/>
              <a:ext cx="34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95560" y="25146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56080" y="2824200"/>
              <a:ext cx="34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62840" y="4343400"/>
            <a:ext cx="7039440" cy="2742480"/>
            <a:chOff x="762840" y="4343400"/>
            <a:chExt cx="7039440" cy="2742480"/>
          </a:xfrm>
        </p:grpSpPr>
        <p:sp>
          <p:nvSpPr>
            <p:cNvPr id="429" name=""/>
            <p:cNvSpPr/>
            <p:nvPr/>
          </p:nvSpPr>
          <p:spPr>
            <a:xfrm>
              <a:off x="762840" y="5181480"/>
              <a:ext cx="429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Ezt hívják jobb-sodrású (kezes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3D koordináta-rendszerne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497120" y="4343400"/>
              <a:ext cx="3305160" cy="2742480"/>
              <a:chOff x="4497120" y="4343400"/>
              <a:chExt cx="3305160" cy="274248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5867280" y="441972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67280" y="563868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4952880" y="5638680"/>
                <a:ext cx="914400" cy="762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5249880" y="5105520"/>
                <a:ext cx="1233000" cy="106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30"/>
                    </a:moveTo>
                    <a:arcTo wR="10800" hR="10800" stAng="-10618360" swAng="52185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30"/>
                    </a:moveTo>
                    <a:arcTo wR="10800" hR="10800" stAng="-10618360" swAng="5218522"/>
                  </a:path>
                </a:pathLst>
              </a:custGeom>
              <a:noFill/>
              <a:ln w="12600">
                <a:solidFill>
                  <a:srgbClr val="ff0033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646880" y="5439600"/>
                <a:ext cx="1905840" cy="73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23" y="720"/>
                    </a:moveTo>
                    <a:arcTo wR="10800" hR="10800" stAng="-6662347" swAng="82919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23" y="720"/>
                    </a:moveTo>
                    <a:arcTo wR="10800" hR="10800" stAng="-6662347" swAng="8291916"/>
                  </a:path>
                </a:pathLst>
              </a:custGeom>
              <a:noFill/>
              <a:ln w="12600">
                <a:solidFill>
                  <a:srgbClr val="ff0033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5257800" y="5105520"/>
                <a:ext cx="1218240" cy="19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ff0033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9280" y="5334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690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497120" y="61722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445-10F3-4DB1-964A-3E1A234CDE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10882-9B3B-4258-8248-EB95FD72EE73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Bevezetés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 - Transzformáció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0033"/>
                </a:solidFill>
                <a:latin typeface="Times New Roman"/>
              </a:rPr>
              <a:t>A Számítógépes Grafikában használatos 2, 3 dimenziós transzformációk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Eltolá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Nagyítás, kicsinyíté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Forgatá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B87-EA07-401C-AA00-A65A1A0F0F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1C712-87B2-4210-8A19-6F20415CF832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8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3D eltolá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47640" y="1905120"/>
            <a:ext cx="2276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(d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d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d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191120" y="1143000"/>
            <a:ext cx="1904760" cy="2822760"/>
            <a:chOff x="4191120" y="1143000"/>
            <a:chExt cx="1904760" cy="2822760"/>
          </a:xfrm>
        </p:grpSpPr>
        <p:sp>
          <p:nvSpPr>
            <p:cNvPr id="443" name=""/>
            <p:cNvSpPr/>
            <p:nvPr/>
          </p:nvSpPr>
          <p:spPr>
            <a:xfrm>
              <a:off x="4343400" y="1143000"/>
              <a:ext cx="1752480" cy="28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1   0   0   d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1    0  d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0    1  d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0    0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91120" y="1219320"/>
              <a:ext cx="75960" cy="198108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19920" y="1143000"/>
              <a:ext cx="75960" cy="20574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455480" y="4114800"/>
            <a:ext cx="428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rt  T(d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d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d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724280" y="3505320"/>
            <a:ext cx="457200" cy="1802880"/>
            <a:chOff x="4724280" y="3505320"/>
            <a:chExt cx="457200" cy="1802880"/>
          </a:xfrm>
        </p:grpSpPr>
        <p:sp>
          <p:nvSpPr>
            <p:cNvPr id="448" name=""/>
            <p:cNvSpPr/>
            <p:nvPr/>
          </p:nvSpPr>
          <p:spPr>
            <a:xfrm>
              <a:off x="4801680" y="3505320"/>
              <a:ext cx="358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24280" y="3632040"/>
              <a:ext cx="75960" cy="167616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69840 h 1676160"/>
                <a:gd name="textAreaBottom" fmla="*/ 160632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05160" y="3632040"/>
              <a:ext cx="76320" cy="167616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9840 h 1676160"/>
                <a:gd name="textAreaBottom" fmla="*/ 160632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867280" y="3505320"/>
            <a:ext cx="1066680" cy="1977480"/>
            <a:chOff x="5867280" y="3505320"/>
            <a:chExt cx="1066680" cy="1977480"/>
          </a:xfrm>
        </p:grpSpPr>
        <p:sp>
          <p:nvSpPr>
            <p:cNvPr id="452" name=""/>
            <p:cNvSpPr/>
            <p:nvPr/>
          </p:nvSpPr>
          <p:spPr>
            <a:xfrm>
              <a:off x="5953680" y="3505320"/>
              <a:ext cx="863640" cy="19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x+d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y+d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z+d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hu-HU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857640" y="3581280"/>
              <a:ext cx="76320" cy="1676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77760 h 1676520"/>
                <a:gd name="textAreaBottom" fmla="*/ 15987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03"/>
                    <a:pt x="0" y="2006"/>
                  </a:cubicBezTo>
                  <a:lnTo>
                    <a:pt x="0" y="19594"/>
                  </a:lnTo>
                  <a:cubicBezTo>
                    <a:pt x="0" y="20597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3581280"/>
              <a:ext cx="75960" cy="167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295280" y="5638680"/>
            <a:ext cx="6416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hu-HU" sz="36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1" lang="hu-HU" sz="36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,d</a:t>
            </a:r>
            <a:r>
              <a:rPr b="1" lang="hu-HU" sz="36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,d</a:t>
            </a:r>
            <a:r>
              <a:rPr b="1" lang="hu-HU" sz="36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) = T(-d</a:t>
            </a:r>
            <a:r>
              <a:rPr b="1" lang="hu-HU" sz="36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,-d</a:t>
            </a:r>
            <a:r>
              <a:rPr b="1" lang="hu-HU" sz="36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,-d</a:t>
            </a:r>
            <a:r>
              <a:rPr b="1" lang="hu-HU" sz="36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A51-C957-43EA-B5FA-A91FB7552D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AF675-0B92-4983-9DB0-D860BD94B116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8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2D nagyítás/kicsiníté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(s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s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s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286000" y="1219320"/>
            <a:ext cx="1904760" cy="2695320"/>
            <a:chOff x="2286000" y="1219320"/>
            <a:chExt cx="1904760" cy="2695320"/>
          </a:xfrm>
        </p:grpSpPr>
        <p:sp>
          <p:nvSpPr>
            <p:cNvPr id="459" name=""/>
            <p:cNvSpPr/>
            <p:nvPr/>
          </p:nvSpPr>
          <p:spPr>
            <a:xfrm>
              <a:off x="2438280" y="1219320"/>
              <a:ext cx="1752480" cy="26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0    0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s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0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0    s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0    0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86000" y="1295640"/>
              <a:ext cx="75960" cy="198108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14800" y="1219320"/>
              <a:ext cx="75960" cy="20574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4581360" y="1447920"/>
            <a:ext cx="2999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(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553080" y="1295280"/>
            <a:ext cx="457200" cy="1803600"/>
            <a:chOff x="6553080" y="1295280"/>
            <a:chExt cx="457200" cy="1803600"/>
          </a:xfrm>
        </p:grpSpPr>
        <p:sp>
          <p:nvSpPr>
            <p:cNvPr id="464" name=""/>
            <p:cNvSpPr/>
            <p:nvPr/>
          </p:nvSpPr>
          <p:spPr>
            <a:xfrm>
              <a:off x="6630480" y="1295280"/>
              <a:ext cx="358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53080" y="1422360"/>
              <a:ext cx="75960" cy="167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33960" y="1422360"/>
              <a:ext cx="76320" cy="1676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696080" y="1295280"/>
            <a:ext cx="1066680" cy="1977480"/>
            <a:chOff x="7696080" y="1295280"/>
            <a:chExt cx="1066680" cy="1977480"/>
          </a:xfrm>
        </p:grpSpPr>
        <p:sp>
          <p:nvSpPr>
            <p:cNvPr id="468" name=""/>
            <p:cNvSpPr/>
            <p:nvPr/>
          </p:nvSpPr>
          <p:spPr>
            <a:xfrm>
              <a:off x="7769160" y="1295280"/>
              <a:ext cx="855720" cy="19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· </a:t>
              </a: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· </a:t>
              </a: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· </a:t>
              </a: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hu-HU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686440" y="1371240"/>
              <a:ext cx="76320" cy="1676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77760 h 1676520"/>
                <a:gd name="textAreaBottom" fmla="*/ 15987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03"/>
                    <a:pt x="0" y="2006"/>
                  </a:cubicBezTo>
                  <a:lnTo>
                    <a:pt x="0" y="19594"/>
                  </a:lnTo>
                  <a:cubicBezTo>
                    <a:pt x="0" y="20597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6080" y="1371240"/>
              <a:ext cx="75960" cy="167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038480" y="3581280"/>
            <a:ext cx="2514600" cy="26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1/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0     0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0     1/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0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0       0    1/s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33"/>
                </a:solidFill>
                <a:latin typeface="Times New Roman"/>
              </a:rPr>
              <a:t>0       0     0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3657600"/>
            <a:ext cx="76320" cy="1981080"/>
          </a:xfrm>
          <a:custGeom>
            <a:avLst/>
            <a:gdLst>
              <a:gd name="textAreaLeft" fmla="*/ 22320 w 76320"/>
              <a:gd name="textAreaRight" fmla="*/ 76320 w 7632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248520" y="3505320"/>
            <a:ext cx="75960" cy="2057400"/>
          </a:xfrm>
          <a:custGeom>
            <a:avLst/>
            <a:gdLst>
              <a:gd name="textAreaLeft" fmla="*/ 0 w 75960"/>
              <a:gd name="textAreaRight" fmla="*/ 53280 w 7596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4419720"/>
            <a:ext cx="121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3E2-9389-41B2-8D7B-A04E0DFA8C2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16282-9192-4207-ABD9-A1D5A5DF88EE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8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3D forgatáso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33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hu-HU" sz="3200" spc="-1" strike="noStrike">
                <a:solidFill>
                  <a:srgbClr val="ff0033"/>
                </a:solidFill>
                <a:latin typeface="Times New Roman"/>
              </a:rPr>
              <a:t>Z-tengel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körül                  Az </a:t>
            </a:r>
            <a:r>
              <a:rPr b="0" lang="hu-HU" sz="3200" spc="-1" strike="noStrike">
                <a:solidFill>
                  <a:srgbClr val="ff0033"/>
                </a:solidFill>
                <a:latin typeface="Times New Roman"/>
              </a:rPr>
              <a:t>X-tengel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körü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447920" y="1752480"/>
            <a:ext cx="2895120" cy="2128320"/>
            <a:chOff x="1447920" y="1752480"/>
            <a:chExt cx="2895120" cy="2128320"/>
          </a:xfrm>
        </p:grpSpPr>
        <p:sp>
          <p:nvSpPr>
            <p:cNvPr id="478" name=""/>
            <p:cNvSpPr/>
            <p:nvPr/>
          </p:nvSpPr>
          <p:spPr>
            <a:xfrm>
              <a:off x="1523880" y="1752480"/>
              <a:ext cx="281916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-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0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0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        0      1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       0      0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47920" y="1828800"/>
              <a:ext cx="75960" cy="198108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1752480"/>
              <a:ext cx="75960" cy="20574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897920" y="4964040"/>
            <a:ext cx="139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80" y="2362320"/>
            <a:ext cx="138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80640" y="2438280"/>
            <a:ext cx="139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" y="3962520"/>
            <a:ext cx="8397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</a:t>
            </a:r>
            <a:r>
              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körü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943600" y="1676520"/>
            <a:ext cx="2819520" cy="2133360"/>
            <a:chOff x="5943600" y="1676520"/>
            <a:chExt cx="2819520" cy="2133360"/>
          </a:xfrm>
        </p:grpSpPr>
        <p:sp>
          <p:nvSpPr>
            <p:cNvPr id="486" name=""/>
            <p:cNvSpPr/>
            <p:nvPr/>
          </p:nvSpPr>
          <p:spPr>
            <a:xfrm>
              <a:off x="5943600" y="1828800"/>
              <a:ext cx="76320" cy="19810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610480" y="1676520"/>
              <a:ext cx="76320" cy="2057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1676520"/>
              <a:ext cx="28195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1       0        0    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-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  0         0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429000" y="4495680"/>
            <a:ext cx="2971800" cy="2128320"/>
            <a:chOff x="3429000" y="4495680"/>
            <a:chExt cx="2971800" cy="2128320"/>
          </a:xfrm>
        </p:grpSpPr>
        <p:sp>
          <p:nvSpPr>
            <p:cNvPr id="490" name=""/>
            <p:cNvSpPr/>
            <p:nvPr/>
          </p:nvSpPr>
          <p:spPr>
            <a:xfrm>
              <a:off x="3429000" y="4572000"/>
              <a:ext cx="76320" cy="19810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48520" y="4495680"/>
              <a:ext cx="75960" cy="20574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81280" y="4495680"/>
              <a:ext cx="28195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0   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    1     0    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-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0   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   </a:t>
              </a: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    0      0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3F6-4E9D-4B77-86BE-99F6C2838B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6B1AB-4B1A-4A64-BD16-E53828C32446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80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3D kompozíció-márt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 =                                   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447920" y="1219320"/>
            <a:ext cx="2895480" cy="3008160"/>
            <a:chOff x="1447920" y="1219320"/>
            <a:chExt cx="2895480" cy="3008160"/>
          </a:xfrm>
        </p:grpSpPr>
        <p:sp>
          <p:nvSpPr>
            <p:cNvPr id="496" name=""/>
            <p:cNvSpPr/>
            <p:nvPr/>
          </p:nvSpPr>
          <p:spPr>
            <a:xfrm>
              <a:off x="1447920" y="1371600"/>
              <a:ext cx="75960" cy="25909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107640 h 2590920"/>
                <a:gd name="textAreaBottom" fmla="*/ 248328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67080" y="1295280"/>
              <a:ext cx="76320" cy="2590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107640 h 2590920"/>
                <a:gd name="textAreaBottom" fmla="*/ 248328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23880" y="1219320"/>
              <a:ext cx="2819520" cy="30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11</a:t>
              </a: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   r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   r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   t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21</a:t>
              </a: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   r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22</a:t>
              </a: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   r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23</a:t>
              </a: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   t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31</a:t>
              </a: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   r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32</a:t>
              </a: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   r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33</a:t>
              </a:r>
              <a:r>
                <a:rPr b="1" lang="hu-HU" sz="3200" spc="-1" strike="noStrike">
                  <a:solidFill>
                    <a:srgbClr val="ffffff"/>
                  </a:solidFill>
                  <a:latin typeface="Times New Roman"/>
                </a:rPr>
                <a:t>   t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hu-HU" sz="3200" spc="-1" strike="noStrike">
                  <a:solidFill>
                    <a:srgbClr val="ff0033"/>
                  </a:solidFill>
                  <a:latin typeface="Times New Roman"/>
                </a:rPr>
                <a:t>0     0     0     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5520" y="1752480"/>
            <a:ext cx="2133360" cy="1905120"/>
            <a:chOff x="5105520" y="1752480"/>
            <a:chExt cx="2133360" cy="1905120"/>
          </a:xfrm>
        </p:grpSpPr>
        <p:sp>
          <p:nvSpPr>
            <p:cNvPr id="500" name=""/>
            <p:cNvSpPr/>
            <p:nvPr/>
          </p:nvSpPr>
          <p:spPr>
            <a:xfrm>
              <a:off x="5258880" y="1752480"/>
              <a:ext cx="99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3080" y="220968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48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553080" y="1981080"/>
              <a:ext cx="0" cy="160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1480" y="3124080"/>
              <a:ext cx="1905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67080" y="308916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  0     0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05520" y="1828800"/>
              <a:ext cx="75960" cy="18288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75960 h 1828800"/>
                <a:gd name="textAreaBottom" fmla="*/ 175284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62920" y="1828800"/>
              <a:ext cx="75960" cy="18288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75960 h 1828800"/>
                <a:gd name="textAreaBottom" fmla="*/ 175284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0" y="4876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 =                  M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P = R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    +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62120" y="4267080"/>
            <a:ext cx="761760" cy="1977480"/>
            <a:chOff x="762120" y="4267080"/>
            <a:chExt cx="761760" cy="1977480"/>
          </a:xfrm>
        </p:grpSpPr>
        <p:sp>
          <p:nvSpPr>
            <p:cNvPr id="509" name=""/>
            <p:cNvSpPr/>
            <p:nvPr/>
          </p:nvSpPr>
          <p:spPr>
            <a:xfrm>
              <a:off x="909000" y="4267080"/>
              <a:ext cx="482400" cy="19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2120" y="4352760"/>
              <a:ext cx="75960" cy="167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47920" y="4352760"/>
              <a:ext cx="75960" cy="167652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962520" y="4343400"/>
            <a:ext cx="761400" cy="1550880"/>
            <a:chOff x="3962520" y="4343400"/>
            <a:chExt cx="761400" cy="1550880"/>
          </a:xfrm>
        </p:grpSpPr>
        <p:sp>
          <p:nvSpPr>
            <p:cNvPr id="513" name=""/>
            <p:cNvSpPr/>
            <p:nvPr/>
          </p:nvSpPr>
          <p:spPr>
            <a:xfrm>
              <a:off x="4108680" y="4343400"/>
              <a:ext cx="48240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62520" y="4428720"/>
              <a:ext cx="75960" cy="14382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59760 h 1438200"/>
                <a:gd name="textAreaBottom" fmla="*/ 137844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7960" y="4428720"/>
              <a:ext cx="75960" cy="1438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59760 h 1438200"/>
                <a:gd name="textAreaBottom" fmla="*/ 137844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6249960" y="4419720"/>
            <a:ext cx="262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b2b2b2"/>
                </a:solidFill>
                <a:latin typeface="Times New Roman"/>
              </a:rPr>
              <a:t>Ilyen mód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b2b2b2"/>
                </a:solidFill>
                <a:latin typeface="Times New Roman"/>
              </a:rPr>
              <a:t>hatékonyab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b2b2b2"/>
                </a:solidFill>
                <a:latin typeface="Times New Roman"/>
              </a:rPr>
              <a:t>számítható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849-FC59-46C7-8AC9-CBCEB4BBAC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56E7F-89A5-44F3-B799-D3EC1F90356B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3D nyírá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736800" cy="60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(s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s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429000" y="1066680"/>
            <a:ext cx="1904760" cy="2506320"/>
            <a:chOff x="3429000" y="1066680"/>
            <a:chExt cx="1904760" cy="2506320"/>
          </a:xfrm>
        </p:grpSpPr>
        <p:sp>
          <p:nvSpPr>
            <p:cNvPr id="520" name=""/>
            <p:cNvSpPr/>
            <p:nvPr/>
          </p:nvSpPr>
          <p:spPr>
            <a:xfrm>
              <a:off x="3581280" y="1066680"/>
              <a:ext cx="1752480" cy="25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1    0  sh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 1  sh</a:t>
              </a:r>
              <a:r>
                <a:rPr b="1" lang="hu-HU" sz="3200" spc="-1" strike="noStrike" baseline="-25000">
                  <a:solidFill>
                    <a:srgbClr val="ffffff"/>
                  </a:solidFill>
                  <a:latin typeface="Times New Roman"/>
                </a:rPr>
                <a:t>y 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0   0     1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0   0     0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29000" y="1143000"/>
              <a:ext cx="75960" cy="198108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57800" y="1066680"/>
              <a:ext cx="75960" cy="20574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1373400" y="3352680"/>
            <a:ext cx="990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>
                <a:solidFill>
                  <a:srgbClr val="ffffff"/>
                </a:solidFill>
                <a:latin typeface="Times New Roman"/>
              </a:rPr>
              <a:t>mer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724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(s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,sh</a:t>
            </a:r>
            <a:r>
              <a:rPr b="1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352680" y="4038480"/>
            <a:ext cx="457200" cy="1803600"/>
            <a:chOff x="3352680" y="4038480"/>
            <a:chExt cx="457200" cy="1803600"/>
          </a:xfrm>
        </p:grpSpPr>
        <p:sp>
          <p:nvSpPr>
            <p:cNvPr id="526" name=""/>
            <p:cNvSpPr/>
            <p:nvPr/>
          </p:nvSpPr>
          <p:spPr>
            <a:xfrm>
              <a:off x="3430080" y="4038480"/>
              <a:ext cx="358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2680" y="4165560"/>
              <a:ext cx="75960" cy="167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3560" y="4165560"/>
              <a:ext cx="76320" cy="1676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4419720" y="4114800"/>
            <a:ext cx="1487160" cy="1918440"/>
            <a:chOff x="4419720" y="4114800"/>
            <a:chExt cx="1487160" cy="1918440"/>
          </a:xfrm>
        </p:grpSpPr>
        <p:sp>
          <p:nvSpPr>
            <p:cNvPr id="530" name=""/>
            <p:cNvSpPr/>
            <p:nvPr/>
          </p:nvSpPr>
          <p:spPr>
            <a:xfrm>
              <a:off x="4493160" y="4114800"/>
              <a:ext cx="141372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x+sh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· </a:t>
              </a: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y+sh</a:t>
              </a:r>
              <a:r>
                <a:rPr b="1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· </a:t>
              </a: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hu-HU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790600" y="4191120"/>
              <a:ext cx="75960" cy="167616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77760 h 1676160"/>
                <a:gd name="textAreaBottom" fmla="*/ 15984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03"/>
                    <a:pt x="0" y="2006"/>
                  </a:cubicBezTo>
                  <a:lnTo>
                    <a:pt x="0" y="19594"/>
                  </a:lnTo>
                  <a:cubicBezTo>
                    <a:pt x="0" y="20597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19720" y="4191120"/>
              <a:ext cx="75960" cy="167616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69840 h 1676160"/>
                <a:gd name="textAreaBottom" fmla="*/ 160632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F9C-ACF4-4B87-987E-1D959EFF0F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FC250-3226-4A7C-AF5A-4EF30FC28F97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80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3D - síkok transzformációi</a:t>
            </a:r>
            <a:r>
              <a:rPr b="1" lang="hu-HU" sz="4400" spc="-1" strike="noStrike">
                <a:solidFill>
                  <a:srgbClr val="ffcc66"/>
                </a:solidFill>
                <a:latin typeface="Arial"/>
              </a:rPr>
              <a:t> /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486400" y="1218960"/>
            <a:ext cx="2968560" cy="533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sík normális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434240" y="1219320"/>
            <a:ext cx="3320280" cy="3243960"/>
            <a:chOff x="1434240" y="1219320"/>
            <a:chExt cx="3320280" cy="3243960"/>
          </a:xfrm>
        </p:grpSpPr>
        <p:sp>
          <p:nvSpPr>
            <p:cNvPr id="536" name=""/>
            <p:cNvSpPr/>
            <p:nvPr/>
          </p:nvSpPr>
          <p:spPr>
            <a:xfrm flipV="1">
              <a:off x="2362320" y="1294920"/>
              <a:ext cx="0" cy="175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1599840" y="3048120"/>
              <a:ext cx="76212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62320" y="3048120"/>
              <a:ext cx="22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362320" y="2361960"/>
              <a:ext cx="121896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07120" y="23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62320" y="1752480"/>
              <a:ext cx="2361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05120" y="3733920"/>
              <a:ext cx="2361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905120" y="1752480"/>
              <a:ext cx="457200" cy="19814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38480" y="1752480"/>
              <a:ext cx="685800" cy="1981440"/>
            </a:xfrm>
            <a:custGeom>
              <a:avLst/>
              <a:gdLst/>
              <a:ahLst/>
              <a:rect l="l" t="t" r="r" b="b"/>
              <a:pathLst>
                <a:path w="432" h="1248">
                  <a:moveTo>
                    <a:pt x="144" y="1248"/>
                  </a:moveTo>
                  <a:lnTo>
                    <a:pt x="0" y="1056"/>
                  </a:lnTo>
                  <a:lnTo>
                    <a:pt x="144" y="912"/>
                  </a:lnTo>
                  <a:lnTo>
                    <a:pt x="96" y="768"/>
                  </a:lnTo>
                  <a:lnTo>
                    <a:pt x="288" y="528"/>
                  </a:lnTo>
                  <a:lnTo>
                    <a:pt x="192" y="240"/>
                  </a:lnTo>
                  <a:lnTo>
                    <a:pt x="384" y="96"/>
                  </a:lnTo>
                  <a:lnTo>
                    <a:pt x="43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2152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82880" y="12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61760" y="4003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1600200" y="3200040"/>
              <a:ext cx="3808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4240" y="278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639400" y="2209680"/>
            <a:ext cx="787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>
                <a:solidFill>
                  <a:srgbClr val="ffffff"/>
                </a:solidFill>
                <a:latin typeface="Times New Roman"/>
              </a:rPr>
              <a:t>N =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400800" y="1676520"/>
            <a:ext cx="533520" cy="1600200"/>
            <a:chOff x="6400800" y="1676520"/>
            <a:chExt cx="533520" cy="1600200"/>
          </a:xfrm>
        </p:grpSpPr>
        <p:sp>
          <p:nvSpPr>
            <p:cNvPr id="552" name=""/>
            <p:cNvSpPr/>
            <p:nvPr/>
          </p:nvSpPr>
          <p:spPr>
            <a:xfrm>
              <a:off x="6479280" y="1676520"/>
              <a:ext cx="400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00800" y="1752480"/>
              <a:ext cx="76320" cy="15242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63360 h 1524240"/>
                <a:gd name="textAreaBottom" fmla="*/ 146088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58000" y="1752480"/>
              <a:ext cx="76320" cy="152424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3360 h 1524240"/>
                <a:gd name="textAreaBottom" fmla="*/ 146088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486400" y="3352680"/>
            <a:ext cx="2971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sík egyenle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49528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(A,B,C,D)        = Ax + By + Cz + D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666880" y="4343400"/>
            <a:ext cx="533520" cy="1600200"/>
            <a:chOff x="2666880" y="4343400"/>
            <a:chExt cx="533520" cy="1600200"/>
          </a:xfrm>
        </p:grpSpPr>
        <p:sp>
          <p:nvSpPr>
            <p:cNvPr id="558" name=""/>
            <p:cNvSpPr/>
            <p:nvPr/>
          </p:nvSpPr>
          <p:spPr>
            <a:xfrm>
              <a:off x="2745000" y="4343400"/>
              <a:ext cx="33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66880" y="4419360"/>
              <a:ext cx="76320" cy="15242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63360 h 1524240"/>
                <a:gd name="textAreaBottom" fmla="*/ 146088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4080" y="4419360"/>
              <a:ext cx="76320" cy="152424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3360 h 1524240"/>
                <a:gd name="textAreaBottom" fmla="*/ 146088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BC0-B795-47F5-9E99-6E03D47074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A623A-4FB1-483B-BC03-B26C432FE04E}" type="datetime1">
              <a:rPr lang="en-US"/>
              <a:t>07/31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80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3D - síkok transzformációi</a:t>
            </a:r>
            <a:r>
              <a:rPr b="1" lang="hu-HU" sz="4400" spc="-1" strike="noStrike">
                <a:solidFill>
                  <a:srgbClr val="ffcc66"/>
                </a:solidFill>
                <a:latin typeface="Arial"/>
              </a:rPr>
              <a:t> /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i az a Q mátrix, amire  (Q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)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) = 0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)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)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=M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,   Q=(M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ff33"/>
                </a:solidFill>
                <a:latin typeface="Times New Roman"/>
              </a:rPr>
              <a:t>Tehát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 Ha a sík pontjait M-el transzformáljuk, akkor a transzformált sík normális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’=(M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u-HU" sz="2800" spc="-1" strike="noStrike">
                <a:solidFill>
                  <a:srgbClr val="ff0033"/>
                </a:solidFill>
                <a:latin typeface="Times New Roman"/>
              </a:rPr>
              <a:t>NEM BIZTOS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hu-HU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hogy létezik normális!     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pl: vetítés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053-35DE-4379-AE97-0DAAD86432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F6D45-A126-4954-B443-07E67D314F45}" type="datetime1">
              <a:rPr lang="en-US"/>
              <a:t>07/31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80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cc66"/>
                </a:solidFill>
                <a:uFillTx/>
                <a:latin typeface="Arial"/>
              </a:rPr>
              <a:t>3D - koordináta rsz.ek váltása</a:t>
            </a:r>
            <a:r>
              <a:rPr b="1" lang="hu-HU" sz="4000" spc="-1" strike="noStrike">
                <a:solidFill>
                  <a:srgbClr val="ffcc66"/>
                </a:solidFill>
                <a:latin typeface="Arial"/>
              </a:rPr>
              <a:t> /1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256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 a P pont az i koordináta rendszer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 az a trafó, ami egy pont j koordináta-rendszer beli koordinátáiból i koordináta-rendszerbeli koordinátákat 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kk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Ha P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(k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 akk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(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(k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)= 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(k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7CE-AE5C-46F2-AB2E-0BC78EB52D2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6E5B5-ADF3-4F99-A56C-2A9A736979E5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cc66"/>
                </a:solidFill>
                <a:uFillTx/>
                <a:latin typeface="Arial"/>
              </a:rPr>
              <a:t>3D - koordináta rsz.ek váltása</a:t>
            </a:r>
            <a:r>
              <a:rPr b="1" lang="hu-HU" sz="4000" spc="-1" strike="noStrike">
                <a:solidFill>
                  <a:srgbClr val="ffcc66"/>
                </a:solidFill>
                <a:latin typeface="Arial"/>
              </a:rPr>
              <a:t> /2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ovább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p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a) ha M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 =T(tx,ty) ,  akkor  M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 =T(-tx,-t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b) legyen R:  jobb-kezes k.rends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L: bal-kezes k.rends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ekk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</a:rPr>
              <a:t>R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</a:rPr>
              <a:t>L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 = M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</a:rPr>
              <a:t>L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b2b2b2"/>
                </a:solidFill>
                <a:latin typeface="Times New Roman"/>
              </a:rPr>
              <a:t>R</a:t>
            </a:r>
            <a:r>
              <a:rPr b="0" lang="hu-HU" sz="2800" spc="-1" strike="noStrike" baseline="30000">
                <a:solidFill>
                  <a:srgbClr val="b2b2b2"/>
                </a:solidFill>
                <a:latin typeface="Times New Roman"/>
              </a:rPr>
              <a:t>-1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8320" y="4038480"/>
            <a:ext cx="175248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imes New Roman"/>
              </a:rPr>
              <a:t>1    0   0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imes New Roman"/>
              </a:rPr>
              <a:t>0    1   0  </a:t>
            </a:r>
            <a:r>
              <a:rPr b="1" lang="hu-HU" sz="3200" spc="-1" strike="noStrike" baseline="-25000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b2b2b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Times New Roman"/>
              </a:rPr>
              <a:t>0   0   -1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99"/>
                </a:solidFill>
                <a:latin typeface="Times New Roman"/>
              </a:rPr>
              <a:t>0   0    0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5680" y="4114800"/>
            <a:ext cx="76320" cy="1981080"/>
          </a:xfrm>
          <a:custGeom>
            <a:avLst/>
            <a:gdLst>
              <a:gd name="textAreaLeft" fmla="*/ 22320 w 76320"/>
              <a:gd name="textAreaRight" fmla="*/ 76320 w 7632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324480" y="4038480"/>
            <a:ext cx="76320" cy="2057400"/>
          </a:xfrm>
          <a:custGeom>
            <a:avLst/>
            <a:gdLst>
              <a:gd name="textAreaLeft" fmla="*/ 0 w 76320"/>
              <a:gd name="textAreaRight" fmla="*/ 53640 w 7632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8D0-9A78-4839-8798-64DCDB65E9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880AD-3C5D-426F-B7D0-3A1E8B8ADA69}" type="datetime1">
              <a:rPr lang="en-US"/>
              <a:t>07/31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80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cc66"/>
                </a:solidFill>
                <a:uFillTx/>
                <a:latin typeface="Arial"/>
              </a:rPr>
              <a:t>3D - transzformációk alakj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: pont j koordináta-rendszer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: trafó j koordináta-rendszer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elyik az a Q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amely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ivel  P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ezé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Q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j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Q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(j)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←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2880" y="762120"/>
            <a:ext cx="60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(Különböző koordinátarendszerekb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472-16A1-4006-B72E-9CCC4A1DD2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11FBE-10AA-465A-ACD2-487E3DA74EEC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2D eltolás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- pont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99160" y="1771560"/>
            <a:ext cx="205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x’=x+d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y’=y+d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410080" y="2895480"/>
            <a:ext cx="3733920" cy="1922760"/>
            <a:chOff x="5410080" y="2895480"/>
            <a:chExt cx="3733920" cy="1922760"/>
          </a:xfrm>
        </p:grpSpPr>
        <p:sp>
          <p:nvSpPr>
            <p:cNvPr id="96" name=""/>
            <p:cNvSpPr/>
            <p:nvPr/>
          </p:nvSpPr>
          <p:spPr>
            <a:xfrm>
              <a:off x="5410080" y="2895480"/>
              <a:ext cx="3733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(oszlop-)vektorokkal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P=           P’=           T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P’=P+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69440" y="3352680"/>
              <a:ext cx="738360" cy="851040"/>
              <a:chOff x="5869440" y="3352680"/>
              <a:chExt cx="738360" cy="851040"/>
            </a:xfrm>
          </p:grpSpPr>
          <p:sp>
            <p:nvSpPr>
              <p:cNvPr id="98" name=""/>
              <p:cNvSpPr/>
              <p:nvPr/>
            </p:nvSpPr>
            <p:spPr>
              <a:xfrm>
                <a:off x="6113520" y="337824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9440" y="3352680"/>
                <a:ext cx="738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4800" spc="-1" strike="noStrike">
                    <a:solidFill>
                      <a:srgbClr val="ffffff"/>
                    </a:solidFill>
                    <a:latin typeface="Times New Roman"/>
                  </a:rPr>
                  <a:t>( )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012440" y="3352680"/>
              <a:ext cx="738360" cy="851040"/>
              <a:chOff x="7012440" y="3352680"/>
              <a:chExt cx="738360" cy="851040"/>
            </a:xfrm>
          </p:grpSpPr>
          <p:sp>
            <p:nvSpPr>
              <p:cNvPr id="101" name=""/>
              <p:cNvSpPr/>
              <p:nvPr/>
            </p:nvSpPr>
            <p:spPr>
              <a:xfrm>
                <a:off x="7179840" y="3378240"/>
                <a:ext cx="43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x’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y’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012440" y="3352680"/>
                <a:ext cx="738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4800" spc="-1" strike="noStrike">
                    <a:solidFill>
                      <a:srgbClr val="ffffff"/>
                    </a:solidFill>
                    <a:latin typeface="Times New Roman"/>
                  </a:rPr>
                  <a:t>( )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276400" y="3352680"/>
              <a:ext cx="864720" cy="850680"/>
              <a:chOff x="8276400" y="3352680"/>
              <a:chExt cx="864720" cy="850680"/>
            </a:xfrm>
          </p:grpSpPr>
          <p:sp>
            <p:nvSpPr>
              <p:cNvPr id="104" name=""/>
              <p:cNvSpPr/>
              <p:nvPr/>
            </p:nvSpPr>
            <p:spPr>
              <a:xfrm>
                <a:off x="8443440" y="3377880"/>
                <a:ext cx="447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r>
                  <a:rPr b="0" lang="hu-HU" sz="18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r>
                  <a:rPr b="0" lang="hu-HU" sz="18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76400" y="3352680"/>
                <a:ext cx="864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4800" spc="-1" strike="noStrike">
                    <a:solidFill>
                      <a:srgbClr val="ffffff"/>
                    </a:solidFill>
                    <a:latin typeface="Times New Roman"/>
                  </a:rPr>
                  <a:t>( </a:t>
                </a:r>
                <a:r>
                  <a:rPr b="0" lang="hu-HU" sz="4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hu-HU" sz="4800" spc="-1" strike="noStrike">
                    <a:solidFill>
                      <a:srgbClr val="ffffff"/>
                    </a:solidFill>
                    <a:latin typeface="Times New Roman"/>
                  </a:rPr>
                  <a:t>)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824040" y="2352600"/>
            <a:ext cx="4075560" cy="3288600"/>
            <a:chOff x="824040" y="2352600"/>
            <a:chExt cx="4075560" cy="3288600"/>
          </a:xfrm>
        </p:grpSpPr>
        <p:grpSp>
          <p:nvGrpSpPr>
            <p:cNvPr id="107" name=""/>
            <p:cNvGrpSpPr/>
            <p:nvPr/>
          </p:nvGrpSpPr>
          <p:grpSpPr>
            <a:xfrm>
              <a:off x="1143000" y="2590920"/>
              <a:ext cx="3756600" cy="2590560"/>
              <a:chOff x="1143000" y="2590920"/>
              <a:chExt cx="3756600" cy="2590560"/>
            </a:xfrm>
          </p:grpSpPr>
          <p:sp>
            <p:nvSpPr>
              <p:cNvPr id="108" name=""/>
              <p:cNvSpPr/>
              <p:nvPr/>
            </p:nvSpPr>
            <p:spPr>
              <a:xfrm flipV="1">
                <a:off x="1143000" y="2590920"/>
                <a:ext cx="0" cy="25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143000" y="5181480"/>
                <a:ext cx="350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1143000" y="4267080"/>
                <a:ext cx="2286000" cy="914400"/>
                <a:chOff x="1143000" y="4267080"/>
                <a:chExt cx="2286000" cy="914400"/>
              </a:xfrm>
            </p:grpSpPr>
            <p:sp>
              <p:nvSpPr>
                <p:cNvPr id="111" name=""/>
                <p:cNvSpPr/>
                <p:nvPr/>
              </p:nvSpPr>
              <p:spPr>
                <a:xfrm flipV="1">
                  <a:off x="1143000" y="4343400"/>
                  <a:ext cx="2210040" cy="838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lg" type="oval" w="med"/>
                  <a:tailEnd len="lg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276720" y="4267080"/>
                  <a:ext cx="15228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752480" y="3048120"/>
                <a:ext cx="2286000" cy="914400"/>
                <a:chOff x="1752480" y="3048120"/>
                <a:chExt cx="2286000" cy="914400"/>
              </a:xfrm>
            </p:grpSpPr>
            <p:sp>
              <p:nvSpPr>
                <p:cNvPr id="114" name=""/>
                <p:cNvSpPr/>
                <p:nvPr/>
              </p:nvSpPr>
              <p:spPr>
                <a:xfrm flipV="1">
                  <a:off x="1752480" y="3124440"/>
                  <a:ext cx="2210040" cy="838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lg" type="oval" w="med"/>
                  <a:tailEnd len="lg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86200" y="3048120"/>
                  <a:ext cx="15228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3443040" y="3962520"/>
                <a:ext cx="943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(d</a:t>
                </a:r>
                <a:r>
                  <a:rPr b="0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,d</a:t>
                </a:r>
                <a:r>
                  <a:rPr b="0" lang="hu-H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58320" y="3124080"/>
                <a:ext cx="124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P’(x’,y’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82880" y="44197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6720" y="3429000"/>
                <a:ext cx="93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P(x,y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24040" y="235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6588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60B-AFB5-4F78-A3DA-C9AD18E46B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0E1E1-55DF-4F5D-A707-5F40AC3C80E4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2D eltolás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- szakasz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80560" cy="711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ff33"/>
                </a:solidFill>
                <a:latin typeface="Times New Roman"/>
              </a:rPr>
              <a:t>Elegendő az új végpontokat számol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3800" y="3747960"/>
            <a:ext cx="17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’=A+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B’=B+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24040" y="2352600"/>
            <a:ext cx="4366440" cy="3666960"/>
            <a:chOff x="824040" y="2352600"/>
            <a:chExt cx="4366440" cy="3666960"/>
          </a:xfrm>
        </p:grpSpPr>
        <p:sp>
          <p:nvSpPr>
            <p:cNvPr id="126" name=""/>
            <p:cNvSpPr/>
            <p:nvPr/>
          </p:nvSpPr>
          <p:spPr>
            <a:xfrm>
              <a:off x="824040" y="235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143000" y="2590560"/>
              <a:ext cx="0" cy="342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400" y="5181480"/>
              <a:ext cx="373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10160" y="48006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3440" y="4343400"/>
              <a:ext cx="236232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8280" y="47242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A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22720" y="3352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30960" y="4200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0960" y="289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3000" y="5181480"/>
              <a:ext cx="236232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6520" y="3149640"/>
              <a:ext cx="2361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8480" y="35812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3149640"/>
              <a:ext cx="533160" cy="11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3619440"/>
              <a:ext cx="533520" cy="11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5800" y="5299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8164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849-DBC6-476F-B685-60E547A227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E1E6A-95BA-470E-9813-2CA92A74CB43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380880"/>
            <a:ext cx="808056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2D nagyítás/kicsinyíté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625400"/>
            <a:ext cx="8080560" cy="71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ff33"/>
                </a:solidFill>
                <a:latin typeface="Times New Roman"/>
              </a:rPr>
              <a:t>Origóból történ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1160" y="2133720"/>
            <a:ext cx="17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’=A+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B’=B+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14400" y="2590560"/>
            <a:ext cx="2590920" cy="2819160"/>
            <a:chOff x="914400" y="2590560"/>
            <a:chExt cx="2590920" cy="2819160"/>
          </a:xfrm>
        </p:grpSpPr>
        <p:sp>
          <p:nvSpPr>
            <p:cNvPr id="146" name=""/>
            <p:cNvSpPr/>
            <p:nvPr/>
          </p:nvSpPr>
          <p:spPr>
            <a:xfrm flipV="1">
              <a:off x="1143000" y="2590560"/>
              <a:ext cx="0" cy="28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518148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46195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11560" y="2971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P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8120" y="4657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33440" y="33526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120920" y="3733920"/>
            <a:ext cx="467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Szokták a kettőt együ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u-HU" sz="2800" spc="-1" strike="noStrike">
                <a:solidFill>
                  <a:srgbClr val="ff0033"/>
                </a:solidFill>
                <a:latin typeface="Times New Roman"/>
              </a:rPr>
              <a:t>SKÁLÁZÁSKÉNT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említe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57F-FF0C-4357-B5D5-6EF1D0BF16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4B133-3E41-498D-98AE-E33596E9E482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2D forgatá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9360" y="1812960"/>
            <a:ext cx="362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x’ = x · cos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- y · sin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y’ = x · sin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+ y · cos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935640" y="1752120"/>
            <a:ext cx="4898160" cy="4801680"/>
            <a:chOff x="-935640" y="1752120"/>
            <a:chExt cx="4898160" cy="4801680"/>
          </a:xfrm>
        </p:grpSpPr>
        <p:sp>
          <p:nvSpPr>
            <p:cNvPr id="156" name=""/>
            <p:cNvSpPr/>
            <p:nvPr/>
          </p:nvSpPr>
          <p:spPr>
            <a:xfrm flipV="1">
              <a:off x="1143000" y="1752120"/>
              <a:ext cx="0" cy="353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4343040"/>
              <a:ext cx="3048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9760" y="21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236196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131840" y="2134440"/>
              <a:ext cx="1090800" cy="22100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143000" y="2971440"/>
              <a:ext cx="2362320" cy="13716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-935640" y="2138760"/>
              <a:ext cx="4134960" cy="441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857" y="1257"/>
                  </a:moveTo>
                  <a:arcTo wR="10800" hR="10800" stAng="-3724683" swAng="1956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857" y="1257"/>
                  </a:moveTo>
                  <a:arcTo wR="10800" hR="10800" stAng="-3724683" swAng="1956994"/>
                </a:path>
              </a:pathLst>
            </a:custGeom>
            <a:noFill/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913320" y="2498040"/>
              <a:ext cx="4112640" cy="36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7" y="11070"/>
                  </a:moveTo>
                  <a:arcTo wR="10800" hR="10800" stAng="85814" swAng="174910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7" y="11070"/>
                  </a:moveTo>
                  <a:arcTo wR="10800" hR="10800" stAng="85814" swAng="1749104"/>
                </a:path>
              </a:pathLst>
            </a:custGeom>
            <a:noFill/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4344840"/>
              <a:ext cx="2362320" cy="1293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95480" y="327636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5000" y="3276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P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13160" y="4613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20800" y="2361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194000" y="3016080"/>
            <a:ext cx="3803760" cy="1099440"/>
            <a:chOff x="4194000" y="3016080"/>
            <a:chExt cx="3803760" cy="1099440"/>
          </a:xfrm>
        </p:grpSpPr>
        <p:sp>
          <p:nvSpPr>
            <p:cNvPr id="170" name=""/>
            <p:cNvSpPr/>
            <p:nvPr/>
          </p:nvSpPr>
          <p:spPr>
            <a:xfrm>
              <a:off x="4421160" y="3141720"/>
              <a:ext cx="43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x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y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94000" y="3016080"/>
              <a:ext cx="3803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600" spc="-1" strike="noStrike">
                  <a:solidFill>
                    <a:srgbClr val="ffffff"/>
                  </a:solidFill>
                  <a:latin typeface="Times New Roman"/>
                </a:rPr>
                <a:t>( )</a:t>
              </a:r>
              <a:r>
                <a:rPr b="0" lang="hu-HU" sz="5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hu-HU" sz="6600" spc="-1" strike="noStrike">
                  <a:solidFill>
                    <a:srgbClr val="ffffff"/>
                  </a:solidFill>
                  <a:latin typeface="Times New Roman"/>
                </a:rPr>
                <a:t>(        )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720" y="320040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-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    cos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85784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’ = R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8080200" cy="711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ff33"/>
                </a:solidFill>
                <a:latin typeface="Times New Roman"/>
              </a:rPr>
              <a:t>Origó körü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5FC-5F11-4235-B7E9-42986A646A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AB6B2-22E4-463F-A5B5-E0EFD51896B0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2560" y="380880"/>
            <a:ext cx="8080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cc66"/>
                </a:solidFill>
                <a:uFillTx/>
                <a:latin typeface="Arial"/>
              </a:rPr>
              <a:t>2D transzformációk</a:t>
            </a:r>
            <a:r>
              <a:rPr b="1" lang="hu-HU" sz="2800" spc="-1" strike="noStrike">
                <a:solidFill>
                  <a:srgbClr val="ffcc66"/>
                </a:solidFill>
                <a:latin typeface="Arial"/>
              </a:rPr>
              <a:t> - homogén koordinátákka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256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(x, y)  homogén koordinátákkal: (x, y, 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gyenlősé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(x,y,W) = (x’,y’,W’) ,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ha van olyan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β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gy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x’=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x, y’=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W’= 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b2b2b2"/>
                </a:solidFill>
                <a:latin typeface="Times New Roman"/>
              </a:rPr>
              <a:t>pl: (2, 3, 6) = (4, 6, 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agyis egy ponthoz végtelen sok (x,y,W) tartozi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0,0,0) nem megengedet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Ha W=0  =&gt;  (x,y,W) végtelen távoli p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7B1-789E-40C8-BE44-75E4330BAF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DC01C-A694-42AB-878D-6556CED61CF1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2560" y="266400"/>
            <a:ext cx="8080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Kapcsolat 2D és 3D köz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760" y="1294920"/>
            <a:ext cx="3291120" cy="87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t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t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) egye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3D tér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65480" y="3281400"/>
            <a:ext cx="2149560" cy="825120"/>
            <a:chOff x="4065480" y="3281400"/>
            <a:chExt cx="2149560" cy="825120"/>
          </a:xfrm>
        </p:grpSpPr>
        <p:sp>
          <p:nvSpPr>
            <p:cNvPr id="180" name=""/>
            <p:cNvSpPr/>
            <p:nvPr/>
          </p:nvSpPr>
          <p:spPr>
            <a:xfrm>
              <a:off x="4065480" y="3281400"/>
              <a:ext cx="214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4800" spc="-1" strike="noStrike">
                  <a:solidFill>
                    <a:srgbClr val="ffffff"/>
                  </a:solidFill>
                  <a:latin typeface="Times New Roman"/>
                </a:rPr>
                <a:t>(       </a:t>
              </a:r>
              <a:r>
                <a:rPr b="0" lang="hu-HU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hu-HU" sz="4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40440" y="3376440"/>
              <a:ext cx="94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x      y</a:t>
              </a:r>
              <a:r>
                <a:rPr b="1" lang="hu-HU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W    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00440" y="34592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13160" y="34592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51240" y="3727440"/>
              <a:ext cx="34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16440" y="3730680"/>
              <a:ext cx="34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599840" y="1523880"/>
            <a:ext cx="3870360" cy="4269960"/>
            <a:chOff x="1599840" y="1523880"/>
            <a:chExt cx="3870360" cy="4269960"/>
          </a:xfrm>
        </p:grpSpPr>
        <p:sp>
          <p:nvSpPr>
            <p:cNvPr id="187" name=""/>
            <p:cNvSpPr/>
            <p:nvPr/>
          </p:nvSpPr>
          <p:spPr>
            <a:xfrm flipV="1">
              <a:off x="2286000" y="1600200"/>
              <a:ext cx="0" cy="266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599840" y="4267080"/>
              <a:ext cx="68580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0" y="4267080"/>
              <a:ext cx="289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599840" y="3429000"/>
              <a:ext cx="6858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504960" y="3429000"/>
              <a:ext cx="6858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600200" y="4572000"/>
              <a:ext cx="1905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286000" y="3429000"/>
              <a:ext cx="1905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286000" y="3733560"/>
              <a:ext cx="380880" cy="5331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666880" y="2590560"/>
              <a:ext cx="83844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505320" y="1600200"/>
              <a:ext cx="6858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15760" y="240336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P(x,y,W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54280" y="5334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37200" y="426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50480" y="1523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72000" y="391644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 vetülete a W=1 sík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4000" y="4994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a végtelen távoli pontok nincsenek a sík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EBD-4748-44FA-9F9B-E110A38AFC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DA02D-F198-4783-B126-AA796925E776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cc66"/>
                </a:solidFill>
                <a:uFillTx/>
                <a:latin typeface="Arial"/>
              </a:rPr>
              <a:t>2D eltolás</a:t>
            </a:r>
            <a:r>
              <a:rPr b="1" lang="hu-HU" sz="4400" spc="-1" strike="noStrike">
                <a:solidFill>
                  <a:srgbClr val="ffcc66"/>
                </a:solidFill>
                <a:latin typeface="Arial"/>
              </a:rPr>
              <a:t> - matematikaila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2560" y="838080"/>
            <a:ext cx="4997520" cy="144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9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u-HU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hu-HU" sz="9600" spc="-1" strike="noStrike">
                <a:solidFill>
                  <a:srgbClr val="ffffff"/>
                </a:solidFill>
                <a:latin typeface="Times New Roman"/>
              </a:rPr>
              <a:t>(    )(</a:t>
            </a:r>
            <a:r>
              <a:rPr b="0" lang="hu-H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9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37960" y="1089000"/>
            <a:ext cx="4244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76520" y="1054080"/>
            <a:ext cx="160020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ffff"/>
                </a:solidFill>
                <a:latin typeface="Times New Roman"/>
              </a:rPr>
              <a:t>1    0   d</a:t>
            </a:r>
            <a:r>
              <a:rPr b="1" lang="hu-HU" sz="23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ffff"/>
                </a:solidFill>
                <a:latin typeface="Times New Roman"/>
              </a:rPr>
              <a:t>0    1   d</a:t>
            </a:r>
            <a:r>
              <a:rPr b="1" lang="hu-HU" sz="23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0033"/>
                </a:solidFill>
                <a:latin typeface="Times New Roman"/>
              </a:rPr>
              <a:t>0    0    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60840" y="1104840"/>
            <a:ext cx="3268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10400" y="1424160"/>
            <a:ext cx="2950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’ = T(d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d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3160" y="23194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91040" y="1981080"/>
            <a:ext cx="3542760" cy="1524240"/>
            <a:chOff x="1391040" y="1981080"/>
            <a:chExt cx="3542760" cy="1524240"/>
          </a:xfrm>
        </p:grpSpPr>
        <p:sp>
          <p:nvSpPr>
            <p:cNvPr id="211" name=""/>
            <p:cNvSpPr/>
            <p:nvPr/>
          </p:nvSpPr>
          <p:spPr>
            <a:xfrm>
              <a:off x="2712960" y="1981080"/>
              <a:ext cx="22208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(  </a:t>
              </a:r>
              <a:r>
                <a:rPr b="0" lang="hu-HU" sz="5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78080" y="2246400"/>
              <a:ext cx="1600200" cy="12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1    0   d</a:t>
              </a:r>
              <a:r>
                <a:rPr b="1" lang="hu-HU" sz="23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ffff"/>
                  </a:solidFill>
                  <a:latin typeface="Times New Roman"/>
                </a:rPr>
                <a:t>0    1   d</a:t>
              </a:r>
              <a:r>
                <a:rPr b="1" lang="hu-HU" sz="23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300" spc="-1" strike="noStrike">
                  <a:solidFill>
                    <a:srgbClr val="ff0033"/>
                  </a:solidFill>
                  <a:latin typeface="Times New Roman"/>
                </a:rPr>
                <a:t>0    0    1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91040" y="2576520"/>
              <a:ext cx="1575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ffffff"/>
                  </a:solidFill>
                  <a:latin typeface="Times New Roman"/>
                </a:rPr>
                <a:t>T(d</a:t>
              </a:r>
              <a:r>
                <a:rPr b="0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hu-HU" sz="2800" spc="-1" strike="noStrike">
                  <a:solidFill>
                    <a:srgbClr val="ffffff"/>
                  </a:solidFill>
                  <a:latin typeface="Times New Roman"/>
                </a:rPr>
                <a:t>, d</a:t>
              </a:r>
              <a:r>
                <a:rPr b="0" lang="hu-HU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u-HU" sz="2800" spc="-1" strike="noStrike">
                  <a:solidFill>
                    <a:srgbClr val="ffffff"/>
                  </a:solidFill>
                  <a:latin typeface="Times New Roman"/>
                </a:rPr>
                <a:t>)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997880" y="2209680"/>
            <a:ext cx="4153680" cy="1132560"/>
            <a:chOff x="4997880" y="2209680"/>
            <a:chExt cx="4153680" cy="1132560"/>
          </a:xfrm>
        </p:grpSpPr>
        <p:sp>
          <p:nvSpPr>
            <p:cNvPr id="215" name=""/>
            <p:cNvSpPr/>
            <p:nvPr/>
          </p:nvSpPr>
          <p:spPr>
            <a:xfrm>
              <a:off x="4997880" y="2209680"/>
              <a:ext cx="415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Ismételt eltolások (kompozíció)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P                  P’                  P’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99200" y="2805120"/>
              <a:ext cx="1197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80320" y="2824200"/>
              <a:ext cx="1197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38720" y="2832120"/>
              <a:ext cx="143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T(d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x1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 d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y1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5720" y="2819520"/>
              <a:ext cx="158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T(d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x2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, d</a:t>
              </a:r>
              <a:r>
                <a:rPr b="0" lang="hu-HU" sz="2400" spc="-1" strike="noStrike" baseline="-25000">
                  <a:solidFill>
                    <a:srgbClr val="ffffff"/>
                  </a:solidFill>
                  <a:latin typeface="Times New Roman"/>
                </a:rPr>
                <a:t>y2</a:t>
              </a: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23000" y="32418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ompozíciók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657600"/>
            <a:ext cx="9144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’ = T(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x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y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·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 ,  P’’= T(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x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y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·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’ = T(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x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y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·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T(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x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 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y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) ·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54160" y="4057560"/>
            <a:ext cx="7594560" cy="1916280"/>
            <a:chOff x="254160" y="4057560"/>
            <a:chExt cx="7594560" cy="1916280"/>
          </a:xfrm>
        </p:grpSpPr>
        <p:sp>
          <p:nvSpPr>
            <p:cNvPr id="223" name=""/>
            <p:cNvSpPr/>
            <p:nvPr/>
          </p:nvSpPr>
          <p:spPr>
            <a:xfrm>
              <a:off x="254160" y="4057560"/>
              <a:ext cx="734040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hu-HU" sz="4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)(  </a:t>
              </a:r>
              <a:r>
                <a:rPr b="0" lang="hu-HU" sz="6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 )</a:t>
              </a:r>
              <a:r>
                <a:rPr b="0" lang="hu-HU" sz="7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hu-HU" sz="54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hu-HU" sz="9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684360" y="4259160"/>
              <a:ext cx="7164360" cy="1714680"/>
              <a:chOff x="684360" y="4259160"/>
              <a:chExt cx="7164360" cy="1714680"/>
            </a:xfrm>
          </p:grpSpPr>
          <p:sp>
            <p:nvSpPr>
              <p:cNvPr id="225" name=""/>
              <p:cNvSpPr/>
              <p:nvPr/>
            </p:nvSpPr>
            <p:spPr>
              <a:xfrm>
                <a:off x="684360" y="4272120"/>
                <a:ext cx="1600200" cy="12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300" spc="-1" strike="noStrike">
                    <a:solidFill>
                      <a:srgbClr val="ffffff"/>
                    </a:solidFill>
                    <a:latin typeface="Times New Roman"/>
                  </a:rPr>
                  <a:t>1    0   d</a:t>
                </a:r>
                <a:r>
                  <a:rPr b="1" lang="hu-HU" sz="2300" spc="-1" strike="noStrike" baseline="-25000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300" spc="-1" strike="noStrike">
                    <a:solidFill>
                      <a:srgbClr val="ffffff"/>
                    </a:solidFill>
                    <a:latin typeface="Times New Roman"/>
                  </a:rPr>
                  <a:t>0    1   d</a:t>
                </a:r>
                <a:r>
                  <a:rPr b="1" lang="hu-HU" sz="2300" spc="-1" strike="noStrike" baseline="-25000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300" spc="-1" strike="noStrike">
                    <a:solidFill>
                      <a:srgbClr val="ff0033"/>
                    </a:solidFill>
                    <a:latin typeface="Times New Roman"/>
                  </a:rPr>
                  <a:t>0    0    1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67160" y="4259160"/>
                <a:ext cx="1600200" cy="12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300" spc="-1" strike="noStrike">
                    <a:solidFill>
                      <a:srgbClr val="ffffff"/>
                    </a:solidFill>
                    <a:latin typeface="Times New Roman"/>
                  </a:rPr>
                  <a:t>1    0   d</a:t>
                </a:r>
                <a:r>
                  <a:rPr b="1" lang="hu-HU" sz="2300" spc="-1" strike="noStrike" baseline="-25000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300" spc="-1" strike="noStrike">
                    <a:solidFill>
                      <a:srgbClr val="ffffff"/>
                    </a:solidFill>
                    <a:latin typeface="Times New Roman"/>
                  </a:rPr>
                  <a:t>0    1   d</a:t>
                </a:r>
                <a:r>
                  <a:rPr b="1" lang="hu-HU" sz="2300" spc="-1" strike="noStrike" baseline="-25000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300" spc="-1" strike="noStrike">
                    <a:solidFill>
                      <a:srgbClr val="ff0033"/>
                    </a:solidFill>
                    <a:latin typeface="Times New Roman"/>
                  </a:rPr>
                  <a:t>0    0    1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94280" y="4357800"/>
                <a:ext cx="2098800" cy="12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300" spc="-1" strike="noStrike">
                    <a:solidFill>
                      <a:srgbClr val="ffffff"/>
                    </a:solidFill>
                    <a:latin typeface="Times New Roman"/>
                  </a:rPr>
                  <a:t>1    0   d</a:t>
                </a:r>
                <a:r>
                  <a:rPr b="1" lang="hu-HU" sz="2300" spc="-1" strike="noStrike" baseline="-25000">
                    <a:solidFill>
                      <a:srgbClr val="ffffff"/>
                    </a:solidFill>
                    <a:latin typeface="Times New Roman"/>
                  </a:rPr>
                  <a:t>x1</a:t>
                </a:r>
                <a:r>
                  <a:rPr b="1" lang="hu-HU" sz="2300" spc="-1" strike="noStrike">
                    <a:solidFill>
                      <a:srgbClr val="ffffff"/>
                    </a:solidFill>
                    <a:latin typeface="Times New Roman"/>
                  </a:rPr>
                  <a:t> +d</a:t>
                </a:r>
                <a:r>
                  <a:rPr b="1" lang="hu-HU" sz="2300" spc="-1" strike="noStrike" baseline="-25000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300" spc="-1" strike="noStrike">
                    <a:solidFill>
                      <a:srgbClr val="ffffff"/>
                    </a:solidFill>
                    <a:latin typeface="Times New Roman"/>
                  </a:rPr>
                  <a:t>0    1   d</a:t>
                </a:r>
                <a:r>
                  <a:rPr b="1" lang="hu-HU" sz="2300" spc="-1" strike="noStrike" baseline="-25000">
                    <a:solidFill>
                      <a:srgbClr val="ffffff"/>
                    </a:solidFill>
                    <a:latin typeface="Times New Roman"/>
                  </a:rPr>
                  <a:t>x1</a:t>
                </a:r>
                <a:r>
                  <a:rPr b="1" lang="hu-HU" sz="2300" spc="-1" strike="noStrike">
                    <a:solidFill>
                      <a:srgbClr val="ffffff"/>
                    </a:solidFill>
                    <a:latin typeface="Times New Roman"/>
                  </a:rPr>
                  <a:t> +d</a:t>
                </a:r>
                <a:r>
                  <a:rPr b="1" lang="hu-HU" sz="2300" spc="-1" strike="noStrike" baseline="-25000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300" spc="-1" strike="noStrike">
                    <a:solidFill>
                      <a:srgbClr val="ff0033"/>
                    </a:solidFill>
                    <a:latin typeface="Times New Roman"/>
                  </a:rPr>
                  <a:t>0    0         1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641760" y="5394240"/>
                <a:ext cx="4206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800" spc="-1" strike="noStrike">
                    <a:solidFill>
                      <a:srgbClr val="ffffff"/>
                    </a:solidFill>
                    <a:latin typeface="Times New Roman"/>
                  </a:rPr>
                  <a:t>=T(d</a:t>
                </a:r>
                <a:r>
                  <a:rPr b="0" lang="hu-HU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x1</a:t>
                </a:r>
                <a:r>
                  <a:rPr b="0" lang="hu-HU" sz="2800" spc="-1" strike="noStrike">
                    <a:solidFill>
                      <a:srgbClr val="ffffff"/>
                    </a:solidFill>
                    <a:latin typeface="Times New Roman"/>
                  </a:rPr>
                  <a:t>+d</a:t>
                </a:r>
                <a:r>
                  <a:rPr b="0" lang="hu-HU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x2</a:t>
                </a:r>
                <a:r>
                  <a:rPr b="0" lang="hu-HU" sz="2800" spc="-1" strike="noStrike">
                    <a:solidFill>
                      <a:srgbClr val="ffffff"/>
                    </a:solidFill>
                    <a:latin typeface="Times New Roman"/>
                  </a:rPr>
                  <a:t>, d</a:t>
                </a:r>
                <a:r>
                  <a:rPr b="0" lang="hu-HU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y1</a:t>
                </a:r>
                <a:r>
                  <a:rPr b="0" lang="hu-HU" sz="2800" spc="-1" strike="noStrike">
                    <a:solidFill>
                      <a:srgbClr val="ffffff"/>
                    </a:solidFill>
                    <a:latin typeface="Times New Roman"/>
                  </a:rPr>
                  <a:t>+d</a:t>
                </a:r>
                <a:r>
                  <a:rPr b="0" lang="hu-HU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y2</a:t>
                </a:r>
                <a:r>
                  <a:rPr b="0" lang="hu-HU" sz="2800" spc="-1" strike="noStrike">
                    <a:solidFill>
                      <a:srgbClr val="ffffff"/>
                    </a:solidFill>
                    <a:latin typeface="Times New Roman"/>
                  </a:rPr>
                  <a:t>)</a:t>
                </a: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hu-HU" sz="2400" spc="-1" strike="noStrike">
                    <a:solidFill>
                      <a:srgbClr val="ffffff"/>
                    </a:solidFill>
                    <a:latin typeface="Times New Roman"/>
                  </a:rPr>
                  <a:t>· </a:t>
                </a:r>
                <a:r>
                  <a:rPr b="0" lang="hu-HU" sz="28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0" lang="hu-HU" sz="2400" spc="-1" strike="noStrike">
                    <a:solidFill>
                      <a:srgbClr val="ffffff"/>
                    </a:solidFill>
                    <a:latin typeface="Times New Roman"/>
                  </a:rPr>
                  <a:t> 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 1.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587-0635-4D0F-9100-C7FE45A351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00E6A-7170-4851-9097-F1E45B9E4737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rváth Tamás</cp:lastModifiedBy>
  <dcterms:modified xsi:type="dcterms:W3CDTF">2003-01-11T14:13:30Z</dcterms:modified>
  <cp:revision>43</cp:revision>
  <dc:subject/>
  <dc:title>PowerPoint bemutató</dc:title>
</cp:coreProperties>
</file>