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9.gif" ContentType="image/gif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849-E40A-4A02-A3D9-CAA93719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0B8-758A-44D3-B432-3668C349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7C2-5131-4A29-98BB-8A974DE5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625-AC1C-4F8F-90DD-56E5BB48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E23B-C1CF-401F-9057-9C8D3731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2AF4-29E9-484B-AC3A-A2597233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1738-3F9D-4AD8-9C18-CEDE9B9D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19A6-59C8-463C-8D4F-7772C9AA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3E06-2543-4B7D-91A9-5DD1BE44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3244-AFA5-46C6-AC33-65E8F1FA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0C16-8241-488C-A9C6-E7792C95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B29-46B3-4DA8-B282-1FBA49D7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6279-446C-4536-BF4D-1188B60F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10DF-94DE-4916-B9C5-CC3ADE7E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16E1-FBCF-49EB-8DF1-75103952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914A-405D-4004-A83A-280B8EF4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296B-72FA-40E3-B038-3C701B83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4D1-63ED-44B0-8456-D437D04C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84C-D52E-4FEA-A0D4-487A0FB3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C3B-FEF8-409E-AFF4-88D869E2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082-4DDC-4051-B957-FD0C7503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942-CA19-4273-8D1A-88C7AF7E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690-E670-41D4-AAD9-C39BD709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AC8-50FD-4719-A1EA-3A1E6578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CC3F-29CC-4051-B8D1-D5040CCA1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B42E-3D62-4E60-9D68-79B218A27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f.u-szeged.hu/~mistvan" TargetMode="External"/><Relationship Id="rId2" Type="http://schemas.openxmlformats.org/officeDocument/2006/relationships/hyperlink" Target="http://www.inf.u-szeged.hu/~mistvan" TargetMode="External"/><Relationship Id="rId3" Type="http://schemas.openxmlformats.org/officeDocument/2006/relationships/hyperlink" Target="http://www.inf.u-szeged.hu/~mistvan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00"/>
                </a:solidFill>
                <a:latin typeface="Lucida Console"/>
              </a:rPr>
              <a:t>ELEKTRONIKA</a:t>
            </a:r>
            <a:br>
              <a:rPr sz="5400"/>
            </a:br>
            <a:r>
              <a:rPr b="0" lang="hu-HU" sz="4400" spc="-1" strike="noStrike">
                <a:solidFill>
                  <a:srgbClr val="ff9900"/>
                </a:solidFill>
                <a:latin typeface="Lucida Console"/>
              </a:rPr>
              <a:t>SZ</a:t>
            </a:r>
            <a:r>
              <a:rPr b="0" lang="en-US" sz="4400" spc="-1" strike="noStrike">
                <a:solidFill>
                  <a:srgbClr val="ff9900"/>
                </a:solidFill>
                <a:latin typeface="Lucida Console"/>
              </a:rPr>
              <a:t>TE – </a:t>
            </a:r>
            <a:r>
              <a:rPr b="0" lang="hu-HU" sz="4400" spc="-1" strike="noStrike">
                <a:solidFill>
                  <a:srgbClr val="ff9900"/>
                </a:solidFill>
                <a:latin typeface="Lucida Console"/>
              </a:rPr>
              <a:t>TTK</a:t>
            </a:r>
            <a:r>
              <a:rPr b="0" lang="en-US" sz="4400" spc="-1" strike="noStrike">
                <a:solidFill>
                  <a:srgbClr val="ff9900"/>
                </a:solidFill>
                <a:latin typeface="Lucida Console"/>
              </a:rPr>
              <a:t> </a:t>
            </a:r>
            <a:br>
              <a:rPr sz="4400"/>
            </a:br>
            <a:r>
              <a:rPr b="0" lang="hu-HU" sz="4000" spc="-1" strike="noStrike">
                <a:solidFill>
                  <a:srgbClr val="ff9900"/>
                </a:solidFill>
                <a:latin typeface="Lucida Console"/>
              </a:rPr>
              <a:t>Informatika Tanszékcsopor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Verdana"/>
              </a:rPr>
              <a:t>D</a:t>
            </a:r>
            <a:r>
              <a:rPr b="1" lang="en-GB" sz="3200" spc="-1" strike="noStrike">
                <a:solidFill>
                  <a:srgbClr val="66ccff"/>
                </a:solidFill>
                <a:latin typeface="Verdana"/>
              </a:rPr>
              <a:t>r. Matijevics István</a:t>
            </a:r>
            <a:r>
              <a:rPr b="1" lang="hu-HU" sz="3200" spc="-1" strike="noStrike">
                <a:solidFill>
                  <a:srgbClr val="66ccff"/>
                </a:solidFill>
                <a:latin typeface="Verdana"/>
              </a:rPr>
              <a:t>, főiskolai taná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88620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www.inf.u-szeged.hu</a:t>
            </a:r>
            <a:r>
              <a:rPr b="0" lang="hu-HU" sz="32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/~</a:t>
            </a:r>
            <a:r>
              <a:rPr b="0" lang="hu-HU" sz="32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mistvan</a:t>
            </a:r>
            <a:r>
              <a:rPr b="1" lang="hu-HU" sz="3200" spc="-1" strike="noStrike">
                <a:solidFill>
                  <a:srgbClr val="66ccff"/>
                </a:solidFill>
                <a:latin typeface="Times New Roman"/>
              </a:rPr>
              <a:t> és /pub/elektron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66ccff"/>
                </a:solidFill>
                <a:latin typeface="Times New Roman"/>
              </a:rPr>
              <a:t>Számítógépes algoritmusok és mesterséges intelligencia tanszék, 57-es szo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58B0-7DA0-4A3F-91E3-83AAAEB946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lapfogalma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II. Világháború alatt/után digitális számítógépek tervezése, gyártása, elterjedése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1981080" cy="1963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057400" y="3122640"/>
            <a:ext cx="2438280" cy="2063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1608120" cy="2133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400800" y="3124080"/>
            <a:ext cx="2533680" cy="189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797-534C-4D79-BA6B-E8DD80132A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lapfogalma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 gépek mind áramköri, mind koncepcionális szempontból igen sokat fejlesztettek az elektronikán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komputerek jelen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égét igazában ma még pontosan nem is tudjuk felmérni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36F-0B5C-4603-AB85-E82021E531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lapfogalma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 elektronika fejl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ésének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agy lendületet adott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rakéták vezérlése, az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ű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programok indítása is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163512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EB4-DDE4-4135-8473-4E7587EC03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lapfogalma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népsze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ű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é váló közhasznú elektronikus berendezései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z ipari folymatok m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ű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zerezési igényei, vezérlési feladatai is jelen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n növelték az elektronikus áramkörök számát, jelen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égé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971800" y="4343400"/>
            <a:ext cx="2209680" cy="1652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696080" y="438156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024760" y="2743200"/>
            <a:ext cx="1119240" cy="1539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410080" y="449568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ADB-6D8D-4791-85C6-9A0F047FB5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lapfogalma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it</a:t>
            </a:r>
            <a:r>
              <a:rPr b="1" i="1" lang="hu-HU" sz="2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l fejl</a:t>
            </a:r>
            <a:r>
              <a:rPr b="1" i="1" lang="hu-HU" sz="2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dik az elektronika?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- a fizikusok (alap és alkalmazott kutatók)  újat találn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k k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- a villamosmérnökök és tervez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k törekvése, hogy olyat hozzanak létre, ami használható és ami gyakorlati probléma megoldására való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- a vállalkozók és managerek a piac befolyásolásával új igényeket keltenek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f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- a társadalmak által a hadiiparba beruházott megszámlálhatatlan pénz-milliárd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A95-C34D-4D98-8E9E-31946105B6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lapfogalma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Kinek kellenek elektronikus ismeretek? Mindenkinek, aki a környezetét csak egy kicsit is szeretné megérteni. Mindenkinek, akinek szellemi igényei messzebre terjednek, minthogy tudja, melyik gombot kell megnyomnia, ha...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C23-0BAF-4F76-85E5-4EE013FFDF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 tárgy tantervi jellemzői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ti óraszám:  2 + 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zámonkérés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Laboratóriu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( 80 pontból min. 40 ke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!!!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írásbeli vizsga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( 20 pontból min. 10 ke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!!!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reditérték: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ACC-A54C-4ECA-9762-D190FA76B0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Irodalom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ittya Ottó: Bevezetés az elektronikába, LS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Szittya Ottó: Digitális és analóg technika, LSI oktatóközpont, 199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143 – 289. Oldal = ELŐADÁSO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JÁNLOT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ietze-Schenk: Analóg és digitális áramkörök, Műszaki Könyvkiad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40DB-15DD-423E-9279-E024CBB1FA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lapfogalma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ktronika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lektromosan vezérelhe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lemek segítségével (elektronc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, tranzisztor, optoelektronikus elem, stb.) valamely speciális feladat meg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oldása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441360"/>
            <a:ext cx="7772400" cy="597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9A8-324D-42F2-BF76-34FA31F9A9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lapfogalma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lektronikus áramkör</a:t>
            </a:r>
            <a:r>
              <a:rPr b="1" i="1" lang="hu-HU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ktronikus alkatelemek (elektronc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, tranzisztor, speciális félveze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, stb.) és lineáris hálózati elemek kombinációi, egy feladat megoldására célsze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ű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 összeválogatva, összehangolva. Az áramköröket az alkatelemek, valamint az összekötésüket definiáló gráf együttese szabja meg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110808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1981440" cy="1023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1828800" cy="10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74D-4989-495C-802F-68527848EC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lapfogalma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z elektronikus áramkörök</a:t>
            </a:r>
            <a:r>
              <a:rPr b="1" i="1" lang="hu-HU" sz="3200" spc="-1" strike="noStrike">
                <a:solidFill>
                  <a:srgbClr val="ffffff"/>
                </a:solidFill>
                <a:latin typeface="Arial"/>
              </a:rPr>
              <a:t> fejlődése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uszas évek telefon,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armincas évek végére hangfrekvenciás és rádiófrekvenciás er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í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, visszacsatolt áramkörök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2362320" cy="184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2438280" cy="1663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99828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781680" y="3886200"/>
            <a:ext cx="213372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34D-5D3A-4A87-A92F-7D950D8BFC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lapfogalma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második világháború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dar rendszerek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pulzustechnikai áramkörök.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háború után televíziózá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ukleáris kutatások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lektronikus méréstechnik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9480" y="3733920"/>
            <a:ext cx="1163880" cy="1676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1676520" cy="1639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267080" y="3733920"/>
            <a:ext cx="2057400" cy="1595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477120" y="2819520"/>
            <a:ext cx="2438280" cy="14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781680" y="4648320"/>
            <a:ext cx="169416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0B3-6839-4880-8CF7-71C113752A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lapfogalma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tranzisztor felfedezése (1948)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áramkörök teljesítmény-igényé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nek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radikáli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sökken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s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3581280"/>
            <a:ext cx="2590560" cy="1339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2057400" cy="1492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400800" y="3352680"/>
            <a:ext cx="2133720" cy="18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52E-9AA3-4D15-871F-1171A78154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00"/>
                </a:solidFill>
                <a:latin typeface="Times New Roman"/>
              </a:rPr>
              <a:t>Alapfogalmak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z áramkörök integrálása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kalmazott félvezet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-fizika.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képzelhetetlenül bonyolult áramkörök megbízhatóan m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ű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köd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példányainak nagysorozatban való el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állítás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1222200" cy="131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03640" cy="4983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356000" y="2060640"/>
            <a:ext cx="452304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172-A6ED-4054-8390-5D55EE03A0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ijevics István</cp:lastModifiedBy>
  <dcterms:modified xsi:type="dcterms:W3CDTF">2006-02-01T11:27:52Z</dcterms:modified>
  <cp:revision>62</cp:revision>
  <dc:subject/>
  <dc:title>PowerPoint Presentation</dc:title>
</cp:coreProperties>
</file>