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370B-85E4-4A04-9CD8-6C9F2BF46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731F-F03C-4FB9-AEB9-EDB3495A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3295-AF72-4A28-AB9C-7CBEF9377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A5D1-1F87-4B77-AE5B-12CA0B65B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C58C-B993-4984-B2EA-C4ADF62A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3537-A764-4797-8A53-531EDB61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ADF2-0808-474E-BA72-A10198EC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4193-E6C9-4FC7-AA8E-F646E810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35C7-5C6B-4CA7-BA79-9E3E00F6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17DB-9C8E-4B8C-B253-200ECA6F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C245-9A2F-4466-B372-6AF07496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FCFF-CD8D-4E4C-8C1E-C2D912B3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F9A5-CC10-4F23-ABE7-B263D972D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mic Sans MS"/>
              </a:rPr>
              <a:t>VILLAMOS ÁRAMKÖRI ALAPISMERE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mic Sans MS"/>
              </a:rPr>
              <a:t>BONYOLULT ÁRAMKÖRÖK IS ELEMEZHETŐK, HA FELBONTJUK:</a:t>
            </a:r>
            <a:r>
              <a:rPr b="0" lang="hu-H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mic Sans MS"/>
              </a:rPr>
              <a:t>kétpólusokra és négypólusok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mic Sans MS"/>
              </a:rPr>
              <a:t>Áramköri elemek típusa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hu-HU" sz="2400" spc="-1" strike="noStrike">
                <a:solidFill>
                  <a:srgbClr val="ff0000"/>
                </a:solidFill>
                <a:latin typeface="Comic Sans MS"/>
              </a:rPr>
              <a:t>aktív áramköri elemek</a:t>
            </a:r>
            <a:r>
              <a:rPr b="0" lang="hu-HU" sz="2400" spc="-1" strike="noStrike">
                <a:solidFill>
                  <a:srgbClr val="000000"/>
                </a:solidFill>
                <a:latin typeface="Comic Sans MS"/>
              </a:rPr>
              <a:t> (helyettesítő képben feszültség- vagy áramgeneráto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276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hu-HU" sz="2400" spc="-1" strike="noStrike">
                <a:solidFill>
                  <a:srgbClr val="ff0000"/>
                </a:solidFill>
                <a:latin typeface="Comic Sans MS"/>
              </a:rPr>
              <a:t>passzív áramköri elemek</a:t>
            </a:r>
            <a:r>
              <a:rPr b="0" lang="hu-HU" sz="2400" spc="-1" strike="noStrike">
                <a:solidFill>
                  <a:srgbClr val="000000"/>
                </a:solidFill>
                <a:latin typeface="Comic Sans MS"/>
              </a:rPr>
              <a:t> (helyettesítő képben nem található feszültség- vagy áramgenerá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11480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hu-HU" sz="2400" spc="-1" strike="noStrike">
                <a:solidFill>
                  <a:srgbClr val="ff0000"/>
                </a:solidFill>
                <a:latin typeface="Comic Sans MS"/>
              </a:rPr>
              <a:t>lineáris áramköri elemek</a:t>
            </a:r>
            <a:r>
              <a:rPr b="0" lang="hu-HU" sz="2400" spc="-1" strike="noStrike">
                <a:solidFill>
                  <a:srgbClr val="000000"/>
                </a:solidFill>
                <a:latin typeface="Comic Sans MS"/>
              </a:rPr>
              <a:t> (feszültség és áram közötti viszony lineáris függvénnyel írható 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105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hu-HU" sz="2400" spc="-1" strike="noStrike">
                <a:solidFill>
                  <a:srgbClr val="ff0000"/>
                </a:solidFill>
                <a:latin typeface="Comic Sans MS"/>
              </a:rPr>
              <a:t>nemlineáris áramköri elemek</a:t>
            </a:r>
            <a:r>
              <a:rPr b="0" lang="hu-HU" sz="2400" spc="-1" strike="noStrike">
                <a:solidFill>
                  <a:srgbClr val="000000"/>
                </a:solidFill>
                <a:latin typeface="Comic Sans MS"/>
              </a:rPr>
              <a:t> (feszültség és áram közötti viszony nemlineáris függvénnyel írható 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C9D1-D976-49F2-8F01-32425F9E8BA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mic Sans MS"/>
              </a:rPr>
              <a:t>VILLAMOS ÁRAMKÖRI ALAPISMERE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371600"/>
            <a:ext cx="914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Comic Sans MS"/>
              </a:rPr>
              <a:t>Kétpólusok</a:t>
            </a:r>
            <a:r>
              <a:rPr b="0" lang="hu-HU" sz="2400" spc="-1" strike="noStrike">
                <a:solidFill>
                  <a:srgbClr val="000000"/>
                </a:solidFill>
                <a:latin typeface="Comic Sans MS"/>
              </a:rPr>
              <a:t> - tetszőlegesen bonyolult hálózat két villamos csatlakozási pontt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u-HU" sz="2400" spc="-1" strike="noStrike">
                <a:solidFill>
                  <a:srgbClr val="3333cc"/>
                </a:solidFill>
                <a:latin typeface="Comic Sans MS"/>
              </a:rPr>
              <a:t>aktív</a:t>
            </a:r>
            <a:r>
              <a:rPr b="0" lang="hu-H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omic Sans MS"/>
              </a:rPr>
              <a:t>  – energia leadására képes (generátorjellegű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u-HU" sz="2400" spc="-1" strike="noStrike">
                <a:solidFill>
                  <a:srgbClr val="3333cc"/>
                </a:solidFill>
                <a:latin typeface="Comic Sans MS"/>
              </a:rPr>
              <a:t>passzív</a:t>
            </a:r>
            <a:r>
              <a:rPr b="0" lang="hu-HU" sz="2400" spc="-1" strike="noStrike">
                <a:solidFill>
                  <a:srgbClr val="000000"/>
                </a:solidFill>
                <a:latin typeface="Comic Sans MS"/>
              </a:rPr>
              <a:t> –elektromos energiát vesz fel (fogyasztójellegű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KEP10" descr=""/>
          <p:cNvPicPr/>
          <p:nvPr/>
        </p:nvPicPr>
        <p:blipFill>
          <a:blip r:embed="rId1"/>
          <a:stretch/>
        </p:blipFill>
        <p:spPr>
          <a:xfrm>
            <a:off x="1981080" y="3657600"/>
            <a:ext cx="5451480" cy="2000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3DBF-91E9-4FAE-810D-19776F6068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mic Sans MS"/>
              </a:rPr>
              <a:t>VILLAMOS ÁRAMKÖRI ALAPISMERE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905120"/>
            <a:ext cx="9144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</a:rPr>
              <a:t>Aktív kétpóluso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ideális és valóságos feszültséggeneráto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ideális és valóságos áramgenerátor 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a kettő kombináció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E70E-FC92-4D2B-B061-C7F45D5212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mic Sans MS"/>
              </a:rPr>
              <a:t>VILLAMOS ÁRAMKÖRI ALAPISMERE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33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</a:rPr>
              <a:t>Aktív kétpóluso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KEP11" descr=""/>
          <p:cNvPicPr/>
          <p:nvPr/>
        </p:nvPicPr>
        <p:blipFill>
          <a:blip r:embed="rId1"/>
          <a:stretch/>
        </p:blipFill>
        <p:spPr>
          <a:xfrm>
            <a:off x="609480" y="2195640"/>
            <a:ext cx="7647120" cy="466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0" y="1143000"/>
                <a:ext cx="205740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666880" y="1143000"/>
                <a:ext cx="99072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2133720" y="1143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676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kk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990720" y="1752480"/>
                <a:ext cx="914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4114800" y="6094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Üresjárási feszült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6934320" y="633240"/>
                <a:ext cx="106668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ü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4114800" y="10666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Rövidzárási á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6553080" y="1143000"/>
                <a:ext cx="14479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/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4191120" y="1600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első ellenáll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7010280" y="1676520"/>
                <a:ext cx="99072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34BB-9B12-457B-AEE8-D6B1D19F9D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mic Sans MS"/>
              </a:rPr>
              <a:t>VILLAMOS ÁRAMKÖRI ALAPISMERE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</a:rPr>
              <a:t>Aktív kétpóluso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KEP12" descr=""/>
          <p:cNvPicPr/>
          <p:nvPr/>
        </p:nvPicPr>
        <p:blipFill>
          <a:blip r:embed="rId1"/>
          <a:stretch/>
        </p:blipFill>
        <p:spPr>
          <a:xfrm>
            <a:off x="609480" y="1854360"/>
            <a:ext cx="8207640" cy="5003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52280" y="990720"/>
                <a:ext cx="16002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/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1828800" y="914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362320" y="990720"/>
                <a:ext cx="83808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76320" y="1447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kk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219320" y="1523880"/>
                <a:ext cx="6858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4114800" y="609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Üresjárási feszült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6934320" y="685800"/>
                <a:ext cx="12952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ü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4114800" y="10666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Rövidzárási á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7467480" y="1143000"/>
                <a:ext cx="7621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4191120" y="1600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első ellenáll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7315200" y="1600200"/>
                <a:ext cx="8380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5738-B769-4053-B598-B11DF7472F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mic Sans MS"/>
              </a:rPr>
              <a:t>VILLAMOS ÁRAMKÖRI ALAPISMERE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</a:rPr>
              <a:t>Passzív kétpóluso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KEP40" descr=""/>
          <p:cNvPicPr/>
          <p:nvPr/>
        </p:nvPicPr>
        <p:blipFill>
          <a:blip r:embed="rId1"/>
          <a:stretch/>
        </p:blipFill>
        <p:spPr>
          <a:xfrm>
            <a:off x="1576440" y="1886040"/>
            <a:ext cx="5989680" cy="308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7BC6-C705-4B34-A23D-C91D299828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mic Sans MS"/>
              </a:rPr>
              <a:t>VILLAMOS ÁRAMKÖRI ALAPISMERE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</a:rPr>
              <a:t>Négypóluso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KEP41" descr=""/>
          <p:cNvPicPr/>
          <p:nvPr/>
        </p:nvPicPr>
        <p:blipFill>
          <a:blip r:embed="rId1"/>
          <a:stretch/>
        </p:blipFill>
        <p:spPr>
          <a:xfrm>
            <a:off x="2362320" y="533520"/>
            <a:ext cx="4297320" cy="17492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220968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mic Sans MS"/>
              </a:rPr>
              <a:t>Áramköri elemek típusa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hu-HU" sz="2400" spc="-1" strike="noStrike">
                <a:solidFill>
                  <a:srgbClr val="ff0000"/>
                </a:solidFill>
                <a:latin typeface="Comic Sans MS"/>
              </a:rPr>
              <a:t>aktív négypólus</a:t>
            </a:r>
            <a:r>
              <a:rPr b="0" lang="hu-HU" sz="2400" spc="-1" strike="noStrike">
                <a:solidFill>
                  <a:srgbClr val="000000"/>
                </a:solidFill>
                <a:latin typeface="Comic Sans MS"/>
              </a:rPr>
              <a:t> (legalább egy aktív elemet tartalmaz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276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hu-HU" sz="2400" spc="-1" strike="noStrike">
                <a:solidFill>
                  <a:srgbClr val="ff0000"/>
                </a:solidFill>
                <a:latin typeface="Comic Sans MS"/>
              </a:rPr>
              <a:t>passzív négypólus</a:t>
            </a:r>
            <a:r>
              <a:rPr b="0" lang="hu-HU" sz="2400" spc="-1" strike="noStrike">
                <a:solidFill>
                  <a:srgbClr val="000000"/>
                </a:solidFill>
                <a:latin typeface="Comic Sans MS"/>
              </a:rPr>
              <a:t> (csak passzív elemeket tartalma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809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hu-HU" sz="2400" spc="-1" strike="noStrike">
                <a:solidFill>
                  <a:srgbClr val="ff0000"/>
                </a:solidFill>
                <a:latin typeface="Comic Sans MS"/>
              </a:rPr>
              <a:t>lineáris négypólus</a:t>
            </a:r>
            <a:r>
              <a:rPr b="0" lang="hu-HU" sz="2400" spc="-1" strike="noStrike">
                <a:solidFill>
                  <a:srgbClr val="000000"/>
                </a:solidFill>
                <a:latin typeface="Comic Sans MS"/>
              </a:rPr>
              <a:t> (minden áramköri elem lineár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343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hu-HU" sz="2400" spc="-1" strike="noStrike">
                <a:solidFill>
                  <a:srgbClr val="ff0000"/>
                </a:solidFill>
                <a:latin typeface="Comic Sans MS"/>
              </a:rPr>
              <a:t>nemlineáris négypólus</a:t>
            </a:r>
            <a:r>
              <a:rPr b="0" lang="hu-HU" sz="2400" spc="-1" strike="noStrike">
                <a:solidFill>
                  <a:srgbClr val="000000"/>
                </a:solidFill>
                <a:latin typeface="Comic Sans MS"/>
              </a:rPr>
              <a:t> (legalább egy nemlineáris el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800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hu-HU" sz="2400" spc="-1" strike="noStrike">
                <a:solidFill>
                  <a:srgbClr val="ff0000"/>
                </a:solidFill>
                <a:latin typeface="Comic Sans MS"/>
              </a:rPr>
              <a:t>szimmetrikus négypólus</a:t>
            </a:r>
            <a:r>
              <a:rPr b="0" lang="hu-HU" sz="2400" spc="-1" strike="noStrike">
                <a:solidFill>
                  <a:srgbClr val="000000"/>
                </a:solidFill>
                <a:latin typeface="Comic Sans MS"/>
              </a:rPr>
              <a:t> (kimenet, bemenet felcserélhető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562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hu-HU" sz="2400" spc="-1" strike="noStrike">
                <a:solidFill>
                  <a:srgbClr val="ff0000"/>
                </a:solidFill>
                <a:latin typeface="Comic Sans MS"/>
              </a:rPr>
              <a:t>földszimmetrikus négypólus</a:t>
            </a:r>
            <a:r>
              <a:rPr b="0" lang="hu-HU" sz="2400" spc="-1" strike="noStrike">
                <a:solidFill>
                  <a:srgbClr val="000000"/>
                </a:solidFill>
                <a:latin typeface="Comic Sans MS"/>
              </a:rPr>
              <a:t> (kimenet, bemenet felcserélhető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754A-2EF4-464E-B78F-95B3731B83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mic Sans MS"/>
              </a:rPr>
              <a:t>VILLAMOS ÁRAMKÖRI ALAPISMERE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</a:rPr>
              <a:t>Négypóluso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143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hu-HU" sz="2400" spc="-1" strike="noStrike">
                <a:solidFill>
                  <a:srgbClr val="ff0000"/>
                </a:solidFill>
                <a:latin typeface="Comic Sans MS"/>
              </a:rPr>
              <a:t>szimmetrikus négypólus</a:t>
            </a:r>
            <a:r>
              <a:rPr b="0" lang="hu-HU" sz="2400" spc="-1" strike="noStrike">
                <a:solidFill>
                  <a:srgbClr val="000000"/>
                </a:solidFill>
                <a:latin typeface="Comic Sans MS"/>
              </a:rPr>
              <a:t> (kimenet, bemenet felcserélhető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2096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hu-HU" sz="2400" spc="-1" strike="noStrike">
                <a:solidFill>
                  <a:srgbClr val="ff0000"/>
                </a:solidFill>
                <a:latin typeface="Comic Sans MS"/>
              </a:rPr>
              <a:t>földszimmetrikus négypólus</a:t>
            </a:r>
            <a:r>
              <a:rPr b="0" lang="hu-HU" sz="2400" spc="-1" strike="noStrike">
                <a:solidFill>
                  <a:srgbClr val="000000"/>
                </a:solidFill>
                <a:latin typeface="Comic Sans MS"/>
              </a:rPr>
              <a:t> (kimenet, bemenet felcserélhető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KEP42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6607440" cy="291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F6D5-734D-461F-B043-8A0BA25A9B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mic Sans MS"/>
              </a:rPr>
              <a:t>VILLAMOS ÁRAMKÖRI ALAPISMERE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</a:rPr>
              <a:t>Négypólusok paraméter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371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négypólus meghatározott, ha ismertek feszültségei és áramai. Ezek egymás függvényei, két adat és a négypólus kapcsolása alapján a másik kettő meghatározhat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666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cc99"/>
                </a:solidFill>
                <a:latin typeface="Times New Roman"/>
              </a:rPr>
              <a:t>Ezek az egyenletrendszerek a négypólus karakterisztikus egyenlete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4290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négy legfontosabb négypólus paramé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114800"/>
            <a:ext cx="72388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z – impedancia paramétere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y – admittancia paramétere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 – hibrid paraméterek 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d – inverz hibrid paraméter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77BB-EABD-417E-8EFD-017953FD3F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8T08:02:18Z</dcterms:created>
  <dc:creator>Matijevics István</dc:creator>
  <dc:description/>
  <dc:language>en-US</dc:language>
  <cp:lastModifiedBy>Matijevics István</cp:lastModifiedBy>
  <dcterms:modified xsi:type="dcterms:W3CDTF">2006-02-22T08:34:49Z</dcterms:modified>
  <cp:revision>22</cp:revision>
  <dc:subject/>
  <dc:title>PowerPoint Presentation</dc:title>
</cp:coreProperties>
</file>