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286-5C2E-4335-8130-39CB9EFB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1B7-E04C-4CA7-A389-DBC42C5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A0A-4F0B-439C-A6CF-270995ED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6FA-11EB-4A25-82A9-FC2CD511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004F-E78B-42C1-BBF7-B7188518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2CC6-C045-411C-9378-DB703C4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32A-62F6-4962-B1BE-BE0FAD9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4693-3C54-4EC5-8AC0-06427FC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422F-2639-4BE4-AB0D-278855B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4204-EBC0-496A-96CF-1FC346E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DC65-6400-428B-827E-114AF1C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1A3-5F23-480C-9AC4-DCC201C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7E4-F861-470D-89FB-0D0F2E5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733-5F66-4221-8329-7B1E3EF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7E5-385C-445C-90C6-2451A1F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CAE-C319-4E5F-A93B-7E097C96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BEE6-A555-4692-81A7-7EF78791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F07-3263-4873-913A-B2FC4EC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622-006F-4824-9B1C-452EB75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809-7B49-4559-B9F6-880F5FE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1DB-6D49-4148-99C1-FD90D20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577-F556-4EC4-BDCB-0F917A7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A9A-86F9-4A65-A60F-6B4F3CD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7A0-4F9D-40EE-ACB1-AAB8D4F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A39-0E88-4C68-9725-632FD2120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C75-09C9-4F33-84C4-1A6C784D9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howstuffworks.com/gif/battery-9v1.jpg&amp;imgrefurl=http://electronics.howstuffworks.com/battery9.htm&amp;h=149&amp;w=200&amp;sz=6&amp;tbnid=DVQMI22OQ1MsqM:&amp;tbnh=73&amp;tbnw=99&amp;hl=hu&amp;start=3&amp;prev=/images%3Fq%3Dbattery%26svnum%3D10%26hl%3Dhu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campus.umr.edu/reactor/fission.png&amp;imgrefurl=http://campus.umr.edu/reactor/basicphysics.html&amp;h=308&amp;w=461&amp;sz=87&amp;tbnid=H73r_ZnppBTKvM:&amp;tbnh=83&amp;tbnw=125&amp;hl=hu&amp;start=12&amp;prev=/images%3Fq%3Dnuclear%2Breactor%26svnum%3D10%26hl%3Dhu%26lr%3D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abcockpower.com/images/stories/hrsg_2.gif&amp;imgrefurl=http://www.babcockpower.com/index.php%3Foption%3Dproducts%26task%3Dviewproduct%26coid%3D24%26proid%3D48&amp;h=200&amp;w=209&amp;sz=22&amp;tbnid=usV-aeZ4SrRrYM:&amp;tbnh=95&amp;tbnw=100&amp;hl=hu&amp;start=36&amp;prev=/images%3Fq%3Dheat%2Bgenerator%26start%3D20%26svnum%3D10%26hl%3Dhu%26lr%3D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antwrp.gsfc.nasa.gov/apod/image/9807/mir_sts89_big.jpg&amp;imgrefurl=http://antwrp.gsfc.nasa.gov/apod/ap980703.html&amp;h=1052&amp;w=1536&amp;sz=599&amp;tbnid=ER41PL_qBYOdSM:&amp;tbnh=102&amp;tbnw=150&amp;hl=hu&amp;start=1&amp;prev=/images%3Fq%3Dmir%26svnum%3D10%26hl%3Dhu%26lr%3D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bessasandackerman.com/px/mvr/10.jpg&amp;imgrefurl=http://bessasandackerman.com/px/%3Falbum%3Dmvr%26img%3D10&amp;h=375&amp;w=500&amp;sz=55&amp;tbnid=q3FZdrFixAqEbM:&amp;tbnh=95&amp;tbnw=127&amp;hl=hu&amp;start=8&amp;prev=/images%3Fq%3D%2Bbike%2Bgenerator%26svnum%3D10%26hl%3Dhu%26lr%3D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wholesalesolar.com/images/wind_folder/airx1.gif&amp;imgrefurl=http://www.wholesalesolar.com/products.folder/wind-folder/airx24marine.html&amp;h=205&amp;w=160&amp;sz=22&amp;tbnid=WwyU0_4ZuHqKvM:&amp;tbnh=100&amp;tbnw=78&amp;hl=hu&amp;start=13&amp;prev=/images%3Fq%3Dwind%2Bgenerator%26svnum%3D10%26hl%3Dhu%26lr%3D" TargetMode="External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NERGIAFORR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NERÁTORBÓL NYERHETÜNK ELEKTROMOS ENERGI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9680"/>
            <a:ext cx="2819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ÉMIA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UKLEÁRI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Ő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ÉN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ECHANIK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É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ANG, S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752480"/>
            <a:ext cx="1131840" cy="835200"/>
          </a:xfrm>
          <a:prstGeom prst="rect">
            <a:avLst/>
          </a:prstGeom>
          <a:ln w="0">
            <a:noFill/>
          </a:ln>
        </p:spPr>
      </p:pic>
      <p:pic>
        <p:nvPicPr>
          <p:cNvPr id="9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209680"/>
            <a:ext cx="142884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27432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3429000"/>
            <a:ext cx="1714320" cy="1165320"/>
          </a:xfrm>
          <a:prstGeom prst="rect">
            <a:avLst/>
          </a:prstGeom>
          <a:ln w="0">
            <a:noFill/>
          </a:ln>
        </p:spPr>
      </p:pic>
      <p:pic>
        <p:nvPicPr>
          <p:cNvPr id="95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114800"/>
            <a:ext cx="145116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38480" y="4572000"/>
            <a:ext cx="8924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/>
          <p:cNvPicPr/>
          <p:nvPr/>
        </p:nvPicPr>
        <p:blipFill>
          <a:blip r:embed="rId13"/>
          <a:stretch/>
        </p:blipFill>
        <p:spPr>
          <a:xfrm>
            <a:off x="2057400" y="5554800"/>
            <a:ext cx="1646280" cy="13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670-4E5C-4853-A592-9B7EAA3A92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bcbcb"/>
                </a:solidFill>
                <a:latin typeface="Times New Roman"/>
              </a:rPr>
              <a:t>ENERGIAFORRÁSO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NERÁTORBÓL NYERHETÜNK ELEKTROMOS ENERGI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362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ENERÁTOR ELVI FELÉPÍT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kep02301" descr=""/>
          <p:cNvPicPr/>
          <p:nvPr/>
        </p:nvPicPr>
        <p:blipFill>
          <a:blip r:embed="rId1"/>
          <a:stretch/>
        </p:blipFill>
        <p:spPr>
          <a:xfrm>
            <a:off x="2590920" y="2892600"/>
            <a:ext cx="6365880" cy="39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6A7-30E5-4544-9B66-485109BDBF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tvan MATIJEVICS</cp:lastModifiedBy>
  <dcterms:modified xsi:type="dcterms:W3CDTF">2006-01-21T03:30:32Z</dcterms:modified>
  <cp:revision>67</cp:revision>
  <dc:subject/>
  <dc:title>PowerPoint Presentation</dc:title>
</cp:coreProperties>
</file>