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6.jpeg" ContentType="image/jpeg"/>
  <Override PartName="/ppt/media/image27.jpeg" ContentType="image/jpeg"/>
  <Override PartName="/ppt/media/image11.jpeg" ContentType="image/jpeg"/>
  <Override PartName="/ppt/media/image13.png" ContentType="image/png"/>
  <Override PartName="/ppt/media/image28.jpeg" ContentType="image/jpeg"/>
  <Override PartName="/ppt/media/image2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7.jpeg" ContentType="image/jpeg"/>
  <Override PartName="/ppt/media/image38.jpeg" ContentType="image/jpeg"/>
  <Override PartName="/ppt/media/image34.png" ContentType="image/pn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3.png" ContentType="image/png"/>
  <Override PartName="/ppt/media/image36.png" ContentType="image/png"/>
  <Override PartName="/ppt/media/image37.jpeg" ContentType="image/jpeg"/>
  <Override PartName="/ppt/media/image30.png" ContentType="image/png"/>
  <Override PartName="/ppt/media/image3.jpeg" ContentType="image/jpeg"/>
  <Override PartName="/ppt/media/image24.jpeg" ContentType="image/jpeg"/>
  <Override PartName="/ppt/media/image2.jpeg" ContentType="image/jpeg"/>
  <Override PartName="/ppt/media/image12.png" ContentType="image/png"/>
  <Override PartName="/ppt/media/image23.jpeg" ContentType="image/jpeg"/>
  <Override PartName="/ppt/media/image10.png" ContentType="image/png"/>
  <Override PartName="/ppt/media/image35.jpeg" ContentType="image/jpeg"/>
  <Override PartName="/ppt/media/image1.jpeg" ContentType="image/jpeg"/>
  <Override PartName="/ppt/media/image22.jpeg" ContentType="image/jpeg"/>
  <Override PartName="/ppt/media/image9.png" ContentType="image/png"/>
  <Override PartName="/ppt/media/image39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3EDC0-D18E-4421-873F-A29B4E8C9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7E985-095B-4D60-9303-567226706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469BB-AA08-4257-993F-4B3A3C8E2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265D8-7626-4245-B228-AF36C052B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4C0A6-4148-4AD0-B3AB-A7AC4787D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2C651-9AFD-41F1-A4CE-887BA6113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5DD76-94AF-47ED-B698-051451E4A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46BE6-BF58-4F34-BF6F-28AC2C5D1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B1A65-81B4-4188-8E83-7D1B05596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17E6A-6040-41CB-8780-F1EB04096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E9197-8247-4B2D-95C3-84104AE58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F05CE-44CB-4EF7-B6CB-4534E9423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328C6-D43E-4020-92CC-A1AE0B0FF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D2665-C587-4FCA-8AFA-E8A05F2F2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34FFC-1E33-481C-AFFE-D5B335D09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4D595-D9FA-4B3A-87E2-A1372A181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F436C-C36D-49EA-9DB9-06F8F1374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BF347-271C-4411-911A-648DB2419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7E9A8-C336-4771-966A-3C3E4EEAC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95AF0-940A-4677-8B16-5B1B74912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06B9C-1D27-4251-BA5B-C4C73F398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FEB5D-4EDC-40DA-9E27-4297187D4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65A7D-E4C3-49CA-BD1F-DDF1B5489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CDFA0-97E9-4330-A5C7-6A83BB07B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485B6-03A3-4CF7-8076-B430A583DFC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e7d"/>
              </a:gs>
              <a:gs pos="5000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659E8-D37D-4346-853A-D69A7FA17E2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google.co.hu/imgres?imgurl=http://aevcenter.com/cart/images/2660.jpg&amp;imgrefurl=http://aevcenter.com/cart/products/16/index.php&amp;h=161&amp;w=198&amp;sz=12&amp;tbnid=6ZdnN1smJDLytM:&amp;tbnh=80&amp;tbnw=99&amp;hl=hu&amp;start=35&amp;prev=/images%3Fq%3Dwire%2Bresistor%26start%3D20%26svnum%3D10%26hl%3Dhu%26lr%3D%26sa%3DN" TargetMode="External"/><Relationship Id="rId2" Type="http://schemas.openxmlformats.org/officeDocument/2006/relationships/hyperlink" Target="http://images.google.co.hu/imgres?imgurl=http://aevcenter.com/cart/images/2660.jpg&amp;imgrefurl=http://aevcenter.com/cart/products/16/index.php&amp;h=161&amp;w=198&amp;sz=12&amp;tbnid=6ZdnN1smJDLytM:&amp;tbnh=80&amp;tbnw=99&amp;hl=hu&amp;start=35&amp;prev=/images%3Fq%3Dwire%2Bresistor%26start%3D20%26svnum%3D10%26hl%3Dhu%26lr%3D%26sa%3DN" TargetMode="External"/><Relationship Id="rId3" Type="http://schemas.openxmlformats.org/officeDocument/2006/relationships/image" Target="../media/image1.jpeg"/><Relationship Id="rId4" Type="http://schemas.openxmlformats.org/officeDocument/2006/relationships/hyperlink" Target="http://images.google.co.hu/imgres?imgurl=http://www.smcelectronics.com/PWRES.JPG&amp;imgrefurl=http://www.smcelectronics.com/RES.HTM&amp;h=153&amp;w=250&amp;sz=7&amp;tbnid=8nuACh6FrCnD3M:&amp;tbnh=64&amp;tbnw=106&amp;hl=hu&amp;start=140&amp;prev=/images%3Fq%3Dpower%2Bresistor%26start%3D120%26svnum%3D10%26hl%3Dhu%26lr%3D%26sa%3DN" TargetMode="External"/><Relationship Id="rId5" Type="http://schemas.openxmlformats.org/officeDocument/2006/relationships/image" Target="../media/image2.jpeg"/><Relationship Id="rId6" Type="http://schemas.openxmlformats.org/officeDocument/2006/relationships/hyperlink" Target="http://images.google.co.hu/imgres?imgurl=http://www.ipcresistors.com/fdl.jpg&amp;imgrefurl=http://www.ipcresistors.com/fdl.htm&amp;h=277&amp;w=415&amp;sz=12&amp;tbnid=flz0QoHgSGFAnM:&amp;tbnh=80&amp;tbnw=121&amp;hl=hu&amp;start=5&amp;prev=/images%3Fq%3DWirewound%2Bresistor%26svnum%3D10%26hl%3Dhu%26lr%3D%26sa%3DG" TargetMode="External"/><Relationship Id="rId7" Type="http://schemas.openxmlformats.org/officeDocument/2006/relationships/image" Target="../media/image3.jpeg"/><Relationship Id="rId8" Type="http://schemas.openxmlformats.org/officeDocument/2006/relationships/hyperlink" Target="http://images.google.co.hu/imgres?imgurl=http://www.natrail.com/assets/small_images/54086447.jpg&amp;imgrefurl=http://www.natrail.com/dept.asp%3Fdept_id%3D197%26pageNumber%3D2%26mscssid%3DCG825HA6R8V19GKU975JE480WASHFAM9&amp;h=240&amp;w=320&amp;sz=3&amp;tbnid=gstU77IauCnfNM:&amp;tbnh=84&amp;tbnw=113&amp;hl=hu&amp;start=53&amp;prev=/images%3Fq%3DWirewound%2Bresistor%26start%3D40%26svnum%3D10%26hl%3Dhu%26lr%3D%26sa%3DN" TargetMode="External"/><Relationship Id="rId9" Type="http://schemas.openxmlformats.org/officeDocument/2006/relationships/image" Target="../media/image4.jpeg"/><Relationship Id="rId10" Type="http://schemas.openxmlformats.org/officeDocument/2006/relationships/hyperlink" Target="http://images.google.co.hu/imgres?imgurl=http://www.chscontrols.se/bilder/resistor01a.jpg&amp;imgrefurl=http://www.chscontrols.se/english/resistor01a.html&amp;h=181&amp;w=300&amp;sz=13&amp;tbnid=rEw3JiTFgzM_vM:&amp;tbnh=66&amp;tbnw=111&amp;hl=hu&amp;start=54&amp;prev=/images%3Fq%3DWirewound%2Bresistor%26start%3D40%26svnum%3D10%26hl%3Dhu%26lr%3D%26sa%3DN" TargetMode="External"/><Relationship Id="rId11" Type="http://schemas.openxmlformats.org/officeDocument/2006/relationships/image" Target="../media/image5.jpeg"/><Relationship Id="rId12" Type="http://schemas.openxmlformats.org/officeDocument/2006/relationships/hyperlink" Target="http://images.google.co.hu/imgres?imgurl=http://www.filnor.com/html/images/designs/smooth2.jpg&amp;imgrefurl=http://www.filnor.com/html/products/smooth.html&amp;h=115&amp;w=200&amp;sz=32&amp;tbnid=3dpVoB5j10FCWM:&amp;tbnh=56&amp;tbnw=99&amp;hl=hu&amp;start=100&amp;prev=/images%3Fq%3DWirewound%2Bresistor%26start%3D80%26svnum%3D10%26hl%3Dhu%26lr%3D%26sa%3DN" TargetMode="External"/><Relationship Id="rId13" Type="http://schemas.openxmlformats.org/officeDocument/2006/relationships/image" Target="../media/image6.jpeg"/><Relationship Id="rId1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images.google.co.hu/imgres?imgurl=http://www.st-andrews.ac.uk/~www_pa/Scots_Guide/info/comp/passive/resistor/pots/var_res/var_res2.gif&amp;imgrefurl=http://www.st-andrews.ac.uk/~www_pa/Scots_Guide/info/comp/passive/resistor/pots/var_res/var_res.htm&amp;h=226&amp;w=288&amp;sz=5&amp;tbnid=OpMA2dMqV669zM:&amp;tbnh=86&amp;tbnw=110&amp;hl=hu&amp;start=1&amp;prev=/images%3Fq%3Dvariable%2Bresistor%26svnum%3D10%26hl%3Dhu%26lr%3Dlang_hu" TargetMode="External"/><Relationship Id="rId2" Type="http://schemas.openxmlformats.org/officeDocument/2006/relationships/image" Target="../media/image14.jpeg"/><Relationship Id="rId3" Type="http://schemas.openxmlformats.org/officeDocument/2006/relationships/hyperlink" Target="http://images.google.co.hu/imgres?imgurl=http://www.st-andrews.ac.uk/~www_pa/Scots_Guide/info/comp/passive/resistor/pots/var_res/var_res.gif&amp;imgrefurl=http://www.st-andrews.ac.uk/~www_pa/Scots_Guide/info/comp/passive/resistor/pots/var_res/var_res.htm&amp;h=328&amp;w=455&amp;sz=8&amp;tbnid=Oq5tsBeihV_G4M:&amp;tbnh=89&amp;tbnw=124&amp;hl=hu&amp;start=3&amp;prev=/images%3Fq%3Dvariable%2Bresistor%26svnum%3D10%26hl%3Dhu%26lr%3Dlang_hu" TargetMode="External"/><Relationship Id="rId4" Type="http://schemas.openxmlformats.org/officeDocument/2006/relationships/image" Target="../media/image15.jpeg"/><Relationship Id="rId5" Type="http://schemas.openxmlformats.org/officeDocument/2006/relationships/hyperlink" Target="http://images.google.co.hu/imgres?imgurl=http://akamai.globalsources.com.edgesuite.net/f/593/3445/5d/pdt.static.globalsources.com/IMAGES/PDT/SMALL/017/S8841169017.jpg&amp;imgrefurl=http://www.globalsources.com/si/6008800060637/tokyoden.co&amp;h=180&amp;w=180&amp;sz=5&amp;tbnid=mZX7KSSypj3jMM:&amp;tbnh=96&amp;tbnw=96&amp;hl=hu&amp;start=7&amp;prev=/images%3Fq%3Dvariable%2Bresistor%26svnum%3D10%26hl%3Dhu%26lr%3Dlang_hu" TargetMode="External"/><Relationship Id="rId6" Type="http://schemas.openxmlformats.org/officeDocument/2006/relationships/image" Target="../media/image16.jpeg"/><Relationship Id="rId7" Type="http://schemas.openxmlformats.org/officeDocument/2006/relationships/hyperlink" Target="http://images.google.co.hu/imgres?imgurl=http://www.litcompx.com/images1/p3585.JPG&amp;imgrefurl=http://www.litcompx.com/product3521.htm&amp;h=171&amp;w=250&amp;sz=16&amp;tbnid=-j5KoH5394Q6bM:&amp;tbnh=72&amp;tbnw=106&amp;hl=hu&amp;start=11&amp;prev=/images%3Fq%3Dvariable%2Bresistor%26svnum%3D10%26hl%3Dhu%26lr%3Dlang_hu" TargetMode="External"/><Relationship Id="rId8" Type="http://schemas.openxmlformats.org/officeDocument/2006/relationships/image" Target="../media/image17.jpeg"/><Relationship Id="rId9" Type="http://schemas.openxmlformats.org/officeDocument/2006/relationships/hyperlink" Target="http://images.google.co.hu/imgres?imgurl=http://akamai.globalsources.com.edgesuite.net/f/593/3445/5d/pdt.static.globalsources.com/IMAGES/PDT/SMALL/460/S8828649460.jpg&amp;imgrefurl=http://www.globalsources.com/si/6008800552484/soundwel.co&amp;h=180&amp;w=180&amp;sz=7&amp;tbnid=pib_nzI771GH0M:&amp;tbnh=96&amp;tbnw=96&amp;hl=hu&amp;start=14&amp;prev=/images%3Fq%3Dvariable%2Bresistor%26svnum%3D10%26hl%3Dhu%26lr%3Dlang_hu" TargetMode="External"/><Relationship Id="rId10" Type="http://schemas.openxmlformats.org/officeDocument/2006/relationships/image" Target="../media/image18.jpeg"/><Relationship Id="rId11" Type="http://schemas.openxmlformats.org/officeDocument/2006/relationships/hyperlink" Target="http://images.google.co.hu/imgres?imgurl=http://www.musikkeller.de/stagg/effekte/wahman_potentiometer.jpg&amp;imgrefurl=http://www.musikkeller.de/stagg/staggzubehoer.htm&amp;h=354&amp;w=300&amp;sz=11&amp;tbnid=qZEMWMJq7z6LnM:&amp;tbnh=117&amp;tbnw=99&amp;hl=hu&amp;start=30&amp;prev=/images%3Fq%3Dvariable%2Bresistor%26start%3D20%26svnum%3D10%26hl%3Dhu%26lr%3Dlang_hu%26sa%3DN" TargetMode="External"/><Relationship Id="rId12" Type="http://schemas.openxmlformats.org/officeDocument/2006/relationships/image" Target="../media/image19.jpeg"/><Relationship Id="rId13" Type="http://schemas.openxmlformats.org/officeDocument/2006/relationships/hyperlink" Target="http://images.google.co.hu/imgres?imgurl=http://www.robosapien1.com/images/mods/volume/robosapien_vol_080_200.jpg&amp;imgrefurl=http://www.robosapien1.com/mods/volume/&amp;h=150&amp;w=200&amp;sz=10&amp;tbnid=j5riuAMFJhRLMM:&amp;tbnh=74&amp;tbnw=99&amp;hl=hu&amp;start=62&amp;prev=/images%3Fq%3Dvariable%2Bresistor%26start%3D60%26svnum%3D10%26hl%3Dhu%26lr%3Dlang_hu%26sa%3DN" TargetMode="External"/><Relationship Id="rId14" Type="http://schemas.openxmlformats.org/officeDocument/2006/relationships/image" Target="../media/image20.jpeg"/><Relationship Id="rId15" Type="http://schemas.openxmlformats.org/officeDocument/2006/relationships/hyperlink" Target="http://images.google.co.hu/imgres?imgurl=http://www.p3america.com/images/al17,19xx,pp.jpg&amp;imgrefurl=http://www.p3america.com/pp/bs375.htm&amp;h=221&amp;w=232&amp;sz=20&amp;tbnid=FF3_Z3y1DQaZiM:&amp;tbnh=98&amp;tbnw=103&amp;hl=hu&amp;start=40&amp;prev=/images%3Fq%3Dpotentiometer%26start%3D20%26svnum%3D10%26hl%3Dhu%26lr%3Dlang_hu%26sa%3DN" TargetMode="External"/><Relationship Id="rId16" Type="http://schemas.openxmlformats.org/officeDocument/2006/relationships/image" Target="../media/image21.jpeg"/><Relationship Id="rId17" Type="http://schemas.openxmlformats.org/officeDocument/2006/relationships/hyperlink" Target="http://images.google.co.hu/imgres?imgurl=http://littlemachineshop.com/Products/Images/480/480.1282.jpg&amp;imgrefurl=http://littlemachineshop.com/products/product_view.php%3FProductID%3D1282&amp;h=459&amp;w=480&amp;sz=54&amp;tbnid=RUjXOAaRfgzp7M:&amp;tbnh=120&amp;tbnw=126&amp;hl=hu&amp;start=65&amp;prev=/images%3Fq%3Dpotentiometer%26start%3D60%26svnum%3D10%26hl%3Dhu%26lr%3Dlang_hu%26sa%3DN" TargetMode="External"/><Relationship Id="rId18" Type="http://schemas.openxmlformats.org/officeDocument/2006/relationships/image" Target="../media/image22.jpeg"/><Relationship Id="rId19" Type="http://schemas.openxmlformats.org/officeDocument/2006/relationships/hyperlink" Target="http://images.google.co.hu/imgres?imgurl=http://www.opamp-electronics.com/catalog/images/10K_Ohm_Trim_Pot_007410.jpg&amp;imgrefurl=http://www.opamp-electronics.com/catalog/product_info.php%3FcPath%3D54%26products_id%3D263&amp;h=299&amp;w=300&amp;sz=21&amp;tbnid=WCPU-1YdouV7IM:&amp;tbnh=110&amp;tbnw=111&amp;hl=hu&amp;start=89&amp;prev=/images%3Fq%3Dpotentiometer%26start%3D80%26svnum%3D10%26hl%3Dhu%26lr%3Dlang_hu%26sa%3DN" TargetMode="External"/><Relationship Id="rId20" Type="http://schemas.openxmlformats.org/officeDocument/2006/relationships/image" Target="../media/image23.jpeg"/><Relationship Id="rId21" Type="http://schemas.openxmlformats.org/officeDocument/2006/relationships/hyperlink" Target="http://images.google.co.hu/imgres?imgurl=http://www.moredex.com.tw/Product-2005513101622.jpg&amp;imgrefurl=http://www.moredex.com.tw/Product-2005513101622.html&amp;h=200&amp;w=200&amp;sz=6&amp;tbnid=IYpiVHEU1ITlTM:&amp;tbnh=99&amp;tbnw=99&amp;hl=hu&amp;start=1&amp;prev=/images%3Fq%3Dtrimmer%2Bpotentiometer%26svnum%3D10%26hl%3Dhu%26lr%3Dlang_hu" TargetMode="External"/><Relationship Id="rId22" Type="http://schemas.openxmlformats.org/officeDocument/2006/relationships/image" Target="../media/image24.jpeg"/><Relationship Id="rId23" Type="http://schemas.openxmlformats.org/officeDocument/2006/relationships/hyperlink" Target="http://images.google.co.hu/imgres?imgurl=http://www.play-hookey.com/analog/experiments/images/trimpot.jpg&amp;imgrefurl=http://www.play-hookey.com/analog/experiments/ps_op_amp_control.html&amp;h=100&amp;w=150&amp;sz=3&amp;tbnid=XypWuZZCFZWJRM:&amp;tbnh=60&amp;tbnw=90&amp;hl=hu&amp;start=49&amp;prev=/images%3Fq%3Dtrimmer%2Bpotentiometer%26start%3D40%26svnum%3D10%26hl%3Dhu%26lr%3Dlang_hu%26sa%3DN" TargetMode="External"/><Relationship Id="rId24" Type="http://schemas.openxmlformats.org/officeDocument/2006/relationships/image" Target="../media/image25.jpeg"/><Relationship Id="rId2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images.google.co.hu/imgres?imgurl=http://www.robotroom.com/Photocells50.jpg&amp;imgrefurl=http://www.robotroom.com/PhotocellGrabBag.html&amp;h=305&amp;w=285&amp;sz=13&amp;tbnid=BIkE7IEPTNXOvM:&amp;tbnh=112&amp;tbnw=104&amp;hl=hu&amp;start=2&amp;prev=/images%3Fq%3Dphotoresistor%26svnum%3D10%26hl%3Dhu%26lr%3Dlang_hu" TargetMode="External"/><Relationship Id="rId2" Type="http://schemas.openxmlformats.org/officeDocument/2006/relationships/image" Target="../media/image26.jpeg"/><Relationship Id="rId3" Type="http://schemas.openxmlformats.org/officeDocument/2006/relationships/hyperlink" Target="http://images.google.co.hu/imgres?imgurl=http://img.alibaba.com/photo/10269797/Full_Series_CdS_Photoresistor.summ.jpg&amp;imgrefurl=http://www.alibaba.com/catalogue/502c11p0h/Electronic_Component.html&amp;h=94&amp;w=100&amp;sz=3&amp;tbnid=phVNtVwF9CpAjM:&amp;tbnh=72&amp;tbnw=77&amp;hl=hu&amp;start=75&amp;prev=/images%3Fq%3Dphotoresistor%26start%3D60%26svnum%3D10%26hl%3Dhu%26lr%3Dlang_hu%26sa%3DN" TargetMode="External"/><Relationship Id="rId4" Type="http://schemas.openxmlformats.org/officeDocument/2006/relationships/image" Target="../media/image27.jpeg"/><Relationship Id="rId5" Type="http://schemas.openxmlformats.org/officeDocument/2006/relationships/hyperlink" Target="http://images.google.co.hu/imgres?imgurl=http://img.alibaba.com/photo/50123169/PTC_resistor.jpg&amp;imgrefurl=http://qianjin.en.alibaba.com/offerdetail/50886649/Sell_PTC_resistor.html&amp;h=360&amp;w=360&amp;sz=31&amp;tbnid=zIMHghaW4yI9tM:&amp;tbnh=117&amp;tbnw=117&amp;hl=hu&amp;start=2&amp;prev=/images%3Fq%3Dptc%2Bresistor%26svnum%3D10%26hl%3Dhu%26lr%3Dlang_hu" TargetMode="External"/><Relationship Id="rId6" Type="http://schemas.openxmlformats.org/officeDocument/2006/relationships/image" Target="../media/image28.jpeg"/><Relationship Id="rId7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hyperlink" Target="http://images.google.co.hu/imgres?imgurl=http://www.tevalo.lv/images/tn/l5363.jpg&amp;imgrefurl=http://www.tevalo.lv/cgi-bin/index.cgi%3Fec%3D24a2b2c%26lng%3Dlat&amp;h=80&amp;w=94&amp;sz=3&amp;tbnid=RiNhxmU85VSkjM:&amp;tbnh=63&amp;tbnw=75&amp;hl=hu&amp;start=46&amp;prev=/images%3Fq%3Dptc%2Bresistor%26start%3D40%26svnum%3D10%26hl%3Dhu%26lr%3Dlang_hu%26sa%3DN" TargetMode="External"/><Relationship Id="rId3" Type="http://schemas.openxmlformats.org/officeDocument/2006/relationships/image" Target="../media/image32.jpeg"/><Relationship Id="rId4" Type="http://schemas.openxmlformats.org/officeDocument/2006/relationships/image" Target="../media/image33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hyperlink" Target="http://images.google.co.hu/imgres?imgurl=http://www.monocap.com/resistor/images/photo44.jpg&amp;imgrefurl=http://www.monocap.com/resistor/ntcthermistor3.htm&amp;h=317&amp;w=300&amp;sz=33&amp;tbnid=oMeZ0TeRq8-maM:&amp;tbnh=113&amp;tbnw=106&amp;hl=hu&amp;start=24&amp;prev=/images%3Fq%3Dntc%2Bresistor%26start%3D20%26svnum%3D10%26hl%3Dhu%26lr%3Dlang_hu%26sa%3DN" TargetMode="External"/><Relationship Id="rId3" Type="http://schemas.openxmlformats.org/officeDocument/2006/relationships/image" Target="../media/image35.jpeg"/><Relationship Id="rId4" Type="http://schemas.openxmlformats.org/officeDocument/2006/relationships/image" Target="../media/image36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images.google.co.hu/imgres?imgurl=http://www.dieelektronikerseite.de/Pics/Lections/LDR,%2520NTC%2520%26%2520Co%2520-%2520Sinne%2520der%2520Elektronik%252004.GIF&amp;imgrefurl=http://www.dieelektronikerseite.de/Lections/LDR,%2520NTC%2520%26%2520Co%2520-%2520Sinne%2520der%2520Elektronik.htm&amp;h=136&amp;w=83&amp;sz=1&amp;tbnid=vOFYnGo5qf8kuM:&amp;tbnh=87&amp;tbnw=53&amp;hl=hu&amp;start=7&amp;prev=/images%3Fq%3Dvdr%2Bresistor%26svnum%3D10%26hl%3Dhu%26lr%3Dlang_hu" TargetMode="External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es.google.co.hu/imgres?imgurl=http://www.periodieksysteem.com/images/resistor%255B1%255D.jpg&amp;imgrefurl=http://www.periodieksysteem.com/elem_fr.cfm%3FIDE%3DRu&amp;h=258&amp;w=512&amp;sz=11&amp;tbnid=zPw_KtMvakdJvM:&amp;tbnh=64&amp;tbnw=128&amp;hl=hu&amp;start=5&amp;prev=/images%3Fq%3Dresistor%26svnum%3D10%26hl%3Dhu%26lr%3Dlang_hu%26sa%3DG" TargetMode="External"/><Relationship Id="rId2" Type="http://schemas.openxmlformats.org/officeDocument/2006/relationships/hyperlink" Target="http://images.google.co.hu/imgres?imgurl=http://www.periodieksysteem.com/images/resistor%255B1%255D.jpg&amp;imgrefurl=http://www.periodieksysteem.com/elem_fr.cfm%3FIDE%3DRu&amp;h=258&amp;w=512&amp;sz=11&amp;tbnid=zPw_KtMvakdJvM:&amp;tbnh=64&amp;tbnw=128&amp;hl=hu&amp;start=5&amp;prev=/images%3Fq%3Dresistor%26svnum%3D10%26hl%3Dhu%26lr%3Dlang_hu%26sa%3DG" TargetMode="Externa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google.co.hu/imgres?imgurl=http://members.aol.com/usmicrows/images/r01.gif&amp;imgrefurl=http://members.aol.com/usmicrows/sires.htm&amp;h=161&amp;w=158&amp;sz=6&amp;tbnid=dlgoP504XDycYM:&amp;tbnh=92&amp;tbnw=90&amp;hl=hu&amp;start=14&amp;prev=/images%3Fq%3Dic%2Bresistor%26svnum%3D10%26hl%3Dhu%26lr%3Dlang_hu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cbcbcb"/>
                </a:solidFill>
                <a:latin typeface="Times New Roman"/>
              </a:rPr>
              <a:t>Ellenállások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Huzalellenállások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R – ellenállás (       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-  fajlagos ellenállás (      m 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l – a vezető hossza ( m )</a:t>
            </a:r>
            <a:r>
              <a:rPr b="1" lang="en-GB" sz="3200" spc="-1" strike="noStrike" u="sng">
                <a:solidFill>
                  <a:srgbClr val="ff3300"/>
                </a:solidFill>
                <a:uFillTx/>
                <a:latin typeface="Arial"/>
                <a:ea typeface="Arial"/>
                <a:hlinkClick r:id="rId1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A – a vezető keresztmetszete (       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tekercs miatt L induktivitás - bifilári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5181480" y="1676520"/>
                <a:ext cx="1676520" cy="11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r>
                      <m:t xml:space="preserve">ρ</m:t>
                    </m:r>
                    <m:f>
                      <m:num>
                        <m:r>
                          <m:t xml:space="preserve">l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4114800" y="2666880"/>
                <a:ext cx="463680" cy="46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990720" y="3124080"/>
                <a:ext cx="568080" cy="6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ρ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 rot="10800000">
                <a:off x="5714640" y="3124080"/>
                <a:ext cx="60948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6705720" y="4114800"/>
                <a:ext cx="1523880" cy="121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/>
                      <m:sup>
                        <m:sSup>
                          <m:e>
                            <m:r>
                              <m:t xml:space="preserve">m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p>
                    </m:sSup>
                  </m:oMath>
                </a14:m>
              </a:p>
            </p:txBody>
          </p:sp>
        </mc:Choice>
        <mc:Fallback/>
      </mc:AlternateContent>
      <p:pic>
        <p:nvPicPr>
          <p:cNvPr id="95" name="images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848720" y="152280"/>
            <a:ext cx="1131840" cy="914400"/>
          </a:xfrm>
          <a:prstGeom prst="rect">
            <a:avLst/>
          </a:prstGeom>
          <a:ln w="0">
            <a:noFill/>
          </a:ln>
        </p:spPr>
      </p:pic>
      <p:pic>
        <p:nvPicPr>
          <p:cNvPr id="96" name="images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7772400" y="1371600"/>
            <a:ext cx="1211400" cy="731880"/>
          </a:xfrm>
          <a:prstGeom prst="rect">
            <a:avLst/>
          </a:prstGeom>
          <a:ln w="0">
            <a:noFill/>
          </a:ln>
        </p:spPr>
      </p:pic>
      <p:pic>
        <p:nvPicPr>
          <p:cNvPr id="97" name="images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6019920" y="5715000"/>
            <a:ext cx="1382760" cy="914400"/>
          </a:xfrm>
          <a:prstGeom prst="rect">
            <a:avLst/>
          </a:prstGeom>
          <a:ln w="0">
            <a:noFill/>
          </a:ln>
        </p:spPr>
      </p:pic>
      <p:pic>
        <p:nvPicPr>
          <p:cNvPr id="98" name="images" descr="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7696080" y="3429000"/>
            <a:ext cx="1292400" cy="960480"/>
          </a:xfrm>
          <a:prstGeom prst="rect">
            <a:avLst/>
          </a:prstGeom>
          <a:ln w="0">
            <a:noFill/>
          </a:ln>
        </p:spPr>
      </p:pic>
      <p:pic>
        <p:nvPicPr>
          <p:cNvPr id="99" name="images" descr="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1981080" y="5638680"/>
            <a:ext cx="1268640" cy="754200"/>
          </a:xfrm>
          <a:prstGeom prst="rect">
            <a:avLst/>
          </a:prstGeom>
          <a:ln w="0">
            <a:noFill/>
          </a:ln>
        </p:spPr>
      </p:pic>
      <p:pic>
        <p:nvPicPr>
          <p:cNvPr id="100" name="images" descr="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7772400" y="2438280"/>
            <a:ext cx="1131840" cy="639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EKTRONI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6DEC1-9404-4632-B678-EF2B08B0DC2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cbcbcb"/>
                </a:solidFill>
                <a:latin typeface="Times New Roman"/>
              </a:rPr>
              <a:t>Ellenállások</a:t>
            </a:r>
            <a:br>
              <a:rPr sz="4400"/>
            </a:b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Állandó és változtatható ellenállások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images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2280" y="2590920"/>
            <a:ext cx="1257480" cy="982440"/>
          </a:xfrm>
          <a:prstGeom prst="rect">
            <a:avLst/>
          </a:prstGeom>
          <a:ln w="0">
            <a:noFill/>
          </a:ln>
        </p:spPr>
      </p:pic>
      <p:pic>
        <p:nvPicPr>
          <p:cNvPr id="133" name="images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600200" y="2590920"/>
            <a:ext cx="1417680" cy="1017360"/>
          </a:xfrm>
          <a:prstGeom prst="rect">
            <a:avLst/>
          </a:prstGeom>
          <a:ln w="0">
            <a:noFill/>
          </a:ln>
        </p:spPr>
      </p:pic>
      <p:pic>
        <p:nvPicPr>
          <p:cNvPr id="134" name="images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934320" y="2971800"/>
            <a:ext cx="1096920" cy="1096920"/>
          </a:xfrm>
          <a:prstGeom prst="rect">
            <a:avLst/>
          </a:prstGeom>
          <a:ln w="0">
            <a:noFill/>
          </a:ln>
        </p:spPr>
      </p:pic>
      <p:pic>
        <p:nvPicPr>
          <p:cNvPr id="135" name="images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4648320" y="31680"/>
            <a:ext cx="2286000" cy="1552680"/>
          </a:xfrm>
          <a:prstGeom prst="rect">
            <a:avLst/>
          </a:prstGeom>
          <a:ln w="0">
            <a:noFill/>
          </a:ln>
        </p:spPr>
      </p:pic>
      <p:pic>
        <p:nvPicPr>
          <p:cNvPr id="136" name="images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7620120" y="60948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137" name="images" descr="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0" y="4419720"/>
            <a:ext cx="1390680" cy="1641240"/>
          </a:xfrm>
          <a:prstGeom prst="rect">
            <a:avLst/>
          </a:prstGeom>
          <a:ln w="0">
            <a:noFill/>
          </a:ln>
        </p:spPr>
      </p:pic>
      <p:pic>
        <p:nvPicPr>
          <p:cNvPr id="138" name="images" descr="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5029200" y="4495680"/>
            <a:ext cx="2057400" cy="1538280"/>
          </a:xfrm>
          <a:prstGeom prst="rect">
            <a:avLst/>
          </a:prstGeom>
          <a:ln w="0">
            <a:noFill/>
          </a:ln>
        </p:spPr>
      </p:pic>
      <p:pic>
        <p:nvPicPr>
          <p:cNvPr id="139" name="images" descr="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3352680" y="4495680"/>
            <a:ext cx="1600200" cy="1522440"/>
          </a:xfrm>
          <a:prstGeom prst="rect">
            <a:avLst/>
          </a:prstGeom>
          <a:ln w="0">
            <a:noFill/>
          </a:ln>
        </p:spPr>
      </p:pic>
      <p:pic>
        <p:nvPicPr>
          <p:cNvPr id="140" name="images" descr="">
            <a:hlinkClick r:id="rId17"/>
          </p:cNvPr>
          <p:cNvPicPr/>
          <p:nvPr/>
        </p:nvPicPr>
        <p:blipFill>
          <a:blip r:embed="rId18"/>
          <a:stretch/>
        </p:blipFill>
        <p:spPr>
          <a:xfrm>
            <a:off x="1523880" y="4419720"/>
            <a:ext cx="1676520" cy="1596960"/>
          </a:xfrm>
          <a:prstGeom prst="rect">
            <a:avLst/>
          </a:prstGeom>
          <a:ln w="0">
            <a:noFill/>
          </a:ln>
        </p:spPr>
      </p:pic>
      <p:pic>
        <p:nvPicPr>
          <p:cNvPr id="141" name="images" descr="">
            <a:hlinkClick r:id="rId19"/>
          </p:cNvPr>
          <p:cNvPicPr/>
          <p:nvPr/>
        </p:nvPicPr>
        <p:blipFill>
          <a:blip r:embed="rId20"/>
          <a:stretch/>
        </p:blipFill>
        <p:spPr>
          <a:xfrm>
            <a:off x="7010280" y="4572000"/>
            <a:ext cx="1447920" cy="1434960"/>
          </a:xfrm>
          <a:prstGeom prst="rect">
            <a:avLst/>
          </a:prstGeom>
          <a:ln w="0">
            <a:noFill/>
          </a:ln>
        </p:spPr>
      </p:pic>
      <p:pic>
        <p:nvPicPr>
          <p:cNvPr id="142" name="images" descr="">
            <a:hlinkClick r:id="rId21"/>
          </p:cNvPr>
          <p:cNvPicPr/>
          <p:nvPr/>
        </p:nvPicPr>
        <p:blipFill>
          <a:blip r:embed="rId22"/>
          <a:stretch/>
        </p:blipFill>
        <p:spPr>
          <a:xfrm>
            <a:off x="4191120" y="3048120"/>
            <a:ext cx="1131840" cy="1131840"/>
          </a:xfrm>
          <a:prstGeom prst="rect">
            <a:avLst/>
          </a:prstGeom>
          <a:ln w="0">
            <a:noFill/>
          </a:ln>
        </p:spPr>
      </p:pic>
      <p:pic>
        <p:nvPicPr>
          <p:cNvPr id="143" name="images" descr="">
            <a:hlinkClick r:id="rId23"/>
          </p:cNvPr>
          <p:cNvPicPr/>
          <p:nvPr/>
        </p:nvPicPr>
        <p:blipFill>
          <a:blip r:embed="rId24"/>
          <a:stretch/>
        </p:blipFill>
        <p:spPr>
          <a:xfrm>
            <a:off x="5638680" y="3352680"/>
            <a:ext cx="1028880" cy="685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EKTRONI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232CF-913B-4FAA-9409-B524D6A689C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cbcbcb"/>
                </a:solidFill>
                <a:latin typeface="Times New Roman"/>
              </a:rPr>
              <a:t>Ellenállások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Külső hatás következtében változó ellenállások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6" name="images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3520" y="2438280"/>
            <a:ext cx="1825560" cy="1965600"/>
          </a:xfrm>
          <a:prstGeom prst="rect">
            <a:avLst/>
          </a:prstGeom>
          <a:ln w="0">
            <a:noFill/>
          </a:ln>
        </p:spPr>
      </p:pic>
      <p:pic>
        <p:nvPicPr>
          <p:cNvPr id="147" name="images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391520" y="2209680"/>
            <a:ext cx="1488960" cy="1393920"/>
          </a:xfrm>
          <a:prstGeom prst="rect">
            <a:avLst/>
          </a:prstGeom>
          <a:ln w="0">
            <a:noFill/>
          </a:ln>
        </p:spPr>
      </p:pic>
      <p:pic>
        <p:nvPicPr>
          <p:cNvPr id="148" name="images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286000" y="4876920"/>
            <a:ext cx="1336680" cy="133668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3200400" y="2514600"/>
            <a:ext cx="35812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Fény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Hőmérséklet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Feszültség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Nyomás stb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EKTRONI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004E9-D1E8-46F9-A97C-C1034CD01D9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cbcbcb"/>
                </a:solidFill>
                <a:latin typeface="Times New Roman"/>
              </a:rPr>
              <a:t>Ellenállások</a:t>
            </a:r>
            <a:br>
              <a:rPr sz="4400"/>
            </a:b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Fotoellenállások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Kedvező tulajdonság a sötét és világos ellenállás viszony (1000000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Késleltetés, várni kel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Nagy terhelhetősé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Kadmiumszulfid, ólomszulfid stb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LDR,%20NTC%20&amp;%20Co%20-%20Sinne%20der%20Elektronik%2001" descr=""/>
          <p:cNvPicPr/>
          <p:nvPr/>
        </p:nvPicPr>
        <p:blipFill>
          <a:blip r:embed="rId1"/>
          <a:stretch/>
        </p:blipFill>
        <p:spPr>
          <a:xfrm>
            <a:off x="7315200" y="152280"/>
            <a:ext cx="1463760" cy="2316240"/>
          </a:xfrm>
          <a:prstGeom prst="rect">
            <a:avLst/>
          </a:prstGeom>
          <a:ln w="0">
            <a:noFill/>
          </a:ln>
        </p:spPr>
      </p:pic>
      <p:pic>
        <p:nvPicPr>
          <p:cNvPr id="153" name="kep03" descr=""/>
          <p:cNvPicPr/>
          <p:nvPr/>
        </p:nvPicPr>
        <p:blipFill>
          <a:blip r:embed="rId2"/>
          <a:stretch/>
        </p:blipFill>
        <p:spPr>
          <a:xfrm>
            <a:off x="533520" y="1541520"/>
            <a:ext cx="6629400" cy="4276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EKTRONI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A7303-64CE-4551-9B89-90196B7250A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cbcbcb"/>
                </a:solidFill>
                <a:latin typeface="Times New Roman"/>
              </a:rPr>
              <a:t>Ellenállások</a:t>
            </a:r>
            <a:br>
              <a:rPr sz="4400"/>
            </a:b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Melegedéskor növekvő termo-ellenállá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PTC (Positive Temperature Coefficient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Alacsony áram, ne befolyásolja a hőfoktényező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Titanát-kerámi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6" name="photo32" descr=""/>
          <p:cNvPicPr/>
          <p:nvPr/>
        </p:nvPicPr>
        <p:blipFill>
          <a:blip r:embed="rId1"/>
          <a:stretch/>
        </p:blipFill>
        <p:spPr>
          <a:xfrm>
            <a:off x="0" y="1184400"/>
            <a:ext cx="4952880" cy="4819680"/>
          </a:xfrm>
          <a:prstGeom prst="rect">
            <a:avLst/>
          </a:prstGeom>
          <a:ln w="0">
            <a:noFill/>
          </a:ln>
        </p:spPr>
      </p:pic>
      <p:grpSp>
        <p:nvGrpSpPr>
          <p:cNvPr id="157" name=""/>
          <p:cNvGrpSpPr/>
          <p:nvPr/>
        </p:nvGrpSpPr>
        <p:grpSpPr>
          <a:xfrm>
            <a:off x="0" y="1760400"/>
            <a:ext cx="9144000" cy="195480"/>
            <a:chOff x="0" y="1760400"/>
            <a:chExt cx="9144000" cy="195480"/>
          </a:xfrm>
        </p:grpSpPr>
        <p:sp>
          <p:nvSpPr>
            <p:cNvPr id="158" name=""/>
            <p:cNvSpPr/>
            <p:nvPr/>
          </p:nvSpPr>
          <p:spPr>
            <a:xfrm>
              <a:off x="0" y="1760400"/>
              <a:ext cx="8686800" cy="1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0" y="176040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60" name="images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952880" y="-30240"/>
            <a:ext cx="1981440" cy="1665360"/>
          </a:xfrm>
          <a:prstGeom prst="rect">
            <a:avLst/>
          </a:prstGeom>
          <a:ln w="0">
            <a:noFill/>
          </a:ln>
        </p:spPr>
      </p:pic>
      <p:pic>
        <p:nvPicPr>
          <p:cNvPr id="161" name="LDR,%20NTC%20&amp;%20Co%20-%20Sinne%20der%20Elektronik%2003" descr=""/>
          <p:cNvPicPr/>
          <p:nvPr/>
        </p:nvPicPr>
        <p:blipFill>
          <a:blip r:embed="rId4"/>
          <a:stretch/>
        </p:blipFill>
        <p:spPr>
          <a:xfrm>
            <a:off x="7238880" y="533520"/>
            <a:ext cx="1370160" cy="1981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EKTRONI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784EE-5670-4515-A65F-C8F0B4F3EF4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cbcbcb"/>
                </a:solidFill>
                <a:latin typeface="Times New Roman"/>
              </a:rPr>
              <a:t>Ellenállások</a:t>
            </a:r>
            <a:br>
              <a:rPr sz="4400"/>
            </a:b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Melegedéskor csökkenő termo-ellenállá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NTC (Negative Temperature Coefficient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Hőfoktényező –0,02 – 0,07 / C fok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Vasnikkel, kobalt-oxidok titán vegyületek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sl3_e" descr="Picture 8. NTC resistor resistance/temperature dependence"/>
          <p:cNvPicPr/>
          <p:nvPr/>
        </p:nvPicPr>
        <p:blipFill>
          <a:blip r:embed="rId1"/>
          <a:stretch/>
        </p:blipFill>
        <p:spPr>
          <a:xfrm>
            <a:off x="0" y="1933560"/>
            <a:ext cx="5181480" cy="4160880"/>
          </a:xfrm>
          <a:prstGeom prst="rect">
            <a:avLst/>
          </a:prstGeom>
          <a:ln w="0">
            <a:noFill/>
          </a:ln>
        </p:spPr>
      </p:pic>
      <p:pic>
        <p:nvPicPr>
          <p:cNvPr id="165" name="images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486400" y="0"/>
            <a:ext cx="1925640" cy="2054160"/>
          </a:xfrm>
          <a:prstGeom prst="rect">
            <a:avLst/>
          </a:prstGeom>
          <a:ln w="0">
            <a:noFill/>
          </a:ln>
        </p:spPr>
      </p:pic>
      <p:pic>
        <p:nvPicPr>
          <p:cNvPr id="166" name="LDR,%20NTC%20&amp;%20Co%20-%20Sinne%20der%20Elektronik%2002" descr=""/>
          <p:cNvPicPr/>
          <p:nvPr/>
        </p:nvPicPr>
        <p:blipFill>
          <a:blip r:embed="rId4"/>
          <a:stretch/>
        </p:blipFill>
        <p:spPr>
          <a:xfrm>
            <a:off x="7753320" y="0"/>
            <a:ext cx="1390680" cy="2011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EKTRONI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432CF-BE57-41E4-A163-F75C7203478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cbcbcb"/>
                </a:solidFill>
                <a:latin typeface="Times New Roman"/>
              </a:rPr>
              <a:t>Ellenállások</a:t>
            </a:r>
            <a:br>
              <a:rPr sz="4400"/>
            </a:b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Feszültségfüggő ellenállá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VDR (Voltage Dependent Resistor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Ellenállás- és feszültségváltozás ellentét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Maximális P és t adot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Szilicium-karbi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images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864560" y="0"/>
            <a:ext cx="1279440" cy="2097000"/>
          </a:xfrm>
          <a:prstGeom prst="rect">
            <a:avLst/>
          </a:prstGeom>
          <a:ln w="0">
            <a:noFill/>
          </a:ln>
        </p:spPr>
      </p:pic>
      <p:pic>
        <p:nvPicPr>
          <p:cNvPr id="170" name="images" descr=""/>
          <p:cNvPicPr/>
          <p:nvPr/>
        </p:nvPicPr>
        <p:blipFill>
          <a:blip r:embed="rId3"/>
          <a:stretch/>
        </p:blipFill>
        <p:spPr>
          <a:xfrm>
            <a:off x="4952880" y="0"/>
            <a:ext cx="2362320" cy="1251000"/>
          </a:xfrm>
          <a:prstGeom prst="rect">
            <a:avLst/>
          </a:prstGeom>
          <a:ln w="0">
            <a:noFill/>
          </a:ln>
        </p:spPr>
      </p:pic>
      <p:pic>
        <p:nvPicPr>
          <p:cNvPr id="171" name="kep04" descr=""/>
          <p:cNvPicPr/>
          <p:nvPr/>
        </p:nvPicPr>
        <p:blipFill>
          <a:blip r:embed="rId4"/>
          <a:stretch/>
        </p:blipFill>
        <p:spPr>
          <a:xfrm>
            <a:off x="0" y="1782720"/>
            <a:ext cx="6019920" cy="3882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EKTRONI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B617A-942E-4F2D-9276-07305DEF043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cbcbcb"/>
                </a:solidFill>
                <a:latin typeface="Times New Roman"/>
              </a:rPr>
              <a:t>Ellenállások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Rétegellenállások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Legelterjedtebb (fémoxid, szén, félvezető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Szigetelő testre vékony réteg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Nagy szórás miatt köszörülé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ff3300"/>
                </a:solidFill>
                <a:uFillTx/>
                <a:latin typeface="Arial"/>
                <a:ea typeface="Arial"/>
                <a:hlinkClick r:id="rId1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images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590920" y="4114800"/>
            <a:ext cx="3886200" cy="1943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EKTRONI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1292C-5153-4444-A5C4-FCE4FEC0771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cbcbcb"/>
                </a:solidFill>
                <a:latin typeface="Times New Roman"/>
              </a:rPr>
              <a:t>Ellenállások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Integrált áramköri ellenállások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Félvezető eszközökné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Változó fajlagos ellenállá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Változó keresztmetsze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images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00920" y="3749760"/>
            <a:ext cx="3043080" cy="3108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EKTRONI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5335A-6BD1-47FD-BDE8-231C1E1AB5E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cbcbcb"/>
                </a:solidFill>
                <a:latin typeface="Times New Roman"/>
              </a:rPr>
              <a:t>Ellenállások – szabványos értéktáblázatok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IEC szabván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Névleges ellenállá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tűrésosztál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Minőségi osztál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teljesítmén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Értéktűrés = eltérés/névleges érték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0" y="1295280"/>
          <a:ext cx="9144000" cy="4599000"/>
        </p:xfrm>
        <a:graphic>
          <a:graphicData uri="http://schemas.openxmlformats.org/drawingml/2006/table">
            <a:tbl>
              <a:tblPr/>
              <a:tblGrid>
                <a:gridCol w="2206800"/>
                <a:gridCol w="1122120"/>
                <a:gridCol w="1123920"/>
                <a:gridCol w="1122480"/>
                <a:gridCol w="1125360"/>
                <a:gridCol w="1122480"/>
                <a:gridCol w="1320840"/>
              </a:tblGrid>
              <a:tr h="67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roza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4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9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19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67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+/- </a:t>
                      </a:r>
                      <a:r>
                        <a:rPr b="1" lang="sl-SI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67680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elhas</a:t>
                      </a:r>
                      <a:r>
                        <a:rPr b="1" lang="hu-H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-nálási területe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676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özszükséglet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94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íradás- és irányítástechnik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94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66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fesszionális, katona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66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EKTRONI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40E99-1D95-4635-9339-4D4849FB6D1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cbcbcb"/>
                </a:solidFill>
                <a:latin typeface="Times New Roman"/>
              </a:rPr>
              <a:t>Ellenállások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Névleges ellenállásáértékek megválasztása = a tűrésmezők érintsék egymás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0" y="0"/>
          <a:ext cx="9144000" cy="4114800"/>
        </p:xfrm>
        <a:graphic>
          <a:graphicData uri="http://schemas.openxmlformats.org/drawingml/2006/table">
            <a:tbl>
              <a:tblPr/>
              <a:tblGrid>
                <a:gridCol w="585720"/>
                <a:gridCol w="587520"/>
                <a:gridCol w="585720"/>
                <a:gridCol w="587520"/>
                <a:gridCol w="583920"/>
                <a:gridCol w="586080"/>
                <a:gridCol w="587160"/>
                <a:gridCol w="585720"/>
                <a:gridCol w="586080"/>
                <a:gridCol w="587160"/>
                <a:gridCol w="584280"/>
                <a:gridCol w="587160"/>
                <a:gridCol w="2109960"/>
              </a:tblGrid>
              <a:tr h="1405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,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,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,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6            (+/- 2</a:t>
                      </a:r>
                      <a:r>
                        <a:rPr b="1" lang="sl-SI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 %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,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,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,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,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,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,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12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</a:t>
                      </a:r>
                      <a:r>
                        <a:rPr b="1" lang="sl-SI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(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+/- 10 %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ff"/>
                    </a:solidFill>
                  </a:tcPr>
                </a:tc>
              </a:tr>
              <a:tr h="1353960">
                <a:tc gridSpan="1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6 és E12 jelű IEC szabvány szerinti ellenállás-sorozato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3" name=""/>
          <p:cNvGraphicFramePr/>
          <p:nvPr/>
        </p:nvGraphicFramePr>
        <p:xfrm>
          <a:off x="0" y="4114800"/>
          <a:ext cx="9144000" cy="3573360"/>
        </p:xfrm>
        <a:graphic>
          <a:graphicData uri="http://schemas.openxmlformats.org/drawingml/2006/table">
            <a:tbl>
              <a:tblPr/>
              <a:tblGrid>
                <a:gridCol w="703440"/>
                <a:gridCol w="704880"/>
                <a:gridCol w="701640"/>
                <a:gridCol w="704880"/>
                <a:gridCol w="703080"/>
                <a:gridCol w="701640"/>
                <a:gridCol w="704880"/>
                <a:gridCol w="703440"/>
                <a:gridCol w="701640"/>
                <a:gridCol w="704880"/>
                <a:gridCol w="703080"/>
                <a:gridCol w="704880"/>
                <a:gridCol w="701640"/>
              </a:tblGrid>
              <a:tr h="2209680">
                <a:tc gridSpan="1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                                                                  </a:t>
                      </a:r>
                      <a:r>
                        <a:rPr b="1" lang="hu-H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r>
                        <a:rPr b="1" lang="hu-H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évleges ellenállások dekadikus szorzói: 1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9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9900"/>
                    </a:solidFill>
                  </a:tcPr>
                </a:tc>
              </a:tr>
            </a:tbl>
          </a:graphicData>
        </a:graphic>
      </p:graphicFrame>
      <p:pic>
        <p:nvPicPr>
          <p:cNvPr id="114" name="kep05" descr=""/>
          <p:cNvPicPr/>
          <p:nvPr/>
        </p:nvPicPr>
        <p:blipFill>
          <a:blip r:embed="rId1"/>
          <a:stretch/>
        </p:blipFill>
        <p:spPr>
          <a:xfrm>
            <a:off x="0" y="1219320"/>
            <a:ext cx="9144000" cy="5086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EKTRONI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3CB7A-8FC3-48DE-844A-D8F5CBF0CA5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cbcbcb"/>
                </a:solidFill>
                <a:latin typeface="Times New Roman"/>
              </a:rPr>
              <a:t>Ellenállások</a:t>
            </a:r>
            <a:br>
              <a:rPr sz="4400"/>
            </a:b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210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Színkó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Az E6, E12 és E24     == négy-gyűrű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Az E48, E96 és E192 == öt-gyűrűs kó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1828800"/>
                <a:gridCol w="1828800"/>
                <a:gridCol w="1828800"/>
                <a:gridCol w="1828800"/>
                <a:gridCol w="1828800"/>
              </a:tblGrid>
              <a:tr h="87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zínjelö-lé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 gyűrű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 gyűrű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 gyűrű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 Gyűrű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+/- </a:t>
                      </a:r>
                      <a:r>
                        <a:rPr b="1" lang="sl-SI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ff"/>
                    </a:solidFill>
                  </a:tcPr>
                </a:tc>
              </a:tr>
              <a:tr h="165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zíntele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züs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an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eke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,0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,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ff"/>
                    </a:solidFill>
                  </a:tcPr>
                </a:tc>
              </a:tr>
              <a:tr h="135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arn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</a:t>
                      </a:r>
                      <a:r>
                        <a:rPr b="1" lang="hu-H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örö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ranc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ff"/>
                    </a:solidFill>
                  </a:tcPr>
                </a:tc>
              </a:tr>
              <a:tr h="132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árg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öl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ék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0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,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ff"/>
                    </a:solidFill>
                  </a:tcPr>
                </a:tc>
              </a:tr>
              <a:tr h="165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bolya,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zürk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ehé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00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000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0000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ccff"/>
                    </a:solidFill>
                  </a:tcPr>
                </a:tc>
              </a:tr>
            </a:tbl>
          </a:graphicData>
        </a:graphic>
      </p:graphicFrame>
      <p:pic>
        <p:nvPicPr>
          <p:cNvPr id="118" name="clr_code" descr="Color Code Guide"/>
          <p:cNvPicPr/>
          <p:nvPr/>
        </p:nvPicPr>
        <p:blipFill>
          <a:blip r:embed="rId1"/>
          <a:stretch/>
        </p:blipFill>
        <p:spPr>
          <a:xfrm>
            <a:off x="533520" y="15840"/>
            <a:ext cx="8076960" cy="6827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EKTRONI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5EC5A-8D32-4430-B1B4-5DF6F3249E7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cbcbcb"/>
                </a:solidFill>
                <a:latin typeface="Times New Roman"/>
              </a:rPr>
              <a:t>Ellenállások</a:t>
            </a:r>
            <a:br>
              <a:rPr sz="4400"/>
            </a:b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Teljesítményviszonyok,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Hőfokfüggé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4191120" y="2819520"/>
                <a:ext cx="2311200" cy="100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⋅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22" name=""/>
          <p:cNvGraphicFramePr/>
          <p:nvPr/>
        </p:nvGraphicFramePr>
        <p:xfrm>
          <a:off x="0" y="4114800"/>
          <a:ext cx="9143640" cy="1600200"/>
        </p:xfrm>
        <a:graphic>
          <a:graphicData uri="http://schemas.openxmlformats.org/drawingml/2006/table">
            <a:tbl>
              <a:tblPr/>
              <a:tblGrid>
                <a:gridCol w="830160"/>
                <a:gridCol w="832320"/>
                <a:gridCol w="830520"/>
                <a:gridCol w="830520"/>
                <a:gridCol w="831960"/>
                <a:gridCol w="832680"/>
                <a:gridCol w="831960"/>
                <a:gridCol w="830520"/>
                <a:gridCol w="830520"/>
                <a:gridCol w="831960"/>
                <a:gridCol w="830520"/>
              </a:tblGrid>
              <a:tr h="799920">
                <a:tc gridSpan="11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llenállások névleges terhelhetőségi osztályai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0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[W]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,0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,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,2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,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66ccff"/>
                    </a:solidFill>
                  </a:tcPr>
                </a:tc>
              </a:tr>
            </a:tbl>
          </a:graphicData>
        </a:graphic>
      </p:graphicFrame>
      <p:pic>
        <p:nvPicPr>
          <p:cNvPr id="123" name="images" descr=""/>
          <p:cNvPicPr/>
          <p:nvPr/>
        </p:nvPicPr>
        <p:blipFill>
          <a:blip r:embed="rId1"/>
          <a:stretch/>
        </p:blipFill>
        <p:spPr>
          <a:xfrm>
            <a:off x="5943600" y="369720"/>
            <a:ext cx="2590920" cy="2419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EKTRONI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68472-B79A-4345-A734-25106AD43FE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cbcbcb"/>
                </a:solidFill>
                <a:latin typeface="Times New Roman"/>
              </a:rPr>
              <a:t>Ellenállások</a:t>
            </a:r>
            <a:br>
              <a:rPr sz="4400"/>
            </a:b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Nagyfrekvenciás viselkedé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Helyettesítő model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kep01" descr=""/>
          <p:cNvPicPr/>
          <p:nvPr/>
        </p:nvPicPr>
        <p:blipFill>
          <a:blip r:embed="rId1"/>
          <a:stretch/>
        </p:blipFill>
        <p:spPr>
          <a:xfrm>
            <a:off x="0" y="1173240"/>
            <a:ext cx="9144000" cy="425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EKTRONI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85F1C-917B-4E15-9040-4EFA8F30D02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cbcbcb"/>
                </a:solidFill>
                <a:latin typeface="Times New Roman"/>
              </a:rPr>
              <a:t>Ellenállások</a:t>
            </a:r>
            <a:br>
              <a:rPr sz="4400"/>
            </a:b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Lineáris, nem-lineáris jelleggörb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Tervezet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Nem-tervezett, hőfok-, vagy frekvenciafüggé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Differenciális ellenállá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kep02" descr=""/>
          <p:cNvPicPr/>
          <p:nvPr/>
        </p:nvPicPr>
        <p:blipFill>
          <a:blip r:embed="rId1"/>
          <a:stretch/>
        </p:blipFill>
        <p:spPr>
          <a:xfrm>
            <a:off x="0" y="1662120"/>
            <a:ext cx="9144000" cy="3533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EKTRONI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80A4E-EB99-442E-9895-E5AC75703A6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atijevics István</cp:lastModifiedBy>
  <dcterms:modified xsi:type="dcterms:W3CDTF">2006-02-01T20:28:27Z</dcterms:modified>
  <cp:revision>78</cp:revision>
  <dc:subject/>
  <dc:title>PowerPoint Presentation</dc:title>
</cp:coreProperties>
</file>