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5416-0580-4997-A498-E9893BE8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93EB-28CA-4F66-82DA-207D253D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F0D2-CDBC-412D-8212-CB27ADA1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9AF-8764-40E4-8C4C-8671D5AC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D65E-4189-452A-958D-97B165BB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D932-4261-4F7D-B961-FB0E81A1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7EF1-BF15-440A-8B44-B291C1CC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8884-9F50-4F1E-BC8B-A1156CF9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4B92-B219-427D-8BC0-E05068A4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6C95-DCDC-4C4F-9188-69F84E5D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04FD-8DA6-483F-AD01-9FA64FA7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3F30-02B2-455E-985B-2D1250A1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F8D8-7BF8-46F3-8F11-BFBF826C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D7A7-FE0A-40EF-8F19-960DFD6A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FB71-621A-4601-95CE-4902B47F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E9C3-DD2B-4673-9AA0-0DA0BA63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2214-FD98-48A5-AF86-583A5019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75F3-920E-44A8-A38B-FA037D45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A149-57C6-4C43-935C-938A53CE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44A0-7AE9-4C5A-A31B-2C255655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8A5F-C7D0-4CD2-979F-17E2A070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CD7-F60A-4B99-97C7-32D63A6F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5702-62F7-4956-BC12-A8642AF0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4564-2CEB-4FE2-ADBA-8C1DD989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3ED0-E20D-482B-9FAD-F154EDF77C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7B15-3A89-4854-AB27-7E72878CE8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Kondenzátorok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908E-1E24-46C4-A0D7-69A582FDC4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Kondenzátorok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feszültségviszonyai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en- és váltóáramú kondenzátoro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áltóáramú kondenzátoroknál dielektrikumban veszteség, jobb anyag k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enáramú kondenzátoroknál lehet rosszabb anyag, de váltóáram szuperponálódhat a maximális értékeki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ektrolit kondenzátorok: polaritásra vigyáz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Gyártanak két szembekapcsolt elktrolitkondenzátort egy tokban, nem érzékeny a polaritásra, de fele kapacitá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hoto001" descr=""/>
          <p:cNvPicPr/>
          <p:nvPr/>
        </p:nvPicPr>
        <p:blipFill>
          <a:blip r:embed="rId1"/>
          <a:stretch/>
        </p:blipFill>
        <p:spPr>
          <a:xfrm>
            <a:off x="4724280" y="2100240"/>
            <a:ext cx="4419720" cy="3549600"/>
          </a:xfrm>
          <a:prstGeom prst="rect">
            <a:avLst/>
          </a:prstGeom>
          <a:ln w="0">
            <a:noFill/>
          </a:ln>
        </p:spPr>
      </p:pic>
      <p:pic>
        <p:nvPicPr>
          <p:cNvPr id="115" name="kep08" descr=""/>
          <p:cNvPicPr/>
          <p:nvPr/>
        </p:nvPicPr>
        <p:blipFill>
          <a:blip r:embed="rId2"/>
          <a:stretch/>
        </p:blipFill>
        <p:spPr>
          <a:xfrm>
            <a:off x="0" y="3309840"/>
            <a:ext cx="4648320" cy="354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BDE1-9B83-41E0-B1A2-B6FCB9B650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Szabványos értéktáblázato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EC szabvá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évleges kapaci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űrésosztá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évleges feszültsé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olarit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 / C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 % 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Colourcode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5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6C6-97E8-4D34-8373-9D272EB6CBA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cc"/>
                </a:solidFill>
                <a:latin typeface="Arial Narrow"/>
              </a:rPr>
              <a:t>Változtatható kapacitású kondenzátorok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gegyszerűbb a fegyverzet felületét változtat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32NE0168" descr=""/>
          <p:cNvPicPr/>
          <p:nvPr/>
        </p:nvPicPr>
        <p:blipFill>
          <a:blip r:embed="rId1"/>
          <a:stretch/>
        </p:blipFill>
        <p:spPr>
          <a:xfrm>
            <a:off x="0" y="0"/>
            <a:ext cx="4549680" cy="4057560"/>
          </a:xfrm>
          <a:prstGeom prst="rect">
            <a:avLst/>
          </a:prstGeom>
          <a:ln w="0">
            <a:noFill/>
          </a:ln>
        </p:spPr>
      </p:pic>
      <p:pic>
        <p:nvPicPr>
          <p:cNvPr id="122" name="capacitor" descr=""/>
          <p:cNvPicPr/>
          <p:nvPr/>
        </p:nvPicPr>
        <p:blipFill>
          <a:blip r:embed="rId2"/>
          <a:stretch/>
        </p:blipFill>
        <p:spPr>
          <a:xfrm>
            <a:off x="6477120" y="3886200"/>
            <a:ext cx="2571480" cy="2389320"/>
          </a:xfrm>
          <a:prstGeom prst="rect">
            <a:avLst/>
          </a:prstGeom>
          <a:ln w="0">
            <a:noFill/>
          </a:ln>
        </p:spPr>
      </p:pic>
      <p:pic>
        <p:nvPicPr>
          <p:cNvPr id="123" name="32NE0169" descr=""/>
          <p:cNvPicPr/>
          <p:nvPr/>
        </p:nvPicPr>
        <p:blipFill>
          <a:blip r:embed="rId3"/>
          <a:stretch/>
        </p:blipFill>
        <p:spPr>
          <a:xfrm>
            <a:off x="76320" y="4068720"/>
            <a:ext cx="3406680" cy="2789280"/>
          </a:xfrm>
          <a:prstGeom prst="rect">
            <a:avLst/>
          </a:prstGeom>
          <a:ln w="0">
            <a:noFill/>
          </a:ln>
        </p:spPr>
      </p:pic>
      <p:pic>
        <p:nvPicPr>
          <p:cNvPr id="124" name="captrim" descr=""/>
          <p:cNvPicPr/>
          <p:nvPr/>
        </p:nvPicPr>
        <p:blipFill>
          <a:blip r:embed="rId4"/>
          <a:stretch/>
        </p:blipFill>
        <p:spPr>
          <a:xfrm>
            <a:off x="4572000" y="3352680"/>
            <a:ext cx="1828800" cy="2670120"/>
          </a:xfrm>
          <a:prstGeom prst="rect">
            <a:avLst/>
          </a:prstGeom>
          <a:ln w="0">
            <a:noFill/>
          </a:ln>
        </p:spPr>
      </p:pic>
      <p:pic>
        <p:nvPicPr>
          <p:cNvPr id="125" name="capvar" descr="variable capacitor"/>
          <p:cNvPicPr/>
          <p:nvPr/>
        </p:nvPicPr>
        <p:blipFill>
          <a:blip r:embed="rId5"/>
          <a:stretch/>
        </p:blipFill>
        <p:spPr>
          <a:xfrm>
            <a:off x="7818480" y="1676520"/>
            <a:ext cx="1325520" cy="1234800"/>
          </a:xfrm>
          <a:prstGeom prst="rect">
            <a:avLst/>
          </a:prstGeom>
          <a:ln w="0">
            <a:noFill/>
          </a:ln>
        </p:spPr>
      </p:pic>
      <p:pic>
        <p:nvPicPr>
          <p:cNvPr id="126" name="capvar" descr="variable capacitor symbol"/>
          <p:cNvPicPr/>
          <p:nvPr/>
        </p:nvPicPr>
        <p:blipFill>
          <a:blip r:embed="rId6"/>
          <a:stretch/>
        </p:blipFill>
        <p:spPr>
          <a:xfrm>
            <a:off x="4952880" y="1981080"/>
            <a:ext cx="2079720" cy="650880"/>
          </a:xfrm>
          <a:prstGeom prst="rect">
            <a:avLst/>
          </a:prstGeom>
          <a:ln w="0">
            <a:noFill/>
          </a:ln>
        </p:spPr>
      </p:pic>
      <p:pic>
        <p:nvPicPr>
          <p:cNvPr id="127" name="captrim" descr="trimmer capacitor symbol"/>
          <p:cNvPicPr/>
          <p:nvPr/>
        </p:nvPicPr>
        <p:blipFill>
          <a:blip r:embed="rId7"/>
          <a:stretch/>
        </p:blipFill>
        <p:spPr>
          <a:xfrm>
            <a:off x="5791320" y="2666880"/>
            <a:ext cx="2079360" cy="65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EC4E-107A-4756-91EC-D85EB347D913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cc"/>
                </a:solidFill>
                <a:latin typeface="Arial Narrow"/>
              </a:rPr>
              <a:t>Dielektromos állandó, átütési feszültség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- dielektomos álland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– a  fegyverzet felü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– a fegyverzetek távolsá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x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– a vákuum dielektomos állandója, 8,855 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-1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/V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– anyagra jellemző relatív dielektromos álland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276720"/>
            <a:ext cx="91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676520" y="990720"/>
                <a:ext cx="182880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0" name="img1906" descr=""/>
          <p:cNvPicPr/>
          <p:nvPr/>
        </p:nvPicPr>
        <p:blipFill>
          <a:blip r:embed="rId1"/>
          <a:stretch/>
        </p:blipFill>
        <p:spPr>
          <a:xfrm>
            <a:off x="4648320" y="1066680"/>
            <a:ext cx="4495680" cy="32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0767-050C-4E36-A893-8559F05B639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cc"/>
                </a:solidFill>
                <a:latin typeface="Arial Narrow"/>
              </a:rPr>
              <a:t>Dielektromos állandó, átütési feszültség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ritikus térerősség (villamos szilárdság), amely értéknél a szigetelő még képes szigetelni (kiloVolt/centimé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Átütési feszültség, V-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A5AB-495B-4975-AAAD-73BD5AF417A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cc"/>
                </a:solidFill>
                <a:latin typeface="Arial Narrow"/>
              </a:rPr>
              <a:t>Valóságos konden</a:t>
            </a: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z</a:t>
            </a:r>
            <a:r>
              <a:rPr b="1" lang="hu-HU" sz="4400" spc="-1" strike="noStrike">
                <a:solidFill>
                  <a:srgbClr val="ffffcc"/>
                </a:solidFill>
                <a:latin typeface="Arial Narrow"/>
              </a:rPr>
              <a:t>átorok, helyettesítő kapcsolások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ielektrikum nem ideális, </a:t>
            </a: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fajlagos ellenállá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önkisülési időálland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lacsonyfrekvenciás és nagyfrekvenciás helyettesítő ké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ivezetéseknek ohmos ellenállása v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kep06" descr=""/>
          <p:cNvPicPr/>
          <p:nvPr/>
        </p:nvPicPr>
        <p:blipFill>
          <a:blip r:embed="rId1"/>
          <a:stretch/>
        </p:blipFill>
        <p:spPr>
          <a:xfrm>
            <a:off x="0" y="4549680"/>
            <a:ext cx="91328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097B-F12A-403C-B517-91A5E142EDE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J</a:t>
            </a: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ósági- és veszteségi tényező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Q – jósági tényez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 = 1 / Q, veszteségi tényez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árhuzamos D = 1 / (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oros            D =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A9AC-A744-4791-8F40-AAF031F81C5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cc"/>
                </a:solidFill>
                <a:latin typeface="Arial Narrow"/>
              </a:rPr>
              <a:t>Kondenzátorok hőmérsékletviszonya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ielektomos állandó hőmérsékletfügg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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( 1 +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C  </a:t>
            </a:r>
            <a:r>
              <a:rPr b="0" lang="de-DE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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anyagálland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elatív változás ( 1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- ra adot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de-DE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C/C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/ </a:t>
            </a:r>
            <a:r>
              <a:rPr b="0" lang="de-DE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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/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tal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ógusok megadják még a hőmérséklet-tartományt, ahol használható a kondenzá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EDB-4310-4629-BD02-E2CAB66C15A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Kondenzátorok jellegzetes típusai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ajlagos kapacitás, minél kisebb térfog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= C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/ V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F / 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9539-966C-41D6-A6E2-E377D81E7A3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</a:t>
            </a: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óliakondenzátor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óliakondenzátor: 2 fémfólia között szigetelő, ez feltekercselve és valamilyen műanyag- vagy fémházban helyezkdik el, hengeres alak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P (metal-paper): fém-papír, olajos papírra gőzöléssel viszik fel a fémréteg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K: fém-műanyag (polikarbonát, polisztirol, polietilén), műanyag dielektrikum vékonyabb, mint a papír, hengeres és ‘szendvics’ elrendezés, lap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Önregenerálás, átütés után az áram elgőzölögteti a fémet, újból használhat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nduktivitás probléma, kiküszöbölhető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kep07" descr=""/>
          <p:cNvPicPr/>
          <p:nvPr/>
        </p:nvPicPr>
        <p:blipFill>
          <a:blip r:embed="rId1"/>
          <a:stretch/>
        </p:blipFill>
        <p:spPr>
          <a:xfrm>
            <a:off x="609480" y="1079640"/>
            <a:ext cx="8534520" cy="50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0" y="747720"/>
          <a:ext cx="6934320" cy="611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47720"/>
                    <a:ext cx="6934320" cy="61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capsm" descr="small value capacitors"/>
          <p:cNvPicPr/>
          <p:nvPr/>
        </p:nvPicPr>
        <p:blipFill>
          <a:blip r:embed="rId4"/>
          <a:stretch/>
        </p:blipFill>
        <p:spPr>
          <a:xfrm>
            <a:off x="7018200" y="0"/>
            <a:ext cx="2125800" cy="89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35A1-2696-4977-A00D-F717AA0CCE6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Elektrolit kondenzátorok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ik fegyverzet elektrolit, ami jól kitölti a hézagokat, kis fegyverzettávolság, nagy kapacitá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gyományos: oxid réteggel bevont alumínium, az oxid réteg a szigetelő, érdesítik, amivel a felület nő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antálfólia (F): tantál-pentoxid, nagy </a:t>
            </a:r>
            <a:r>
              <a:rPr b="0" lang="de-DE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r ,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osszú élettartam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antál fémszivacs (S): nagy anód felület, tantál-pentox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antál fémszivacs szilárd elektrolittal (S): mangánox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lektrol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A4capaci" descr=""/>
          <p:cNvPicPr/>
          <p:nvPr/>
        </p:nvPicPr>
        <p:blipFill>
          <a:blip r:embed="rId1"/>
          <a:stretch/>
        </p:blipFill>
        <p:spPr>
          <a:xfrm>
            <a:off x="152280" y="0"/>
            <a:ext cx="45054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electr" descr="electrolytic capacitors"/>
          <p:cNvPicPr/>
          <p:nvPr/>
        </p:nvPicPr>
        <p:blipFill>
          <a:blip r:embed="rId2"/>
          <a:stretch/>
        </p:blipFill>
        <p:spPr>
          <a:xfrm>
            <a:off x="6400800" y="5703840"/>
            <a:ext cx="1965240" cy="11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CA7-83DF-4867-BB6E-896C35556EE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ijevics István</cp:lastModifiedBy>
  <dcterms:modified xsi:type="dcterms:W3CDTF">2006-02-01T20:33:54Z</dcterms:modified>
  <cp:revision>45</cp:revision>
  <dc:subject/>
  <dc:title>PowerPoint Presentation</dc:title>
</cp:coreProperties>
</file>