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8.png" ContentType="image/png"/>
  <Override PartName="/ppt/media/image14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12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0AB-0811-4018-9A0C-81CBB12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F6D-E5C9-414C-85EB-B238991B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CBB-4890-4B1B-827F-297C9B5E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2A7-2AFA-4C5C-845B-A6430537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09A0-B622-442D-A34C-54F2149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BF2C-D6DC-4D53-93AD-03CF6AA4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6CF-9787-4C3F-8762-90190AD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A688-2927-48C9-BF78-507B0859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8B60-8A1A-4500-8D9F-D4E1922D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FC2F-54B3-4901-9227-F3C585D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E189-08B0-4964-8D5D-25152A7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F04-E0A9-4629-8168-DB99838B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CE00-88BB-44A1-B9D4-6FCFB67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1B4E-B4E9-4A09-B2B7-77A2E200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B9E0-81A9-4254-B6FA-C01F76D0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9BA4-933D-44AA-B65A-65B893DE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8096-F97C-4EA4-B9FD-E426E768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42F-D20B-4A2E-9781-4391F1FF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E0E-AC4A-414B-B9AA-78C4F7A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871-CDE5-4848-AF61-DB22D6FA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69E-CF34-4F24-ADCB-9CDDDE47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493-B585-4A55-BC2F-1854E0E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7D4-BBA3-4C98-897E-48DB105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8B2-3DE1-40BC-BB74-88973FF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7E78-BE9A-4483-AB8B-D1AD9C0015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3E6-9254-4D26-B8C0-5B06603861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hu/imgres?imgurl=http://upload.wikimedia.org/wikipedia/en/thumb/1/1d/Transformer.filament.agr.jpg/300px-Transformer.filament.agr.jpg&amp;imgrefurl=http://en.wikipedia.org/wiki/Transformer&amp;h=214&amp;w=300&amp;sz=16&amp;tbnid=NlYKoFP_wnWufM:&amp;tbnh=79&amp;tbnw=111&amp;hl=hu&amp;start=18&amp;prev=/images%3Fq%3Dtransformer%26svnum%3D10%26hl%3Dhu%26lr%3D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hu/imgres?imgurl=http://www.dave-cushman.net/elect/gif/core.gif&amp;imgrefurl=http://www.dave-cushman.net/elect/transformers.html&amp;h=249&amp;w=216&amp;sz=3&amp;tbnid=QaKVuOHFSLl-ZM:&amp;tbnh=106&amp;tbnw=91&amp;hl=hu&amp;start=35&amp;prev=/images%3Fq%3Dtransformer%2Biron%2Bcore%26start%3D20%26svnum%3D10%26hl%3Dhu%26lr%3D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256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ekercsek, induktivitá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37160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Arial Narrow"/>
              </a:rPr>
              <a:t>Nehezen megvalósítható elem, szerepe csökk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Arial Narrow"/>
              </a:rPr>
              <a:t>- mágneses permeabilit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Arial Narrow"/>
              </a:rPr>
              <a:t>A – keresztmetszet (mágneses erővonalakkal átjár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Arial Narrow"/>
              </a:rPr>
              <a:t>N – menetszá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cc"/>
                </a:solidFill>
                <a:latin typeface="Arial Narrow"/>
              </a:rPr>
              <a:t>l – erővonal-hoss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581280" y="2209680"/>
                <a:ext cx="21081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617C-25FC-478D-AF45-7795093E87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025640"/>
            <a:ext cx="3657600" cy="2604960"/>
          </a:xfrm>
          <a:prstGeom prst="rect">
            <a:avLst/>
          </a:prstGeom>
          <a:ln w="0">
            <a:noFill/>
          </a:ln>
        </p:spPr>
      </p:pic>
      <p:pic>
        <p:nvPicPr>
          <p:cNvPr id="111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77120" y="4800600"/>
            <a:ext cx="17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12" name="images" descr=""/>
          <p:cNvPicPr/>
          <p:nvPr/>
        </p:nvPicPr>
        <p:blipFill>
          <a:blip r:embed="rId5"/>
          <a:stretch/>
        </p:blipFill>
        <p:spPr>
          <a:xfrm>
            <a:off x="5029200" y="3809880"/>
            <a:ext cx="216216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fig3511" descr=""/>
          <p:cNvPicPr/>
          <p:nvPr/>
        </p:nvPicPr>
        <p:blipFill>
          <a:blip r:embed="rId6"/>
          <a:stretch/>
        </p:blipFill>
        <p:spPr>
          <a:xfrm>
            <a:off x="0" y="1066680"/>
            <a:ext cx="4876920" cy="338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CB3-2AB2-4D18-BECC-0F7C33D072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5" name="p1811" descr=""/>
          <p:cNvPicPr/>
          <p:nvPr/>
        </p:nvPicPr>
        <p:blipFill>
          <a:blip r:embed="rId1"/>
          <a:stretch/>
        </p:blipFill>
        <p:spPr>
          <a:xfrm>
            <a:off x="304920" y="1281240"/>
            <a:ext cx="8381880" cy="47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FA1-6144-4FC2-ACFD-F707B458B6A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11430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ELFOGÓK (RELÉ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relay%20for%20automotive-2_h" descr=""/>
          <p:cNvPicPr/>
          <p:nvPr/>
        </p:nvPicPr>
        <p:blipFill>
          <a:blip r:embed="rId1"/>
          <a:stretch/>
        </p:blipFill>
        <p:spPr>
          <a:xfrm>
            <a:off x="0" y="1874880"/>
            <a:ext cx="5200560" cy="4983120"/>
          </a:xfrm>
          <a:prstGeom prst="rect">
            <a:avLst/>
          </a:prstGeom>
          <a:ln w="0">
            <a:noFill/>
          </a:ln>
        </p:spPr>
      </p:pic>
      <p:pic>
        <p:nvPicPr>
          <p:cNvPr id="119" name="diopro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3154320" cy="2068560"/>
          </a:xfrm>
          <a:prstGeom prst="rect">
            <a:avLst/>
          </a:prstGeom>
          <a:ln w="0">
            <a:noFill/>
          </a:ln>
        </p:spPr>
      </p:pic>
      <p:pic>
        <p:nvPicPr>
          <p:cNvPr id="120" name="DownloadAttachment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A7A-F6A8-454C-838E-0F156957846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9907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REED JELFOGÓK (RELÉ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diopro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154320" cy="2068560"/>
          </a:xfrm>
          <a:prstGeom prst="rect">
            <a:avLst/>
          </a:prstGeom>
          <a:ln w="0">
            <a:noFill/>
          </a:ln>
        </p:spPr>
      </p:pic>
      <p:pic>
        <p:nvPicPr>
          <p:cNvPr id="124" name="images" descr=""/>
          <p:cNvPicPr/>
          <p:nvPr/>
        </p:nvPicPr>
        <p:blipFill>
          <a:blip r:embed="rId2"/>
          <a:stretch/>
        </p:blipFill>
        <p:spPr>
          <a:xfrm>
            <a:off x="6019920" y="4297320"/>
            <a:ext cx="2209680" cy="2063880"/>
          </a:xfrm>
          <a:prstGeom prst="rect">
            <a:avLst/>
          </a:prstGeom>
          <a:ln w="0">
            <a:noFill/>
          </a:ln>
        </p:spPr>
      </p:pic>
      <p:pic>
        <p:nvPicPr>
          <p:cNvPr id="125" name="Hako357" descr=""/>
          <p:cNvPicPr/>
          <p:nvPr/>
        </p:nvPicPr>
        <p:blipFill>
          <a:blip r:embed="rId3"/>
          <a:stretch/>
        </p:blipFill>
        <p:spPr>
          <a:xfrm>
            <a:off x="0" y="1447920"/>
            <a:ext cx="3962520" cy="3962160"/>
          </a:xfrm>
          <a:prstGeom prst="rect">
            <a:avLst/>
          </a:prstGeom>
          <a:ln w="0">
            <a:noFill/>
          </a:ln>
        </p:spPr>
      </p:pic>
      <p:pic>
        <p:nvPicPr>
          <p:cNvPr id="126" name="relay3" descr=""/>
          <p:cNvPicPr/>
          <p:nvPr/>
        </p:nvPicPr>
        <p:blipFill>
          <a:blip r:embed="rId4"/>
          <a:stretch/>
        </p:blipFill>
        <p:spPr>
          <a:xfrm>
            <a:off x="0" y="5616720"/>
            <a:ext cx="3886200" cy="124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430-207C-44B7-AAC9-CD0BE6E81B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143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JELFOGÓK (RELÉK) - NAGYTELJESÍTMÉNY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dil-a-31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3845160" cy="45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1B1-3376-4A7B-8145-3F90200376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Kemén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sősorban ferrit-anyagokat alkalmaznak gyártásuk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peciális hiszterézisgörbe, két stabil mágneses állapot, binár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és 1 táro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l5299" descr=""/>
          <p:cNvPicPr/>
          <p:nvPr/>
        </p:nvPicPr>
        <p:blipFill>
          <a:blip r:embed="rId1"/>
          <a:stretch/>
        </p:blipFill>
        <p:spPr>
          <a:xfrm>
            <a:off x="3276720" y="3908520"/>
            <a:ext cx="2438280" cy="229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48B-7F71-4E58-A8BD-12300C9645B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Alkalmazáso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9880" y="762120"/>
            <a:ext cx="49611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B8F-7F21-48C4-B30B-AD62103836F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nergiaátvite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981080" y="1676520"/>
                <a:ext cx="18860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505320" y="2514600"/>
                <a:ext cx="12888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876920" y="3733920"/>
                <a:ext cx="1752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705720" y="4648320"/>
                <a:ext cx="1904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858000" y="54100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562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veszte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41008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5410080"/>
            <a:ext cx="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3400" y="2057040"/>
            <a:ext cx="3733920" cy="198108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48120" y="144756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44792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676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Átvitt teljesítmé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3D4-5A44-47BD-965E-645D96B967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nergiaátvite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9" name="KEP30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58400" cy="3419280"/>
          </a:xfrm>
          <a:prstGeom prst="rect">
            <a:avLst/>
          </a:prstGeom>
          <a:ln w="0">
            <a:noFill/>
          </a:ln>
        </p:spPr>
      </p:pic>
      <p:pic>
        <p:nvPicPr>
          <p:cNvPr id="150" name="KEP31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8553600" cy="301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16C-B374-42E0-A284-7EC8D860D6C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nergiaátvitel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716292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EFE-5BF8-42DF-BE4E-F73AA81D67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256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ekercsek, induktivitá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9" name="KEP21" descr=""/>
          <p:cNvPicPr/>
          <p:nvPr/>
        </p:nvPicPr>
        <p:blipFill>
          <a:blip r:embed="rId1"/>
          <a:stretch/>
        </p:blipFill>
        <p:spPr>
          <a:xfrm>
            <a:off x="1752480" y="1249200"/>
            <a:ext cx="5943600" cy="5608800"/>
          </a:xfrm>
          <a:prstGeom prst="rect">
            <a:avLst/>
          </a:prstGeom>
          <a:ln w="0">
            <a:noFill/>
          </a:ln>
        </p:spPr>
      </p:pic>
      <p:pic>
        <p:nvPicPr>
          <p:cNvPr id="90" name="KEP22" descr=""/>
          <p:cNvPicPr/>
          <p:nvPr/>
        </p:nvPicPr>
        <p:blipFill>
          <a:blip r:embed="rId2"/>
          <a:stretch/>
        </p:blipFill>
        <p:spPr>
          <a:xfrm>
            <a:off x="1828800" y="1243080"/>
            <a:ext cx="5715000" cy="5614920"/>
          </a:xfrm>
          <a:prstGeom prst="rect">
            <a:avLst/>
          </a:prstGeom>
          <a:ln w="0">
            <a:noFill/>
          </a:ln>
        </p:spPr>
      </p:pic>
      <p:pic>
        <p:nvPicPr>
          <p:cNvPr id="91" name="KEP23" descr=""/>
          <p:cNvPicPr/>
          <p:nvPr/>
        </p:nvPicPr>
        <p:blipFill>
          <a:blip r:embed="rId3"/>
          <a:stretch/>
        </p:blipFill>
        <p:spPr>
          <a:xfrm>
            <a:off x="914400" y="1341360"/>
            <a:ext cx="7467480" cy="5516640"/>
          </a:xfrm>
          <a:prstGeom prst="rect">
            <a:avLst/>
          </a:prstGeom>
          <a:ln w="0">
            <a:noFill/>
          </a:ln>
        </p:spPr>
      </p:pic>
      <p:pic>
        <p:nvPicPr>
          <p:cNvPr id="92" name="7ede6899155f9aa1713e443968182ba0" descr=""/>
          <p:cNvPicPr/>
          <p:nvPr/>
        </p:nvPicPr>
        <p:blipFill>
          <a:blip r:embed="rId4"/>
          <a:stretch/>
        </p:blipFill>
        <p:spPr>
          <a:xfrm>
            <a:off x="914400" y="1211400"/>
            <a:ext cx="7467480" cy="56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42DE-EDF7-40A8-B63B-4BB89EEF25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Villanymotoro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4" name="KEP3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507440" cy="497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083-5E90-4511-A57F-E4D153DCD0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3962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Villanymotoro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3810240" cy="2428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114800" y="1371600"/>
            <a:ext cx="4724280" cy="2397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52280" y="3913200"/>
            <a:ext cx="3810240" cy="2481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029200" y="3809880"/>
            <a:ext cx="3200400" cy="253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12F-02BE-42D4-BDA1-C0011FA6C883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Tekercsek működési vesztesége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kercsveszteség: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ézveszteség:      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sveszteség:      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+ V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Örvényáramú veszteség – lemezvasmag, porkerá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iszterézisveszteség – anyagminő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H = k A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7B2-FF79-4645-9B03-632A7FD566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Tekercsek működési vesztesége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6" name="hysteresis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5029200" cy="42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85E-E3B9-4838-A6AD-6F724ABC9F2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Lágy és keményvasmagos tekercse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ágy: külső tér megszüntével elveszíti mégneses tulajdonságá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mény: külső tér megszüntével nem veszíti el mégneses tulajdonság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1FD-6538-43DA-8D18-CEA45A554D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Lágy és keményvasmagos tekercse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hystcurves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58514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769-479A-4D76-818C-B7148CFE95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914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ANSZFORMÁTOROK- ÓRIÁSI JELENTŐSÉGE VAN AZ ENERGIATOVÁBBÍTÁS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A4trsfmr" descr=""/>
          <p:cNvPicPr/>
          <p:nvPr/>
        </p:nvPicPr>
        <p:blipFill>
          <a:blip r:embed="rId1"/>
          <a:stretch/>
        </p:blipFill>
        <p:spPr>
          <a:xfrm>
            <a:off x="0" y="1817640"/>
            <a:ext cx="43434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D92-255F-408A-A306-633F9AC4E6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914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RANSZFORMÁTOROK- ÓRIÁSI JELENTŐSÉGE VAN AZ ENERGIATOVÁBBÍTÁSB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02334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FED-FEC2-44D6-9664-BE18170038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gy vasmagos tekerc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mezvasmagos: szigetelt vékony lemezek, transzformátorok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Hz-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rrit vasmagok: fém-oxidokból, elektromosan nem vezető anyagok, nincs örvényá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frenvenciás vasmagok: műanyag és ferromágneses anyagok keveréke, nem vezet, alakra présel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ektronikai ismeret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D4C-35B0-4085-964D-46809D2C7D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ijevics István</cp:lastModifiedBy>
  <dcterms:modified xsi:type="dcterms:W3CDTF">2006-02-22T10:59:57Z</dcterms:modified>
  <cp:revision>36</cp:revision>
  <dc:subject/>
  <dc:title>PowerPoint Presentation</dc:title>
</cp:coreProperties>
</file>