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BB7-F47C-47AC-A930-04EBD438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BFF-C798-4B0C-A74E-1E604937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378-6B0D-401D-8018-922FF954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743-0CC4-4D9F-BD5E-6BB9A879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76A-9760-4582-A508-3A78EAC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6A9-07BF-456B-AA5B-4FF731C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B53-2E98-43CD-A9C8-170C8E63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C5C-C51E-4281-A301-EAB8594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B4D-93E3-48F9-ACA1-2A8055B4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D37-6CBF-4C15-B473-DDBBF6A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A7D-28E9-488F-9A33-58392A9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A17-B04A-4267-9B09-92B4771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10DB-7CCC-4F36-9916-CF48944C94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ÉLVEZE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TISZTA (SZERKEZETI) FÉLVEZET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276640"/>
            <a:ext cx="54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 LEGISMERTEBB FÉLVEZETŐ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zilícium (Si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germánium (Ge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gallium-arzenid (GaA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Gallium-foszfid (G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5F6-4B64-4D75-B321-D4AC9B72D4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A PN ÁTM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98064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EGYETLEN KRISTÁLY KÉTFÉLE SZENNYEZÉ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(azonos mérték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565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2741760"/>
            <a:ext cx="4464000" cy="41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056-5FA5-41CA-92ED-BE18467930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A PN ÁTM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31640" y="98064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EGYETLEN KRISTÁLY KÉTFÉLE SZENNYEZÉ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(különböző mérték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565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84360" y="2741760"/>
            <a:ext cx="4464000" cy="41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038-9C7A-4D61-A55A-0C0DFCD32B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A PN ÁTM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1640" y="98064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EGYETLEN KRISTÁLY KÉTFÉLE SZENNYEZÉ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(külső elektromos té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2565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1938240"/>
            <a:ext cx="6624720" cy="49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AEC-6D03-47A3-9AFF-C00BD321C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A PN ÁTM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1640" y="98064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EGYETLEN KRISTÁLY KÉTFÉLE SZENNYEZÉ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(külső elektromos té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565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85040" cy="48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CF5-36B5-4193-841A-B87B85CAA2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ódakarkterisztikák, tulajdonsá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kep50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400640" cy="971280"/>
          </a:xfrm>
          <a:prstGeom prst="rect">
            <a:avLst/>
          </a:prstGeom>
          <a:ln w="0">
            <a:noFill/>
          </a:ln>
        </p:spPr>
      </p:pic>
      <p:pic>
        <p:nvPicPr>
          <p:cNvPr id="140" name="11_dioda_1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17188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33NP0029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7162560" cy="3044880"/>
          </a:xfrm>
          <a:prstGeom prst="rect">
            <a:avLst/>
          </a:prstGeom>
          <a:ln w="0">
            <a:noFill/>
          </a:ln>
        </p:spPr>
      </p:pic>
      <p:pic>
        <p:nvPicPr>
          <p:cNvPr id="142" name="kep51" descr=""/>
          <p:cNvPicPr/>
          <p:nvPr/>
        </p:nvPicPr>
        <p:blipFill>
          <a:blip r:embed="rId4"/>
          <a:stretch/>
        </p:blipFill>
        <p:spPr>
          <a:xfrm>
            <a:off x="2362320" y="5638680"/>
            <a:ext cx="4492440" cy="6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16C-703F-413F-B119-F8606FC24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ódakarkterisztikák, tulajdonsá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Diode" descr=""/>
          <p:cNvPicPr/>
          <p:nvPr/>
        </p:nvPicPr>
        <p:blipFill>
          <a:blip r:embed="rId1"/>
          <a:stretch/>
        </p:blipFill>
        <p:spPr>
          <a:xfrm>
            <a:off x="0" y="1542960"/>
            <a:ext cx="5334120" cy="5315040"/>
          </a:xfrm>
          <a:prstGeom prst="rect">
            <a:avLst/>
          </a:prstGeom>
          <a:ln w="0">
            <a:noFill/>
          </a:ln>
        </p:spPr>
      </p:pic>
      <p:pic>
        <p:nvPicPr>
          <p:cNvPr id="146" name="diodes" descr=""/>
          <p:cNvPicPr/>
          <p:nvPr/>
        </p:nvPicPr>
        <p:blipFill>
          <a:blip r:embed="rId2"/>
          <a:stretch/>
        </p:blipFill>
        <p:spPr>
          <a:xfrm>
            <a:off x="6149880" y="1371600"/>
            <a:ext cx="2994120" cy="2263680"/>
          </a:xfrm>
          <a:prstGeom prst="rect">
            <a:avLst/>
          </a:prstGeom>
          <a:ln w="0">
            <a:noFill/>
          </a:ln>
        </p:spPr>
      </p:pic>
      <p:pic>
        <p:nvPicPr>
          <p:cNvPr id="147" name="diode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958-3C33-4EAA-BE2C-F80F7E7C3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apanyagu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 (germánium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i (szilici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rmikus feszült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1,38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2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= 1,6 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19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abszo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út hőmé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szerűsítve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2 mV/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724280" y="1295280"/>
                <a:ext cx="2286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57800" y="2819520"/>
                <a:ext cx="1441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05520" y="5334120"/>
                <a:ext cx="21333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B8A-B71D-4B0D-9D1E-8D340E65CE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ódák összehasonl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2971800"/>
          <a:ext cx="9144000" cy="2673360"/>
        </p:xfrm>
        <a:graphic>
          <a:graphicData uri="http://schemas.openxmlformats.org/drawingml/2006/table">
            <a:tbl>
              <a:tblPr/>
              <a:tblGrid>
                <a:gridCol w="1066680"/>
                <a:gridCol w="1981440"/>
                <a:gridCol w="1523880"/>
                <a:gridCol w="1143000"/>
                <a:gridCol w="1905120"/>
                <a:gridCol w="15238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Ώ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~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~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~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~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~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~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82B-4876-49F2-84FA-6319514600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kalmazás, egyenirány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kep60" descr=""/>
          <p:cNvPicPr/>
          <p:nvPr/>
        </p:nvPicPr>
        <p:blipFill>
          <a:blip r:embed="rId1"/>
          <a:stretch/>
        </p:blipFill>
        <p:spPr>
          <a:xfrm>
            <a:off x="0" y="1295280"/>
            <a:ext cx="5257800" cy="1621080"/>
          </a:xfrm>
          <a:prstGeom prst="rect">
            <a:avLst/>
          </a:prstGeom>
          <a:ln w="0">
            <a:noFill/>
          </a:ln>
        </p:spPr>
      </p:pic>
      <p:pic>
        <p:nvPicPr>
          <p:cNvPr id="160" name="kep61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C3D-1F30-43AD-9513-C7D823378A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agyfrekvenciás tulajdonsá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ep070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80060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27E-F345-488B-9AF1-444247BAA4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TISZT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ÉLVEZET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197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SZILIC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KRIST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13000"/>
            <a:ext cx="2195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i atom kör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4 vegy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lek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41720"/>
            <a:ext cx="27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Kovalens kö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(kettős vonal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365720"/>
            <a:ext cx="29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Nem tudnak leválni, nem tudják átugrani a tiltott energiaszintet, nem vezet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701640"/>
            <a:ext cx="6156360" cy="61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7A8-D9E7-4445-AEF1-E26A8AFC64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kalmazás, kapcsolóüz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kep071" descr=""/>
          <p:cNvPicPr/>
          <p:nvPr/>
        </p:nvPicPr>
        <p:blipFill>
          <a:blip r:embed="rId1"/>
          <a:stretch/>
        </p:blipFill>
        <p:spPr>
          <a:xfrm>
            <a:off x="1752480" y="1771560"/>
            <a:ext cx="6058080" cy="508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344-11FC-4A20-A984-D7DAC5CCF2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9144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ljesítmény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Zárófeszültség: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0~3000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ra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~10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i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ícium, nagy meredek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85E-23EE-48D9-8E85-2EF0542A46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image006" descr=""/>
          <p:cNvPicPr/>
          <p:nvPr/>
        </p:nvPicPr>
        <p:blipFill>
          <a:blip r:embed="rId1"/>
          <a:stretch/>
        </p:blipFill>
        <p:spPr>
          <a:xfrm>
            <a:off x="5638680" y="914400"/>
            <a:ext cx="3440160" cy="4648320"/>
          </a:xfrm>
          <a:prstGeom prst="rect">
            <a:avLst/>
          </a:prstGeom>
          <a:ln w="0">
            <a:noFill/>
          </a:ln>
        </p:spPr>
      </p:pic>
      <p:pic>
        <p:nvPicPr>
          <p:cNvPr id="173" name="A10506" descr=""/>
          <p:cNvPicPr/>
          <p:nvPr/>
        </p:nvPicPr>
        <p:blipFill>
          <a:blip r:embed="rId2"/>
          <a:stretch/>
        </p:blipFill>
        <p:spPr>
          <a:xfrm>
            <a:off x="0" y="1749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951-CE8B-4C50-9284-AE6448CE98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066680"/>
            <a:ext cx="8610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ülönleges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űsdiódák, kis kapacitás, aranytű, kis ellenállás így jó nagyfrekvenciás viselkedé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chottky diódák, fém-félvezető kialakítás, kis töltéstárolás, nagy működési sebesség (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0 ps)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, alacsonyabb nyitófeszültség (Uf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.3 V), kapcsolóüz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BA0-BC91-4EF9-AAD8-D4DBF0BB26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kalmazá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pcso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óáram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dior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2611440" cy="4087800"/>
          </a:xfrm>
          <a:prstGeom prst="rect">
            <a:avLst/>
          </a:prstGeom>
          <a:ln w="0">
            <a:noFill/>
          </a:ln>
        </p:spPr>
      </p:pic>
      <p:pic>
        <p:nvPicPr>
          <p:cNvPr id="181" name="diand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42748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46E-AFC0-4763-ABC1-921C00DF3F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%5Cimage09A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3954600" cy="3932280"/>
          </a:xfrm>
          <a:prstGeom prst="rect">
            <a:avLst/>
          </a:prstGeom>
          <a:ln w="0">
            <a:noFill/>
          </a:ln>
        </p:spPr>
      </p:pic>
      <p:pic>
        <p:nvPicPr>
          <p:cNvPr id="185" name="pic%5CimageO6D" descr=""/>
          <p:cNvPicPr/>
          <p:nvPr/>
        </p:nvPicPr>
        <p:blipFill>
          <a:blip r:embed="rId2"/>
          <a:stretch/>
        </p:blipFill>
        <p:spPr>
          <a:xfrm>
            <a:off x="0" y="2057400"/>
            <a:ext cx="3965400" cy="3992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23880" y="914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ENER DIÓDA - feszültségstabiliz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30D-01E0-4AE6-9638-9C150259D4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609480"/>
            <a:ext cx="8534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kalmazás, stabilizálás Zener-diódá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masodik" descr=""/>
          <p:cNvPicPr/>
          <p:nvPr/>
        </p:nvPicPr>
        <p:blipFill>
          <a:blip r:embed="rId1"/>
          <a:stretch/>
        </p:blipFill>
        <p:spPr>
          <a:xfrm>
            <a:off x="3200400" y="24004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1595520"/>
            <a:ext cx="434340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1EC-102E-4FB3-969A-7E11CFB8D4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295280"/>
            <a:ext cx="8305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todiódák, napele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ény hatására változik a visszá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énymérés és energiaátalak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agy határfrekvencia (GHz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47A-80DF-4058-BC34-140D2804C9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03_08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7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FD2-1CA1-4844-B094-FE235C18E6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ED, fénykibocsájtó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ényt bocsájt ki,átlátszó toko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a-As, Ga-As-Ph, Ga-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iros, sárga, zöld, ké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red-LED" descr=""/>
          <p:cNvPicPr/>
          <p:nvPr/>
        </p:nvPicPr>
        <p:blipFill>
          <a:blip r:embed="rId1"/>
          <a:stretch/>
        </p:blipFill>
        <p:spPr>
          <a:xfrm>
            <a:off x="2057400" y="4314960"/>
            <a:ext cx="4343400" cy="25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9C3-A775-4456-84A0-20719ABD6C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TISZT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ÉLVEZET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197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SZILIC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KRIST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13000"/>
            <a:ext cx="21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Hő hatására az elektron kilé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172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rre a helyre egy szabad elektron ugrik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657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gyensú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87640" y="701640"/>
            <a:ext cx="6156360" cy="61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41B-965D-49E1-93D4-4E1795B12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series0" descr="series connection diagram"/>
          <p:cNvPicPr/>
          <p:nvPr/>
        </p:nvPicPr>
        <p:blipFill>
          <a:blip r:embed="rId1"/>
          <a:stretch/>
        </p:blipFill>
        <p:spPr>
          <a:xfrm>
            <a:off x="228600" y="9144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traffic-lights-led" descr=""/>
          <p:cNvPicPr/>
          <p:nvPr/>
        </p:nvPicPr>
        <p:blipFill>
          <a:blip r:embed="rId2"/>
          <a:stretch/>
        </p:blipFill>
        <p:spPr>
          <a:xfrm>
            <a:off x="5337000" y="1143000"/>
            <a:ext cx="380700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B1B-4104-4394-9D00-DBCB2B6892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green3Digit_m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08" name="LED_7_Segment" descr=""/>
          <p:cNvPicPr/>
          <p:nvPr/>
        </p:nvPicPr>
        <p:blipFill>
          <a:blip r:embed="rId2"/>
          <a:stretch/>
        </p:blipFill>
        <p:spPr>
          <a:xfrm>
            <a:off x="4245120" y="838080"/>
            <a:ext cx="4213080" cy="53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F3E-F07A-48F1-8B44-62C65ED3ED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295280"/>
            <a:ext cx="8305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apacitásdiódá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-n átmenet feszültségváltozása kapacitásváltozást okoz, nagyobb zárófesz., töltések eltávolodnak, kisebb kapacitás, 5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0 p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kalmaz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s nagyfr. rezgőkörökné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447-9443-4ADD-A8DE-5D7ED02FB3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7-3" descr=""/>
          <p:cNvPicPr/>
          <p:nvPr/>
        </p:nvPicPr>
        <p:blipFill>
          <a:blip r:embed="rId1"/>
          <a:stretch/>
        </p:blipFill>
        <p:spPr>
          <a:xfrm>
            <a:off x="1371600" y="922320"/>
            <a:ext cx="6629400" cy="488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079-6174-4BD8-AB76-9487C90D96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lvezető diódá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295280"/>
            <a:ext cx="8305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ágnesdiódá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ermániumon p és n zón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r kis vezetőképességű szakaszban az elektronok és lyukak semlegesítik egymást, mágneses mezőben ennek mértéke vátoz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014-9D84-4F5F-82E9-C305A4C83A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TISZT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ÉLVEZET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197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SZILIC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KRIST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Termikus gerjesztés hatására az elektronok (n) és lyukak (p) egyszerre, párosával keletkeznek, tehát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Nagy a valószínűsége, hogy az elektronok és lyukak semlegesítik egymást= rekombin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6064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z elektron és lyuksűrűség szorz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T – a kristály hőmérséklete 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hu-HU" sz="1400" spc="-1" strike="noStrike">
                <a:solidFill>
                  <a:srgbClr val="000000"/>
                </a:solidFill>
                <a:latin typeface="Comic Sans MS"/>
              </a:rPr>
              <a:t>ti</a:t>
            </a: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 – a tiltott energiasáv széless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K – Boltzmann állandó (      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948360" y="1773360"/>
                <a:ext cx="971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796000" y="3500280"/>
                <a:ext cx="3348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780000" y="5373720"/>
                <a:ext cx="2663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[</m:t>
                    </m:r>
                    <m:f>
                      <m:num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956-35B9-4E71-A413-D7B77578BB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SZENNYEZETT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ÉLVEZETŐ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197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SZILIC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KRIST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13000"/>
            <a:ext cx="2195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i atom kör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4 vegy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lek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41720"/>
            <a:ext cx="277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 atom k</a:t>
            </a: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ör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5 vegy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lek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941720"/>
            <a:ext cx="2916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zabad elektr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zabad ly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n típusú, több elek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87640" y="701640"/>
            <a:ext cx="6156360" cy="61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C28-C9DA-41F5-BF0D-7AAF7B498E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SZENNYEZETT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ÉLVEZETŐ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1979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SZILIC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KRIST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13000"/>
            <a:ext cx="284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zennyező anya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Foszfor (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rzén (A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ntimon (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33720"/>
            <a:ext cx="27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rős szennyez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i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00640"/>
            <a:ext cx="320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Gyenge szennyez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i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0" y="4508640"/>
                <a:ext cx="50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0" y="5877000"/>
                <a:ext cx="576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87640" y="2076480"/>
            <a:ext cx="6156360" cy="39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835-D195-4BE2-AA6C-506DE887F8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SZENNYEZETT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ÉLVEZETŐ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197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SZILIC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KRIST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13000"/>
            <a:ext cx="2195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i atom kör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4 vegy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lek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141720"/>
            <a:ext cx="277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tom k</a:t>
            </a: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ör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3 vegy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lek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41720"/>
            <a:ext cx="2916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Elektron hián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szabad ly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p típusú, több ly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89440" y="692280"/>
            <a:ext cx="6154560" cy="616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F84-AAD0-4637-8EC2-1534320F55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ÁRAMOK A FÉLVEZETŐB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DRIFT (SODRÓDÁSI) ÁRAM VILLAMOS TÉR HATÁSÁRA JÖN LÉ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40360" y="134136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MOZGÉKONYSÁ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A TÖLTÉSHORDOZÓK SEBES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48360" y="2133720"/>
                <a:ext cx="15112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020000" y="2205000"/>
                <a:ext cx="1655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932360" y="2781360"/>
            <a:ext cx="4211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egységnyi térerősség hatására fellépő elektron seb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932360" y="2852640"/>
                <a:ext cx="4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932360" cy="4462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3560760"/>
            <a:ext cx="3924360" cy="32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357-8CC3-4F7D-9E8B-A8F6390EF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Comic Sans MS"/>
              </a:rPr>
              <a:t>ÁRAMOK A FÉLVEZETŐB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mic Sans MS"/>
              </a:rPr>
              <a:t>DIFFÚZIÓS ÁRAM, TÖLTÉSHORDOZÓ KONCENTRÁCIÓ KÜLÖNBSÉG HATÁSÁRA JÖN LÉ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4824360" cy="433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206064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16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Diffúziós áramsűrűsé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4000" y="2637000"/>
                <a:ext cx="298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1280" y="4005360"/>
                <a:ext cx="25923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E4B-C6A0-470F-894F-288F6F85E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09T16:22:35Z</dcterms:created>
  <dc:creator>Istvan Matijevics</dc:creator>
  <dc:description/>
  <dc:language>en-US</dc:language>
  <cp:lastModifiedBy>Matijevics István</cp:lastModifiedBy>
  <dcterms:modified xsi:type="dcterms:W3CDTF">2006-03-01T12:19:26Z</dcterms:modified>
  <cp:revision>70</cp:revision>
  <dc:subject/>
  <dc:title>Félvezető diódák</dc:title>
</cp:coreProperties>
</file>