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8AD-F4E8-4B33-92A2-791DE70C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DA9-367A-490F-A50A-FD3FDF19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BF5-4C94-46A7-AA6F-1B9B824F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10C-6F44-4558-94EE-DBDDE336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DB5-1F5C-474B-9175-2062CBC9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3FA-CC61-482E-B50D-F33C4D3C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66F-A7CE-4058-B175-27B36B0B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B0F-25A4-4ABC-9548-2198473E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798-7575-44C8-8780-4B798946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2C5-1AE4-4267-8D07-C98C4C2C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A97-14CC-45D0-8324-DE19CE9E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0D3-889B-41C6-BA23-5C7182C1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F4FD-C2BD-46BB-94F0-318C72669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ipoláris tranzisztorok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anzisztorkarakterisztiká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4038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989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EKTROMOS JELEK ERŐS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2924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cc"/>
                </a:solidFill>
                <a:latin typeface="Times New Roman"/>
              </a:rPr>
              <a:t>TR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FER RE</a:t>
            </a:r>
            <a:r>
              <a:rPr b="0" lang="hu-HU" sz="2400" spc="-1" strike="noStrike">
                <a:solidFill>
                  <a:srgbClr val="ff33cc"/>
                </a:solidFill>
                <a:latin typeface="Times New Roman"/>
              </a:rPr>
              <a:t>SIST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RÖVIDÍ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93372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949 – BELL LABORATÓ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797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IPOLÁRIS = LYUKAK ÉS ELEKTRON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anzisztoro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el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píté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anzisztoro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el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píté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348000" cy="3079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564000" y="620640"/>
            <a:ext cx="2797200" cy="3024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6012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anzisztoro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el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píté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297320" cy="6237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590880" y="465192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ww.onr.navy.m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anzisztoro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el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píté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8358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anzisztoro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elölése</a:t>
            </a:r>
            <a:br>
              <a:rPr sz="44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. Betű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– germánium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 – szilícium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 – különleges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2. Betű C – hangfrekvencás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 – nagyfrekvenciás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 – kapcsolóüzemű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 – teljesítmény (hangfr.)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 – teljesítmény (nagyfr.)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 – teljesítmény (kapcsoló)</a:t>
            </a:r>
            <a:br>
              <a:rPr sz="2800"/>
            </a:b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ám - típ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anzisztoro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eljesítménye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d=U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ra adot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ipoláris tranzisztorok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anzisztorkarakterisztiká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360" y="190512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ilicium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ermánium és m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50920" y="3141720"/>
                <a:ext cx="2286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alignl</m:t>
                    </m:r>
                    <m:sSub>
                      <m:e>
                        <m:eqArr>
                          <m:e>
                            <m:r>
                              <m:t xml:space="preserve">B</m:t>
                            </m:r>
                          </m:e>
                        </m:eqAr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0" y="3933720"/>
                <a:ext cx="33526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4724280"/>
            <a:ext cx="341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mitter – kibocsá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ázis    -  a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llektor - gyűj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19640" y="1428840"/>
            <a:ext cx="5724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ipoláris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anzisztorok</a:t>
            </a:r>
            <a:br>
              <a:rPr sz="4400"/>
            </a:b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emeneti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elleggörbé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6800" y="0"/>
            <a:ext cx="54072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kep090" descr=""/>
          <p:cNvPicPr/>
          <p:nvPr/>
        </p:nvPicPr>
        <p:blipFill>
          <a:blip r:embed="rId2"/>
          <a:stretch/>
        </p:blipFill>
        <p:spPr>
          <a:xfrm>
            <a:off x="0" y="3352680"/>
            <a:ext cx="28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334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ipoláris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ranzisztorok</a:t>
            </a:r>
            <a:br>
              <a:rPr sz="4400"/>
            </a:b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imeneti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elleggörbé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714640" y="380520"/>
            <a:ext cx="2895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95480" y="1914480"/>
            <a:ext cx="6248520" cy="4943520"/>
          </a:xfrm>
          <a:prstGeom prst="rect">
            <a:avLst/>
          </a:prstGeom>
          <a:ln w="0">
            <a:noFill/>
          </a:ln>
        </p:spPr>
      </p:pic>
      <p:pic>
        <p:nvPicPr>
          <p:cNvPr id="59" name="kep090" descr=""/>
          <p:cNvPicPr/>
          <p:nvPr/>
        </p:nvPicPr>
        <p:blipFill>
          <a:blip r:embed="rId2"/>
          <a:stretch/>
        </p:blipFill>
        <p:spPr>
          <a:xfrm>
            <a:off x="0" y="3505320"/>
            <a:ext cx="2771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P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an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, szak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209680"/>
            <a:ext cx="914400" cy="914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36232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95880" y="236196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388620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791320" y="3809880"/>
            <a:ext cx="60948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790960" y="4419360"/>
            <a:ext cx="60948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5867280"/>
            <a:ext cx="380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16765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50292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8018400">
            <a:off x="5943600" y="45716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962520"/>
            <a:ext cx="6094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52578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076640" y="3771720"/>
            <a:ext cx="6094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4419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0481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76720" y="4419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057040" y="4419720"/>
            <a:ext cx="121932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80988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4648320"/>
            <a:ext cx="0" cy="1143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343400" y="6095880"/>
            <a:ext cx="30492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58672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6477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 2004 Bruno Wam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76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nincs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így nincs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943600" y="2209680"/>
            <a:ext cx="914400" cy="914400"/>
          </a:xfrm>
          <a:prstGeom prst="ellipse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36232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95880" y="236196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388620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791320" y="3809880"/>
            <a:ext cx="60948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790960" y="4419360"/>
            <a:ext cx="60948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5867280"/>
            <a:ext cx="380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16765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50292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8018400">
            <a:off x="5943600" y="45716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3962520"/>
            <a:ext cx="6094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52578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076640" y="3771720"/>
            <a:ext cx="6094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419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30481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76720" y="4419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05120" y="4419720"/>
            <a:ext cx="13716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80988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1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4648320"/>
            <a:ext cx="0" cy="1143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5181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6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4191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343400" y="6095880"/>
            <a:ext cx="30492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58672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6477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 2004 Bruno Wam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P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an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, vezetni kezd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még kicsi ahhoz, hogy a tranzisztor teljesen kiny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943600" y="2209680"/>
            <a:ext cx="914400" cy="9144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236232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095880" y="236196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88620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91320" y="3809880"/>
            <a:ext cx="60948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790960" y="4419360"/>
            <a:ext cx="60948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5867280"/>
            <a:ext cx="380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16765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50292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8018400">
            <a:off x="5943600" y="45716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962520"/>
            <a:ext cx="6094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52578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076640" y="3771720"/>
            <a:ext cx="6094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4419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30481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4419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905120" y="4419720"/>
            <a:ext cx="137160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3809880"/>
            <a:ext cx="1295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4648320"/>
            <a:ext cx="0" cy="1143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5181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6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43400" y="6095880"/>
            <a:ext cx="30492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58672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6477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 2004 Bruno Wam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P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an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, ve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6765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elég nagy ahhoz, hogy az izzó világít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Bipoláris tranzisztorok</a:t>
            </a: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Áram jelleggör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235160"/>
            <a:ext cx="860436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ipoláris tranzisztorok</a:t>
            </a:r>
            <a:br>
              <a:rPr sz="4400"/>
            </a:b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Meredekség = I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 változása U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függvényéb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ezt deriv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álv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85800" y="2057400"/>
                <a:ext cx="3308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952880" y="2133720"/>
                <a:ext cx="1752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3276720"/>
                <a:ext cx="17528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809880" y="3276720"/>
                <a:ext cx="137160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33520" y="4267080"/>
            <a:ext cx="815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iff. Bemeneti és kimeneti ellenál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Early-feszültség, np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~200 V, pnp 40~15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2120" y="5562720"/>
                <a:ext cx="23619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5638680"/>
                <a:ext cx="36576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1-09-17T18:35:06Z</dcterms:created>
  <dc:creator>Istvan Matijevics</dc:creator>
  <dc:description/>
  <dc:language>en-US</dc:language>
  <cp:lastModifiedBy>Matijevics István</cp:lastModifiedBy>
  <dcterms:modified xsi:type="dcterms:W3CDTF">2006-03-08T17:21:02Z</dcterms:modified>
  <cp:revision>30</cp:revision>
  <dc:subject/>
  <dc:title>Bipoláris tranzisztorok Tranzisztorkarakterisztikák </dc:title>
</cp:coreProperties>
</file>