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25B-CC1E-46A4-B60E-4834FCB7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67C-C3E5-4C4D-8939-0E509DCD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CE6-9ED8-44B1-9AEC-65B568D4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12A-9B09-4F39-BB01-F7903774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D4F-992B-4207-8704-265556C8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7F6-A0D4-491D-98AF-A1E8C642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588-A817-4D73-BE2F-8F409EEA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EAD-21F4-4FBC-9AC2-719882A8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380-9FB9-406F-BC5C-AF2F1C1D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BA8-9F3B-4CCC-812B-7F73AA9B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8B6-BF1B-41D1-85BB-454A2D0D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272-AEB7-45D4-9D3B-6B05F504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f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8A05-3140-4CAA-AD92-0BAE85D85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f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öldelt emitte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öldelt bázisú 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öldelt kollektor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degyiknek van előnye és hátrá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f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öldelt emitte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436760"/>
            <a:ext cx="766764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f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öldelt emitteres, munkaegyenes, munkap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kep100" descr=""/>
          <p:cNvPicPr/>
          <p:nvPr/>
        </p:nvPicPr>
        <p:blipFill>
          <a:blip r:embed="rId1"/>
          <a:stretch/>
        </p:blipFill>
        <p:spPr>
          <a:xfrm>
            <a:off x="457200" y="1461960"/>
            <a:ext cx="807732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f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öldelt emitteres, munkaegyenes, munkap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b-f2-3" descr=""/>
          <p:cNvPicPr/>
          <p:nvPr/>
        </p:nvPicPr>
        <p:blipFill>
          <a:blip r:embed="rId1"/>
          <a:stretch/>
        </p:blipFill>
        <p:spPr>
          <a:xfrm>
            <a:off x="0" y="2743200"/>
            <a:ext cx="385776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classa-2" descr=""/>
          <p:cNvPicPr/>
          <p:nvPr/>
        </p:nvPicPr>
        <p:blipFill>
          <a:blip r:embed="rId2"/>
          <a:stretch/>
        </p:blipFill>
        <p:spPr>
          <a:xfrm>
            <a:off x="3962520" y="2752560"/>
            <a:ext cx="5181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f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öldelt emitte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62120" y="1752480"/>
                <a:ext cx="2895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572000" y="1752480"/>
                <a:ext cx="25146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876920" y="2819520"/>
                <a:ext cx="19810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143000" y="3048120"/>
                <a:ext cx="2362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990720" y="4267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ü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= üzemi erősí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f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öldelt emitter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orzítás a nemlineáris karakterisztika mi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orzítási téyező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2670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alapharmonik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felharmoniku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809880" y="2438280"/>
                <a:ext cx="1613160" cy="15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limUpp>
                                  <m:e>
                                    <m:r>
                                      <m:t xml:space="preserve">U</m:t>
                                    </m:r>
                                  </m:e>
                                  <m:lim>
                                    <m:sSubSup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/>
                                        </m:acc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lim>
                                </m:limUpp>
                              </m:e>
                            </m:nary>
                          </m:e>
                        </m:rad>
                      </m:num>
                      <m:den>
                        <m:limUpp>
                          <m:e>
                            <m:r>
                              <m:t xml:space="preserve">U</m:t>
                            </m:r>
                          </m:e>
                          <m:li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Up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f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öldelt emitte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isszacsatolás: ellentétes fázisban visszavezetett jel, ez csökkenti a torzít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2590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ros áramvisszacsato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3112920"/>
            <a:ext cx="5834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f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öldelt emitte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isszacsatolás: ellentétes fázisban visszavezetett jel, ez csökkenti a torzítá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590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szültségvisszacsatol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3144960"/>
            <a:ext cx="745164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f2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öldelt emitter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kapontb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lítás, a karakterisztika egy pontjában dolgozik, hőmérsékletnövekedés U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t 2 mV-tal növeli, hőmérsékletdrift. Munkapont-stabilizálás, f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3 kon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tárfrekve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80880" y="2057400"/>
                <a:ext cx="304812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114800" y="2286000"/>
                <a:ext cx="18288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58920" y="3328920"/>
            <a:ext cx="6480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1-09-19T21:10:42Z</dcterms:created>
  <dc:creator>Istvan Matijevics</dc:creator>
  <dc:description/>
  <dc:language>en-US</dc:language>
  <cp:lastModifiedBy>Matijevics István</cp:lastModifiedBy>
  <dcterms:modified xsi:type="dcterms:W3CDTF">2006-03-08T17:39:13Z</dcterms:modified>
  <cp:revision>21</cp:revision>
  <dc:subject/>
  <dc:title>Alapkapcsolások tranzisztorokkal</dc:title>
</cp:coreProperties>
</file>