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063-11B5-4564-8BEA-3FB6E1F2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510-78D3-4292-99C7-B6A039E2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839-3E57-44A0-ABEE-C968D935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DED-BDD8-4E18-87D2-60652FB2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1ED-42B6-4D66-9816-5E098BC5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372-8073-4690-B9DB-D932A2B9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8E8-B8DE-4C20-B9DF-CC232B77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87E-8794-4FA5-81E2-A06B1BDB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9D1-B91F-41AC-B421-18C66E59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8AB-7B89-41C4-A84F-24EF7094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AC6-E2D6-4C52-AEE1-FD0B8E5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A66-6F60-4DB3-B014-87788771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5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313A-087B-4EE2-B162-A0EF962E33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58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kapcsolások tranzisztorokk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öldelt bázisú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4290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generátor I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áramot kell hogy biztosít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s bemenő ellenállás, nagy terhelés generátor felé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s frekvenciákon rossz kapcsolás, nagyobb fr.-on előnyö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meneti ellenáll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meneti ellenáll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szültségerősíté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809880" y="4952880"/>
                <a:ext cx="990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809880" y="5562720"/>
                <a:ext cx="10670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429000" y="6067440"/>
                <a:ext cx="1905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7" name="kep110" descr=""/>
          <p:cNvPicPr/>
          <p:nvPr/>
        </p:nvPicPr>
        <p:blipFill>
          <a:blip r:embed="rId1"/>
          <a:stretch/>
        </p:blipFill>
        <p:spPr>
          <a:xfrm>
            <a:off x="4495680" y="762120"/>
            <a:ext cx="4457880" cy="26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1-09-19T21:10:42Z</dcterms:created>
  <dc:creator>Istvan Matijevics</dc:creator>
  <dc:description/>
  <dc:language>en-US</dc:language>
  <cp:lastModifiedBy>Matijevics István</cp:lastModifiedBy>
  <dcterms:modified xsi:type="dcterms:W3CDTF">2006-03-08T17:54:14Z</dcterms:modified>
  <cp:revision>19</cp:revision>
  <dc:subject/>
  <dc:title>Alapkapcsolások tranzisztorokkal</dc:title>
</cp:coreProperties>
</file>