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4F2-E0A1-4225-8857-E20237EC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436-9220-4FD2-892B-986F0DCB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476-5E04-4885-8211-2F66FF81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E92-E0D6-4271-989D-E82B5943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FCE-CA08-4C91-B6D8-5A6DDE03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ED6-E91F-4577-8C40-029F469F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6C2-3290-433E-8286-55159D1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070-CB44-4457-A091-6B5DBA4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D72-AF8A-48A2-AC57-7B9C0900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DAD-FDBE-45A2-9535-A5CDB09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E29-5B0D-4E2C-80D0-7C11651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660-DF75-4A56-83E7-84BFDE2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A55-1FEF-4CBB-A906-748F6921C3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Kap</a:t>
            </a:r>
            <a:r>
              <a:rPr b="1" lang="hu-HU" sz="3200" spc="-1" strike="noStrike">
                <a:solidFill>
                  <a:srgbClr val="000000"/>
                </a:solidFill>
                <a:latin typeface="Arial Narrow"/>
              </a:rPr>
              <a:t>csoló eszközök bipoláris tranzisztorokk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09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atározza meg a munkaegye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523880"/>
            <a:ext cx="27432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. és II. között aktív 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na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. Te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ítési tartomány, tranzisztor kinyit, kicsi U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kicsi P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II. Túlvezérlődés, lassul a kapcs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hhottky dióda nyitóesz. kisebb, így nem lesz túlvezér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DIGITÁLIS ÁRAMKÖRÖK PARAMÉTE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OGYAN MŰKÖDIK A TRANZISZT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770880" cy="4379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769080" cy="437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16000" y="1916280"/>
            <a:ext cx="676908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DIGITÁLIS ÁRAMKÖRÖK PARAMÉTE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9079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ZAVARVÉDET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12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312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25T09:15:33Z</dcterms:created>
  <dc:creator>Istvan Matijevics</dc:creator>
  <dc:description/>
  <dc:language>en-US</dc:language>
  <cp:lastModifiedBy>Istvan Matijevics</cp:lastModifiedBy>
  <dcterms:modified xsi:type="dcterms:W3CDTF">2006-03-15T07:34:44Z</dcterms:modified>
  <cp:revision>3</cp:revision>
  <dc:subject/>
  <dc:title>PowerPoint Presentation</dc:title>
</cp:coreProperties>
</file>