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2F38-7324-4A4A-90BF-FAA6FDE409B6}" type="slidenum">
              <a:rPr b="0" lang="de-DE" sz="12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ki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ki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248-BEDA-49DA-BCA6-5AAA05CB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4F8-5648-4D91-AE1C-1D3B425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444-C97C-42E2-B9EB-29F3F9AF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35D-708B-43EF-A4F6-A34A9609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2B3-C784-46B8-BDD5-30D7DCA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1CF-FCC0-43F2-B11C-A2065F3C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7CC-CC49-4A8D-AB9D-259FC5A7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C6B-CBA7-4696-B166-646D1A6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888-40BB-4C6B-8185-C1E9CB24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B88-968E-4D52-87A1-44090DDE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7F3-5FEE-4808-B9A6-8E09F5E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2AC-6BFB-4C1F-A518-15F3B1CE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72CC-FDE8-416D-BE32-F4206F2356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ldelt kollekt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362320"/>
            <a:ext cx="8001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 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&gt;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kkor 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mitter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öv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β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1/S+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β)x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                 feszültségerős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 akkor 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iatranszfor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tor, mert r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k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rendkívül kicsi r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hez kép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791320" y="3733920"/>
                <a:ext cx="23619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" name="kep120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4114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ldelt kollektoros – Darlington kapcso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00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agy áramerősítésnél két földelt kollektoros kapcsolás kombináció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81280" y="5867280"/>
                <a:ext cx="9907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76720" y="6500880"/>
                <a:ext cx="1828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585324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ramerősítési ténye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arlington" descr=""/>
          <p:cNvPicPr/>
          <p:nvPr/>
        </p:nvPicPr>
        <p:blipFill>
          <a:blip r:embed="rId1"/>
          <a:stretch/>
        </p:blipFill>
        <p:spPr>
          <a:xfrm>
            <a:off x="3760920" y="2138400"/>
            <a:ext cx="22460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19T21:10:42Z</dcterms:created>
  <dc:creator>Istvan Matijevics</dc:creator>
  <dc:description/>
  <dc:language>en-US</dc:language>
  <cp:lastModifiedBy>Matijevics István</cp:lastModifiedBy>
  <dcterms:modified xsi:type="dcterms:W3CDTF">2006-03-08T18:16:04Z</dcterms:modified>
  <cp:revision>26</cp:revision>
  <dc:subject/>
  <dc:title>Alapkapcsolások tranzisztorokkal</dc:title>
</cp:coreProperties>
</file>