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0C5-E164-4E75-A1CA-CF0FC984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9A1-06FC-4E68-9E3D-76B207F1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F6B-7C06-451A-B3F1-68378868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8D5-D9BC-4005-8892-F8181632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622-9901-42CF-B58F-55D38AAE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E76-1498-4F2F-8375-89C4D705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3C8-4AD1-425D-B0BC-C6D7DA33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889-F048-4BEF-8B1E-9EAC9491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A56-3BAE-4223-9F06-3046AE8F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AF1-3BE2-4D33-85D1-AA9578F7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77A-CFC5-4E4A-9484-9F625A18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DE0-E581-4AD5-A3E5-B11B2F2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69DD-8921-4A02-B7D5-FBAC69B2B1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0"/>
            <a:ext cx="79246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T – Field Effect Transis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66688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JFET 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– Junction Field Effect 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75462f"/>
                </a:solidFill>
                <a:latin typeface="Times New Roman"/>
              </a:rPr>
              <a:t>z</a:t>
            </a:r>
            <a:r>
              <a:rPr b="0" lang="hu-HU" sz="2800" spc="-1" strike="noStrike">
                <a:solidFill>
                  <a:srgbClr val="75462f"/>
                </a:solidFill>
                <a:latin typeface="Times New Roman"/>
              </a:rPr>
              <a:t>áróréte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MOSFET 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– Metal Oxide Semiconductors 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838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5462f"/>
                </a:solidFill>
                <a:latin typeface="Times New Roman"/>
              </a:rPr>
              <a:t>CMOS (Complementary MOS) eszközö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288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szubsztráton  p- és n-csatornás eszközök összeéítésébőlkeletkez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p és Tn tranzisztorok ellenütemben dolgozn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55932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838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5462f"/>
                </a:solidFill>
                <a:latin typeface="Times New Roman"/>
              </a:rPr>
              <a:t>CMOS (Complementary MOS) eszközö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47920"/>
            <a:ext cx="91440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atalógusban milyen adatokat adnakme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radat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rain-source feszültség, draináram, gate-source feszültség, disszipá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ellemző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záródási feszültség., draináram,maximális meredekég, minimális ellenállás,maximális gate-záróáram, maximális drain-záróáram, bemeneti kapacitás, kimeneti kapacitás,visszaható kapacitás,meredekség határfrekv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838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5462f"/>
                </a:solidFill>
                <a:latin typeface="Times New Roman"/>
              </a:rPr>
              <a:t>CMOS (Complementary MOS) eszközö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792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apcsoló üzemmód, működési sebes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ektronok mozgékonyabbak a lyukaknál, tervezési probléma, csatornahossz csökkentés négyzetes sebességnöveke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87280" y="2860560"/>
            <a:ext cx="6767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838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5462f"/>
                </a:solidFill>
                <a:latin typeface="Times New Roman"/>
              </a:rPr>
              <a:t>FET-es alapkapcsol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447920"/>
            <a:ext cx="3733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öldel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végtelen na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meneti ellenáll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14400" y="3048120"/>
                <a:ext cx="19051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5720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szültségerősít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14400" y="5181480"/>
                <a:ext cx="198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35280" y="1916280"/>
            <a:ext cx="420552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838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75462f"/>
                </a:solidFill>
                <a:latin typeface="Times New Roman"/>
              </a:rPr>
              <a:t>FET-es alapkapcsol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447920"/>
            <a:ext cx="3733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öldelt d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végtelen nagy, kis bemeneti kapaci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meneti ellenáll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szültségerősít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" y="3400560"/>
                <a:ext cx="167652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09480" y="5181480"/>
                <a:ext cx="23623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16360" y="2392200"/>
            <a:ext cx="60465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838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JFET – Junction Field Effect Transistor</a:t>
            </a:r>
            <a:r>
              <a:rPr b="1" lang="hu-HU" sz="2800" spc="-1" strike="noStrike">
                <a:solidFill>
                  <a:srgbClr val="75462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75462f"/>
                </a:solidFill>
                <a:latin typeface="Times New Roman"/>
              </a:rPr>
              <a:t>z</a:t>
            </a:r>
            <a:r>
              <a:rPr b="0" lang="hu-HU" sz="2800" spc="-1" strike="noStrike">
                <a:solidFill>
                  <a:srgbClr val="75462f"/>
                </a:solidFill>
                <a:latin typeface="Times New Roman"/>
              </a:rPr>
              <a:t>áróréte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600200"/>
            <a:ext cx="2362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S-Source (forr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D-Drain (nyelő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G-Gate (kap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A vezérlés telje- sítményt nem igény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665600"/>
            <a:ext cx="2268360" cy="219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00360" y="3952800"/>
            <a:ext cx="3240000" cy="2905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24360" y="1268280"/>
            <a:ext cx="500040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67560" y="3857760"/>
            <a:ext cx="2476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838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JFET – Junction Field Effect Transistor</a:t>
            </a:r>
            <a:r>
              <a:rPr b="1" lang="hu-HU" sz="2800" spc="-1" strike="noStrike">
                <a:solidFill>
                  <a:srgbClr val="75462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75462f"/>
                </a:solidFill>
                <a:latin typeface="Times New Roman"/>
              </a:rPr>
              <a:t>z</a:t>
            </a:r>
            <a:r>
              <a:rPr b="0" lang="hu-HU" sz="2800" spc="-1" strike="noStrike">
                <a:solidFill>
                  <a:srgbClr val="75462f"/>
                </a:solidFill>
                <a:latin typeface="Times New Roman"/>
              </a:rPr>
              <a:t>áróréte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00200"/>
            <a:ext cx="2362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S-Source (forr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D-Drain (nyelő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G-Gate (kap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A vezérlés telje- sítményt nem igény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651672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838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JFET – Junction Field Effect Transistor</a:t>
            </a:r>
            <a:r>
              <a:rPr b="1" lang="hu-HU" sz="2800" spc="-1" strike="noStrike">
                <a:solidFill>
                  <a:srgbClr val="75462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75462f"/>
                </a:solidFill>
                <a:latin typeface="Times New Roman"/>
              </a:rPr>
              <a:t>z</a:t>
            </a:r>
            <a:r>
              <a:rPr b="0" lang="hu-HU" sz="2800" spc="-1" strike="noStrike">
                <a:solidFill>
                  <a:srgbClr val="75462f"/>
                </a:solidFill>
                <a:latin typeface="Times New Roman"/>
              </a:rPr>
              <a:t>áróréte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600200"/>
            <a:ext cx="2438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Magas bemeneti ellenállá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Analóg integrált áramkörök és diszkrét erősítő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45198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922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MOSFET 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– Metal Oxide Semiconductors 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6828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Növekményesvezérlés teljesít- ményt nem igény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370836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476600"/>
            <a:ext cx="4095720" cy="2381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925880" y="1700280"/>
            <a:ext cx="42181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6922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MOSFET 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– Metal Oxide Semiconductors 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6828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Növekményesvezérlés teljesít- ményt nem igény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838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MOSFET 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– Metal Oxide Semiconductors 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523880"/>
            <a:ext cx="24382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Kiürítéses (deple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S és D közé enyhe n szennye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vezérlés teljesít- ményt nem igény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Up (pinch-off) küszöb-feszült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7020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838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MOSFET 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– Metal Oxide Semiconductors 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52388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75462f"/>
                </a:solidFill>
                <a:latin typeface="Times New Roman"/>
              </a:rPr>
              <a:t>FET paraméte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áram képlete érvényesminden előzőkapcsolásra, figyelembe véve az eltolódáso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038480" y="1371600"/>
                <a:ext cx="20512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533520" y="3200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ranszfer meredeksé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038480" y="2895480"/>
                <a:ext cx="4873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33520" y="4191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imeneti karakterisztika az U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G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önyökfeszültség alat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124080" y="4724280"/>
                <a:ext cx="26672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80880" y="541008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nyökfeszültség felett ID csak UGS-tő fü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differenciális kimeneti ellenáll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181480" y="6019920"/>
                <a:ext cx="1828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érvezérlésű tranzisztor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838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MOSFET 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75462f"/>
                </a:solidFill>
                <a:latin typeface="Times New Roman"/>
              </a:rPr>
              <a:t>– Metal Oxide Semiconductors 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meneti kapacitás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6 pF, bemeneti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lenáll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84720" y="1484280"/>
                <a:ext cx="1295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539640" y="1844640"/>
            <a:ext cx="6324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zért a felhalmozódó statikus töltések következtében kialakuló magas feszültség átütheti a dielektrikum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ömérsékletfügg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19640" y="2924280"/>
                <a:ext cx="3657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58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71640" y="4114800"/>
            <a:ext cx="4095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1-09-25T09:26:00Z</dcterms:created>
  <dc:creator>Istvan Matijevics</dc:creator>
  <dc:description/>
  <dc:language>en-US</dc:language>
  <cp:lastModifiedBy>Istvan Matijevics</cp:lastModifiedBy>
  <dcterms:modified xsi:type="dcterms:W3CDTF">2006-03-15T10:59:45Z</dcterms:modified>
  <cp:revision>37</cp:revision>
  <dc:subject/>
  <dc:title>PowerPoint Presentation</dc:title>
</cp:coreProperties>
</file>