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24FD-5411-4195-BB51-9CE48D30B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00A9-604F-4066-B81F-AEDA6324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BE29-EC0C-4E29-AFDA-7A2B09DBA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6E6F-80EA-4D80-A83A-003B1BB2B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F0CA-956B-4E8C-98C2-7E657837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BE61-B57A-4CDD-8147-EC84030F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F963-A882-4216-B1A8-D32D4B6F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19AF-48CC-4953-9E22-0B3DA4B5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A2CA-8334-4A4F-8E21-BC28B1E7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6E68-AE6A-4DA9-BAF2-43306349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2FF9-BC5C-41E1-B170-D456A8BC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F358-29BE-4AA9-B82E-8C80188F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73F1-1468-4DBE-AC35-0CDE55140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RŐSÍT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85228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ktív négypólu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rősítés: kimeneti jellemző/bemeneti jellemz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egédenergia kell, mivel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1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, ez a P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TÁ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het 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és A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Ideális erősítő: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hu-HU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i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, A frekvenciától függetl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7236000" y="2276640"/>
                <a:ext cx="1371600" cy="108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250920" y="836640"/>
            <a:ext cx="5832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is jel, használhatatlan, erősíteni k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Úgy hogy a kimenet jelalakja megegyezzen a bemenet jelalakjá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587700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ERŐSÍTÉS = VEZÉRELT TELJESÍTMÉNY ÁTALAKÍ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RŐSÍT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eszültségerősíté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276720" y="914400"/>
                <a:ext cx="55497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5" name=""/>
          <p:cNvGraphicFramePr/>
          <p:nvPr/>
        </p:nvGraphicFramePr>
        <p:xfrm>
          <a:off x="755640" y="2057400"/>
          <a:ext cx="8064360" cy="2189160"/>
        </p:xfrm>
        <a:graphic>
          <a:graphicData uri="http://schemas.openxmlformats.org/drawingml/2006/table">
            <a:tbl>
              <a:tblPr/>
              <a:tblGrid>
                <a:gridCol w="1100160"/>
                <a:gridCol w="690480"/>
                <a:gridCol w="897120"/>
                <a:gridCol w="898560"/>
                <a:gridCol w="892080"/>
                <a:gridCol w="898560"/>
                <a:gridCol w="896760"/>
                <a:gridCol w="893880"/>
                <a:gridCol w="896760"/>
              </a:tblGrid>
              <a:tr h="115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500720" y="2349360"/>
                <a:ext cx="5331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771640" y="2205000"/>
                <a:ext cx="538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4140360" y="2060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RŐSÍT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0" y="764640"/>
            <a:ext cx="87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szacsatolás: az erősítő tulajdonságai változn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0" y="1484280"/>
                <a:ext cx="25146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0" y="522936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isszacsatolt erősítés:                                    hurokerősíté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0" y="5889600"/>
                <a:ext cx="28195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219640" y="5961240"/>
                <a:ext cx="312444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'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gn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β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RŐSÍT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0" y="764640"/>
            <a:ext cx="87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szacsatolás: az erősítő tulajdonságai változn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gyakorlatba a negatív visszacsatolás a gyakorib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ozitív visszacsatolásnál begerjed a rendszer, végtelen nagy lesz az erősítés, így lehet rezgőköröket készíten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RŐSÍT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orzítás vizsgálata 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szacsatolásná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809880"/>
            <a:ext cx="8763120" cy="28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emeneten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frekvenciájú jel, kimeneten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 2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 3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stb. j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inden felharmonikus torzítási tényezője k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/U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erősítés esetén U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1b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/A, U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nb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0 (a bemeneten nincs felharmonikus je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imeneten n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komponense U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k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miből a visszacsatolt rendszer torzítási tényezője knv=kn/(1+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68295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RŐSÍT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ILLER effek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4481640"/>
            <a:ext cx="693432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redeti R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=       , új Z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/I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 Kirchoff-féle hurokegyenlet felhasználásával I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(U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k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)/Z, í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Zbe=Z/(1-A), tehát a bemenet és kimenet közötti Z impedancia áttranszformálható az erősítő bemeneté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286000" y="4572000"/>
                <a:ext cx="6094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7" name="er05" descr=""/>
          <p:cNvPicPr/>
          <p:nvPr/>
        </p:nvPicPr>
        <p:blipFill>
          <a:blip r:embed="rId1"/>
          <a:stretch/>
        </p:blipFill>
        <p:spPr>
          <a:xfrm>
            <a:off x="2971800" y="1544760"/>
            <a:ext cx="617220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RŐSÍT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6094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ogyan használható fel a MILLER effektu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038480"/>
            <a:ext cx="5029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és R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osztó nélkü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= 200 10 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= 2 M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osztó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0" y="5715000"/>
                <a:ext cx="50292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5181480" y="4648320"/>
            <a:ext cx="3962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.9956 Z=R/(1-A)=11.3 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ef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β= 8.3 kΩ 200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6 MΩ, 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=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Z =1.45 M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334120" y="4038480"/>
                <a:ext cx="35049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f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4" name="er06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0233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RŐSÍT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0" y="609480"/>
            <a:ext cx="91440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öbbfokozatú erősítő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egyes fokozatok láncba kapcsolódnak, ered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60958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124080" y="2514600"/>
                <a:ext cx="146700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200400" y="3657600"/>
                <a:ext cx="15238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200400" y="4648320"/>
                <a:ext cx="160020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RŐSÍT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3733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eljesítményerősítő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- pél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is kimeneti ellenállá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is torzítá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is vesztesé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eghajtó: földelt emitt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égfok: komplement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önyökpont diódákk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emitterkövető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60958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er07" descr=""/>
          <p:cNvPicPr/>
          <p:nvPr/>
        </p:nvPicPr>
        <p:blipFill>
          <a:blip r:embed="rId1"/>
          <a:stretch/>
        </p:blipFill>
        <p:spPr>
          <a:xfrm>
            <a:off x="3657600" y="609480"/>
            <a:ext cx="51404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RŐSÍT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7380360" y="5445000"/>
                <a:ext cx="137160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41852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RŐSÍT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1413000"/>
            <a:ext cx="612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ÁLTAKOZÓ FESZÜLTSÉGŰ ERŐSÍT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GYENFESZÜLTSÉGŰ ERŐSÍT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er00" descr=""/>
          <p:cNvPicPr/>
          <p:nvPr/>
        </p:nvPicPr>
        <p:blipFill>
          <a:blip r:embed="rId1"/>
          <a:stretch/>
        </p:blipFill>
        <p:spPr>
          <a:xfrm>
            <a:off x="3257640" y="2560680"/>
            <a:ext cx="588636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RŐSÍT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1413000"/>
            <a:ext cx="6121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ÁLTAKOZÓ FESZÜLTSÉGŰ ERŐSÍT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élessávú erősít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ngolt (szelektív) erősít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er01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581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RŐSÍT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1413000"/>
            <a:ext cx="6121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GYENFESZÜLTSÉGŰ ERŐSÍT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lsó határfrekvencia 0 Hz, csak a bemenet lassú változásaira kell válaszol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RŐSÍT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1413000"/>
            <a:ext cx="6121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ORZÍTÁSI TÉNYEZ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kimenő és bemenő jel között ne legyen eltérés, ha van torzítás lép f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 torzítási tényez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962520" y="3276720"/>
                <a:ext cx="350496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imenő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emenő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l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1219320" y="49528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Jó erősítőnél ez 1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RŐSÍT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141300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JELLEMZŐ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25146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eszültségerősít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3733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Áramerősít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49528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eljesítményerősít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196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14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7212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148360" y="3213000"/>
                <a:ext cx="155088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401472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003640" y="4724280"/>
                <a:ext cx="23511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</m:bar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5076720" y="2276640"/>
                <a:ext cx="3311640" cy="89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RŐSÍT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196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814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7212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1472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5868720" cy="6093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020000" y="1700280"/>
                <a:ext cx="14396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7093080" y="2492280"/>
                <a:ext cx="15112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RŐSÍTŐ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196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814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7212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1472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225960"/>
            <a:ext cx="9144000" cy="36320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11280" y="836640"/>
            <a:ext cx="770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üzemi frekvenciatartomány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orzításo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rősítés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zajtényez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emeneti ellenállás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tárértékadat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imeneti ellenál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05:51Z</dcterms:created>
  <dc:creator>Dr. Matijevics Istvan</dc:creator>
  <dc:description/>
  <dc:language>en-US</dc:language>
  <cp:lastModifiedBy>Matijevics István</cp:lastModifiedBy>
  <dcterms:modified xsi:type="dcterms:W3CDTF">2006-04-05T19:43:45Z</dcterms:modified>
  <cp:revision>38</cp:revision>
  <dc:subject/>
  <dc:title>ERŐSÍTŐK</dc:title>
</cp:coreProperties>
</file>