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13.png" ContentType="image/png"/>
  <Override PartName="/ppt/media/image37.png" ContentType="image/png"/>
  <Override PartName="/ppt/media/image9.png" ContentType="image/png"/>
  <Override PartName="/ppt/media/image40.png" ContentType="image/png"/>
  <Override PartName="/ppt/media/image38.png" ContentType="image/png"/>
  <Override PartName="/ppt/media/image39.jpeg" ContentType="image/jpeg"/>
  <Override PartName="/ppt/media/image8.gif" ContentType="image/gif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024-B960-41C4-8991-B422EBE3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05B-FCDB-4880-B92F-EF3410B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211-0936-4090-AF08-08B6A070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2D4-9D98-4DA3-B25B-758CCADC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06D-C9BF-4B2C-94EA-67FFB928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B5F-A736-4E9C-AD37-D4AD1A3E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322-05FF-4F31-83A6-0E61FFED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0F0-E0A6-4560-B0BD-94AC2F8E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B21-5A0E-4239-B34C-5F03F040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CF6-4A82-490B-8514-B3DEC265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445-C2B5-4B3B-BA60-0CA97156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0E6-E8EB-4740-8C7F-8BBF06E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513B-036C-48DE-8D98-EEE7788F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hyperlink" Target="http://www.itwissen.info/index.php?id=31&amp;ano=01-006137&amp;no_cache=1" TargetMode="External"/><Relationship Id="rId4" Type="http://schemas.openxmlformats.org/officeDocument/2006/relationships/hyperlink" Target="http://www.itwissen.info/index.php?id=31&amp;ano=01-006137&amp;no_cache=1" TargetMode="External"/><Relationship Id="rId5" Type="http://schemas.openxmlformats.org/officeDocument/2006/relationships/hyperlink" Target="http://www.itwissen.info/index.php?id=31&amp;ano=01-006137&amp;no_cache=1" TargetMode="External"/><Relationship Id="rId6" Type="http://schemas.openxmlformats.org/officeDocument/2006/relationships/hyperlink" Target="http://www.itwissen.info/index.php?id=31&amp;ano=01-006137&amp;no_cache=1" TargetMode="External"/><Relationship Id="rId7" Type="http://schemas.openxmlformats.org/officeDocument/2006/relationships/hyperlink" Target="http://images.google.com/imgres?imgurl=http://upload.wikimedia.org/wikipedia/en/thumb/9/92/741_op-amp_in_TO-5_metal_can_package_close-up.jpg/180px-741_op-amp_in_TO-5_metal_can_package_close-up.jpg&amp;imgrefurl=http://en.wikipedia.org/wiki/Operational_amplifier&amp;h=292&amp;w=180&amp;sz=11&amp;tbnid=UsNMsnvsuGje9M:&amp;tbnh=111&amp;tbnw=68&amp;hl=hu&amp;start=17&amp;prev=/images%3Fq%3Doperational%2Bamplifier%26svnum%3D10%26hl%3Dhu%26lr%3D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1.859.telia.com/~u85920178/begin/opamp00.htm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DIFFERENCIÁL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feszültségű erősítő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mmetrikus felépí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3119400" cy="439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360" y="1652760"/>
            <a:ext cx="56516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Visszacsatolt műveleti erősítő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438280" y="1809720"/>
                <a:ext cx="2971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Nem invertáló erősítő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neáris erősí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50133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– pont is U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eszültségen van, a bemenő áram nul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42920" y="5589720"/>
                <a:ext cx="20574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580000" y="5661000"/>
                <a:ext cx="20574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6461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rősítés független az erősítő paramétereitől,feszültségkövető, ha erősíté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79214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Invertáló erősít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76520"/>
            <a:ext cx="25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ris 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– pont is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0 potencićlo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3657600"/>
                <a:ext cx="121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00200" y="3657600"/>
                <a:ext cx="12193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" y="5843520"/>
                <a:ext cx="2209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581280" y="5715000"/>
                <a:ext cx="24386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46753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Összeadó és kivonó áramkörö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600200" y="5684760"/>
                <a:ext cx="25146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29200" y="5838840"/>
                <a:ext cx="2971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70898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Integráló áramkö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0" y="4622760"/>
                <a:ext cx="312408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284720" y="1628640"/>
            <a:ext cx="48592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Integráló áramkö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4030560"/>
            <a:ext cx="5148360" cy="282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644364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üggvénygenerátor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523880" y="4973760"/>
                <a:ext cx="3200400" cy="18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134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90720"/>
            <a:ext cx="43434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rekvencia-viselked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sonló az aluláteresztő szűrőkh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705636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ANALÓG SZÁMÍTÓG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560760" cy="6021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601280" y="6399720"/>
            <a:ext cx="75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computermuseum.li/ Testpage/EAI-Analog-Com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708360" y="1628640"/>
            <a:ext cx="5029200" cy="131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356000" y="3213000"/>
            <a:ext cx="3859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ANALÓG SZÁMÍTÓG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407960"/>
            <a:ext cx="4427640" cy="1357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00720" y="1557360"/>
            <a:ext cx="4643280" cy="1063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2924280"/>
            <a:ext cx="4427640" cy="1407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219640" y="2744640"/>
            <a:ext cx="3924360" cy="1652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0" y="4605480"/>
            <a:ext cx="4356000" cy="142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822920" y="4508640"/>
            <a:ext cx="4321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DIFFERENCIÁL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feszültségű erősítő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mmetrikus felépí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0" y="2133720"/>
                <a:ext cx="21337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514600" y="2133720"/>
                <a:ext cx="21844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0" y="2971800"/>
                <a:ext cx="213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43200" y="2971800"/>
                <a:ext cx="1676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0" y="3809880"/>
                <a:ext cx="365760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0" y="5334120"/>
                <a:ext cx="3809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2895480"/>
            <a:ext cx="4500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HIBRID SZÁMÍTÓG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804000" cy="498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40760" y="6399720"/>
            <a:ext cx="68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hentechnik.foerderverein-tsd.de/ analogComp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HIBRID SZÁMÍTÓG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0760" y="6399720"/>
            <a:ext cx="68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hentechnik.foerderverein-tsd.de/ analogComp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HIBRID SZÁMÍTÓG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0760" y="6399720"/>
            <a:ext cx="68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hentechnik.foerderverein-tsd.de/ analogComp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\includegraphics{fig/pendel}"/>
          <p:cNvPicPr/>
          <p:nvPr/>
        </p:nvPicPr>
        <p:blipFill>
          <a:blip r:embed="rId2"/>
          <a:stretch/>
        </p:blipFill>
        <p:spPr>
          <a:xfrm>
            <a:off x="0" y="1125360"/>
            <a:ext cx="2009880" cy="211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50920" y="1125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ZIKAI 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$\displaystyle \ddot{\alpha}+r\dot{\alpha}+\frac{g}{l}\sin(\alpha)=0$"/>
          <p:cNvPicPr/>
          <p:nvPr/>
        </p:nvPicPr>
        <p:blipFill>
          <a:blip r:embed="rId3"/>
          <a:stretch/>
        </p:blipFill>
        <p:spPr>
          <a:xfrm>
            <a:off x="3419640" y="1844640"/>
            <a:ext cx="2808000" cy="7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88000" y="3716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TEMATIKAI 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$\displaystyle \ddot{x}+r\dot{x}+\frac{g}{l}x=0$"/>
          <p:cNvPicPr/>
          <p:nvPr/>
        </p:nvPicPr>
        <p:blipFill>
          <a:blip r:embed="rId4"/>
          <a:stretch/>
        </p:blipFill>
        <p:spPr>
          <a:xfrm>
            <a:off x="3995640" y="2781360"/>
            <a:ext cx="1800360" cy="671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\begin{displaymath}\begin{array}{lccr} \dot{x}&amp;=&amp; &amp; v \\ \dot{v}&amp;=&amp;-\frac{g}{l}x &amp; -rv \end{array}\end{displaymath}"/>
          <p:cNvPicPr/>
          <p:nvPr/>
        </p:nvPicPr>
        <p:blipFill>
          <a:blip r:embed="rId5"/>
          <a:stretch/>
        </p:blipFill>
        <p:spPr>
          <a:xfrm>
            <a:off x="6372360" y="2708280"/>
            <a:ext cx="1871640" cy="789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signalfluss.gif"/>
          <p:cNvPicPr/>
          <p:nvPr/>
        </p:nvPicPr>
        <p:blipFill>
          <a:blip r:embed="rId6"/>
          <a:stretch/>
        </p:blipFill>
        <p:spPr>
          <a:xfrm>
            <a:off x="0" y="3860640"/>
            <a:ext cx="33433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HIBRID SZÁMÍTÓG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0760" y="6399720"/>
            <a:ext cx="68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hentechnik.foerderverein-tsd.de/ analogComp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solution.jpg"/>
          <p:cNvPicPr/>
          <p:nvPr/>
        </p:nvPicPr>
        <p:blipFill>
          <a:blip r:embed="rId2"/>
          <a:stretch/>
        </p:blipFill>
        <p:spPr>
          <a:xfrm>
            <a:off x="0" y="836640"/>
            <a:ext cx="3564000" cy="2954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\includegraphics[width=7cm]{fig/time}"/>
          <p:cNvPicPr/>
          <p:nvPr/>
        </p:nvPicPr>
        <p:blipFill>
          <a:blip r:embed="rId3"/>
          <a:stretch/>
        </p:blipFill>
        <p:spPr>
          <a:xfrm>
            <a:off x="4896000" y="836640"/>
            <a:ext cx="4248000" cy="3146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\includegraphics[width=7cm]{fig/space}"/>
          <p:cNvPicPr/>
          <p:nvPr/>
        </p:nvPicPr>
        <p:blipFill>
          <a:blip r:embed="rId4"/>
          <a:stretch/>
        </p:blipFill>
        <p:spPr>
          <a:xfrm>
            <a:off x="2340000" y="4083120"/>
            <a:ext cx="3287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feszültségű erősítő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váló tuljdon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 áramkö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ifferenciál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56000" y="2066760"/>
            <a:ext cx="61196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feszültségű erősítő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váló tuljdon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 áramkö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ifferenciál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37200" y="981000"/>
            <a:ext cx="3106800" cy="3168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240" y="6399720"/>
            <a:ext cx="68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itwissen.info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/index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hp?id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=31&amp;ano=01-0061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2997360"/>
            <a:ext cx="175104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2340000" y="2997360"/>
            <a:ext cx="3600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feszültségű erősítő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váló tuljdon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 áramkö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ifferenciál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oa.gif - 16Kb"/>
          <p:cNvPicPr/>
          <p:nvPr/>
        </p:nvPicPr>
        <p:blipFill>
          <a:blip r:embed="rId2"/>
          <a:stretch/>
        </p:blipFill>
        <p:spPr>
          <a:xfrm>
            <a:off x="2556000" y="1878120"/>
            <a:ext cx="65880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feszültségű erősítő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váló tuljdon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 áramkö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ifferenciál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5148360" cy="133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73000" y="3068640"/>
            <a:ext cx="3062520" cy="309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5076720" cy="353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400" y="639972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1.859.telia.com/ ~u85920178/begin/opamp00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3357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7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219320"/>
          <a:ext cx="9144000" cy="5114880"/>
        </p:xfrm>
        <a:graphic>
          <a:graphicData uri="http://schemas.openxmlformats.org/drawingml/2006/table">
            <a:tbl>
              <a:tblPr/>
              <a:tblGrid>
                <a:gridCol w="2133720"/>
                <a:gridCol w="914400"/>
                <a:gridCol w="1523880"/>
                <a:gridCol w="1523880"/>
                <a:gridCol w="1524240"/>
                <a:gridCol w="152388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llemző parméter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ál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nyle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0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polá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meneti el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eneti el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ősít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szetfesz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v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rel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tárfrek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H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jfesz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286000" y="2743200"/>
                <a:ext cx="6094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553080" y="274320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 rot="10800000">
                <a:off x="7924680" y="2743200"/>
                <a:ext cx="609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62320" y="3276720"/>
                <a:ext cx="43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362320" y="38098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553080" y="3733920"/>
                <a:ext cx="533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001000" y="3733920"/>
                <a:ext cx="533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38280" y="4343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286000" y="4800600"/>
                <a:ext cx="6858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52680" y="4800600"/>
                <a:ext cx="106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7120" y="4800600"/>
                <a:ext cx="7617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772400" y="4800600"/>
                <a:ext cx="838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09680" y="5410080"/>
                <a:ext cx="7621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352320" y="5334120"/>
                <a:ext cx="838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∞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86000" y="5778360"/>
                <a:ext cx="533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a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16360" cy="2689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340000" y="4008600"/>
            <a:ext cx="68040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40a04"/>
                </a:solidFill>
                <a:latin typeface="Times New Roman"/>
              </a:rPr>
              <a:t>MŰVELETI 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9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csol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ás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0" y="5877000"/>
                <a:ext cx="5715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5772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10:25:34Z</dcterms:created>
  <dc:creator>Dr. Matijevics Istvan</dc:creator>
  <dc:description/>
  <dc:language>en-US</dc:language>
  <cp:lastModifiedBy>Matijevics István</cp:lastModifiedBy>
  <dcterms:modified xsi:type="dcterms:W3CDTF">2006-04-11T19:58:06Z</dcterms:modified>
  <cp:revision>34</cp:revision>
  <dc:subject/>
  <dc:title>MŰVELETI ERŐSÍTŐK</dc:title>
</cp:coreProperties>
</file>