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E07-FDA4-48BD-8375-1C82D82E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3B8-3CB5-451D-8886-B71D5E19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BD7-B092-4DE4-B6E6-41C66275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CD0-6694-49ED-91A5-2E336EC9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9B7-0BE2-4BFD-84C2-63F272B4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394-EA02-406B-93BB-51E322C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D31-26F4-4A0E-9E08-BC2FA716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91D-E0F0-4428-8D40-208EA1C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98F-2FCE-494F-88ED-AA159CBA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087-82B0-44B5-85BB-EB663A5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6D4-BDA3-4643-BC57-266A4E14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EF0-B442-46BF-B1B5-7F21701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E117-EA5C-4AF7-92AB-FA6DE199C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DIGITÁLIS ÁRAMKÖRÖK PARAMÉTER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98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LOGIKAI SZINT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185080" cy="246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0920" y="2060640"/>
            <a:ext cx="5185080" cy="246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50920" y="2060640"/>
            <a:ext cx="518508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050920" y="2060640"/>
            <a:ext cx="5185080" cy="246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050920" y="2060640"/>
            <a:ext cx="5185080" cy="2468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411280" y="5229360"/>
            <a:ext cx="45370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alakítás hibá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684440"/>
            <a:ext cx="56386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alakítás hibá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539720"/>
            <a:ext cx="58672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futási karakteriszti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D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űrészfeszült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9172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D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tszeres integrá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33920" y="952560"/>
            <a:ext cx="5410080" cy="288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2913120"/>
            <a:ext cx="51055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D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kozatos közelítés e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305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228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 ÉS D/A ALAP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990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TAVÉTELEZÉS PROBLÉM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486400" cy="1165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541008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5632560"/>
            <a:ext cx="5486400" cy="1225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5880" y="1905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MENET EGY EGYENES LE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2004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MENET EGY KISEBB FREKVENCIÁJÚ J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49402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TAVÉTELEZÉS FREKVENCIÁJA LEGALÁBB KÉTSZERESE A JEL FREKVENCIÁJÁ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09680" y="228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 ÉS D/A ALAP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9907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SZERŰ A/D ÁTALAKÍTÓ, KÖVETŐ TÍPUS (TRAC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6404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D ás 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000" y="105264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lytonos jel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ris digitális jel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29080"/>
            <a:ext cx="5219640" cy="332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2390760"/>
            <a:ext cx="39243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ris digitális jel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lytonos je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) Bináris ellenálláshálón való összegzés e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7391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ris digitális jel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lytonos je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) Összegzés R/2R hálózat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2387520"/>
            <a:ext cx="74678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ZN 425 Fer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54080"/>
            <a:ext cx="70106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talógusadato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581280" y="1752480"/>
          <a:ext cx="198144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198144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733920" y="3505320"/>
          <a:ext cx="53316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505320"/>
                    <a:ext cx="5331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581280" y="4800600"/>
          <a:ext cx="21574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800600"/>
                    <a:ext cx="21574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33520" y="2209680"/>
            <a:ext cx="28954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alakítás lépé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legnagyobb feszültsé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lépések szá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itek száma: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alakítás hibá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009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alakítás hibá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867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6783"/>
            </a:gs>
            <a:gs pos="100000">
              <a:srgbClr val="732f3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A átalakít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átalakítás hibá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58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5788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4332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1697040"/>
            <a:ext cx="579132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8:41:22Z</dcterms:created>
  <dc:creator>dr. Matijevics István</dc:creator>
  <dc:description/>
  <dc:language>en-US</dc:language>
  <cp:lastModifiedBy>mistvan</cp:lastModifiedBy>
  <dcterms:modified xsi:type="dcterms:W3CDTF">2006-05-03T09:10:09Z</dcterms:modified>
  <cp:revision>13</cp:revision>
  <dc:subject/>
  <dc:title>AD ás DA átalakítók</dc:title>
</cp:coreProperties>
</file>