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53080" y="6248520"/>
            <a:ext cx="1905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70AB-751F-4AD2-9698-BB7529742E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f.u-szeged.hu/~mistvan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ikrovezerlok.lap.hu/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191120" y="1066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MATIJEVICS ISTV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38080" y="1981080"/>
            <a:ext cx="716292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 Narrow"/>
              </a:rPr>
              <a:t>MIKROVEZÉRLŐK,  PERIFÉRIÁ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179800" y="4870440"/>
            <a:ext cx="47592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inf.u-szeged.hu/~mist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stvan@inf.u-szeged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55560" y="0"/>
            <a:ext cx="774396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lőadás: heti 2 óra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Teljesítés módja: Kollokvi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Laboratóriumi gyakorlat: heti 1 ór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Teljesítés módja: Aláírá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Előfeltétel: Számítógép architektú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8440" y="2919240"/>
            <a:ext cx="832464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Évközi számonkérés: feladat, amelyet otthon, illetve a laboratórumban kell megolda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ladat átvételének határideje: legkésőbb a 8. hé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adási határidő: legkésőbb 14. hé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lérhető pontszám: 80 (ebből min. 4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keres feladat megoldása után aláí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541840"/>
            <a:ext cx="7669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Kollokvium: írásbeli az előadások és irodalom alapjá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lérhető pontszám: 20 (ebből min. 11 pont 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81040" y="1262160"/>
            <a:ext cx="577692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Érdemjeg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51 – 60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légség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61 – 70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özep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71 – 80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jó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81 – 100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je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62352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RODALO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ónya László:                                          Mikrovezérlők alkalmazástechnikáj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CHIPCAD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www.mikrovezerlok.lap.h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09680" y="4719600"/>
            <a:ext cx="4648320" cy="21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HOL, MILYEN BERENDEZÉSEKBEN TALÁLHATUNK PROCESSZOROKAT, MIKROVEZÉRLŐK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1881360"/>
            <a:ext cx="3200400" cy="1881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114800" y="1905120"/>
            <a:ext cx="2133720" cy="187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2133360" cy="1873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62120" y="4343400"/>
            <a:ext cx="2209680" cy="1593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4114800" y="4038480"/>
            <a:ext cx="2133720" cy="207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6629400" y="4178160"/>
            <a:ext cx="2209680" cy="1824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6172200"/>
            <a:ext cx="65530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ÉS MÉG AZ ÉLET MINDEN TERÜLETÉN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OL, MIKOR ÉS MIT HASZNÁLJUNK</a:t>
            </a: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584280"/>
            <a:ext cx="7010280" cy="57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28600"/>
            <a:ext cx="82296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GITÁLIS ÉS ANALÓG SZÁMÍTÁSTECHNIK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09680" y="914400"/>
          <a:ext cx="4930920" cy="27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14400"/>
                    <a:ext cx="4930920" cy="27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2209680" y="4111560"/>
          <a:ext cx="4953240" cy="27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4111560"/>
                    <a:ext cx="495324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066680" y="1143000"/>
          <a:ext cx="7380360" cy="20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143000"/>
                    <a:ext cx="73803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066680" y="3657600"/>
          <a:ext cx="7561440" cy="214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3657600"/>
                    <a:ext cx="756144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58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apfogalma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dat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ények, elképzelések nem értelmezett, de értelmezhető közlési formá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Információ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szimbólumok olyan összessége, amely jelentést hordozó adatokat tartalmaz és csökkenti a bizonytalanságot, vagy új cselekvéseket indít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Informatik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z adat és információ számítástechnikai eszközök alkalmazásával végzett kezelés, elemzés stb. tudománya, amely elméletet szemléletet és módszertant ad a számítógépes információrendszerek tervezéséhez és működtetéséh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Információrendsz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z adat és információ meghatározott célú gyűjtésére, tárolására feldolgozására és továbbítására használt 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Informatikai rendsze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 számítástechnikai és telekommunikációs rendszerekből felépített információrends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858000" cy="639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tijevics</dc:creator>
  <dc:description/>
  <dc:language>en-US</dc:language>
  <cp:lastModifiedBy>István MATIJEVICS</cp:lastModifiedBy>
  <cp:revision>0</cp:revision>
  <dc:subject/>
  <dc:title>PowerPoint Presentation</dc:title>
</cp:coreProperties>
</file>