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53080" y="62485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0CED-FBDF-44CB-B642-E75339F348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DIGITÁLIS SZÁMÍTÓGÉP MATEMATIKAI ALAPJAI</a:t>
            </a:r>
            <a:r>
              <a:rPr b="1" lang="en-GB" sz="5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457200" y="1219320"/>
            <a:ext cx="3201840" cy="2109600"/>
            <a:chOff x="457200" y="1219320"/>
            <a:chExt cx="3201840" cy="2109600"/>
          </a:xfrm>
        </p:grpSpPr>
        <p:grpSp>
          <p:nvGrpSpPr>
            <p:cNvPr id="41" name=""/>
            <p:cNvGrpSpPr/>
            <p:nvPr/>
          </p:nvGrpSpPr>
          <p:grpSpPr>
            <a:xfrm>
              <a:off x="2666880" y="2946240"/>
              <a:ext cx="990720" cy="381240"/>
              <a:chOff x="2666880" y="2946240"/>
              <a:chExt cx="990720" cy="381240"/>
            </a:xfrm>
          </p:grpSpPr>
          <p:sp>
            <p:nvSpPr>
              <p:cNvPr id="42" name=""/>
              <p:cNvSpPr/>
              <p:nvPr/>
            </p:nvSpPr>
            <p:spPr>
              <a:xfrm>
                <a:off x="2666880" y="2946240"/>
                <a:ext cx="990720" cy="38124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2666880" y="2959560"/>
                <a:ext cx="9907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1981080" y="2946240"/>
              <a:ext cx="685800" cy="381240"/>
              <a:chOff x="1981080" y="2946240"/>
              <a:chExt cx="685800" cy="381240"/>
            </a:xfrm>
          </p:grpSpPr>
          <p:sp>
            <p:nvSpPr>
              <p:cNvPr id="45" name=""/>
              <p:cNvSpPr/>
              <p:nvPr/>
            </p:nvSpPr>
            <p:spPr>
              <a:xfrm>
                <a:off x="1981080" y="2946240"/>
                <a:ext cx="685800" cy="38124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981080" y="2959560"/>
                <a:ext cx="6858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1447920" y="2946240"/>
              <a:ext cx="533160" cy="381240"/>
              <a:chOff x="1447920" y="2946240"/>
              <a:chExt cx="533160" cy="381240"/>
            </a:xfrm>
          </p:grpSpPr>
          <p:sp>
            <p:nvSpPr>
              <p:cNvPr id="48" name=""/>
              <p:cNvSpPr/>
              <p:nvPr/>
            </p:nvSpPr>
            <p:spPr>
              <a:xfrm>
                <a:off x="1447920" y="2946240"/>
                <a:ext cx="533160" cy="38124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447920" y="2959560"/>
                <a:ext cx="5331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914400" y="2946240"/>
              <a:ext cx="533520" cy="381240"/>
              <a:chOff x="914400" y="2946240"/>
              <a:chExt cx="533520" cy="381240"/>
            </a:xfrm>
          </p:grpSpPr>
          <p:sp>
            <p:nvSpPr>
              <p:cNvPr id="51" name=""/>
              <p:cNvSpPr/>
              <p:nvPr/>
            </p:nvSpPr>
            <p:spPr>
              <a:xfrm>
                <a:off x="914400" y="2946240"/>
                <a:ext cx="533520" cy="38124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14400" y="2959560"/>
                <a:ext cx="5335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57200" y="2946240"/>
              <a:ext cx="457200" cy="381240"/>
              <a:chOff x="457200" y="2946240"/>
              <a:chExt cx="457200" cy="381240"/>
            </a:xfrm>
          </p:grpSpPr>
          <p:sp>
            <p:nvSpPr>
              <p:cNvPr id="54" name=""/>
              <p:cNvSpPr/>
              <p:nvPr/>
            </p:nvSpPr>
            <p:spPr>
              <a:xfrm>
                <a:off x="457200" y="2946240"/>
                <a:ext cx="457200" cy="38124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57200" y="295956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666880" y="2489040"/>
              <a:ext cx="990720" cy="457200"/>
              <a:chOff x="2666880" y="2489040"/>
              <a:chExt cx="99072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2666880" y="2489040"/>
                <a:ext cx="99072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666880" y="2540520"/>
                <a:ext cx="9907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81080" y="2489040"/>
              <a:ext cx="685800" cy="457200"/>
              <a:chOff x="1981080" y="2489040"/>
              <a:chExt cx="685800" cy="457200"/>
            </a:xfrm>
          </p:grpSpPr>
          <p:sp>
            <p:nvSpPr>
              <p:cNvPr id="60" name=""/>
              <p:cNvSpPr/>
              <p:nvPr/>
            </p:nvSpPr>
            <p:spPr>
              <a:xfrm>
                <a:off x="1981080" y="2489040"/>
                <a:ext cx="6858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81080" y="2540520"/>
                <a:ext cx="6858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447920" y="2489040"/>
              <a:ext cx="533160" cy="457200"/>
              <a:chOff x="1447920" y="2489040"/>
              <a:chExt cx="5331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1447920" y="2489040"/>
                <a:ext cx="53316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47920" y="2540520"/>
                <a:ext cx="5331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914400" y="2489040"/>
              <a:ext cx="533520" cy="457200"/>
              <a:chOff x="914400" y="2489040"/>
              <a:chExt cx="533520" cy="457200"/>
            </a:xfrm>
          </p:grpSpPr>
          <p:sp>
            <p:nvSpPr>
              <p:cNvPr id="66" name=""/>
              <p:cNvSpPr/>
              <p:nvPr/>
            </p:nvSpPr>
            <p:spPr>
              <a:xfrm>
                <a:off x="914400" y="2489040"/>
                <a:ext cx="53352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14400" y="2540520"/>
                <a:ext cx="5335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457200" y="2489040"/>
              <a:ext cx="457200" cy="457200"/>
              <a:chOff x="457200" y="2489040"/>
              <a:chExt cx="45720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457200" y="2489040"/>
                <a:ext cx="4572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57200" y="254052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666880" y="2108160"/>
              <a:ext cx="990720" cy="380880"/>
              <a:chOff x="2666880" y="2108160"/>
              <a:chExt cx="990720" cy="380880"/>
            </a:xfrm>
          </p:grpSpPr>
          <p:sp>
            <p:nvSpPr>
              <p:cNvPr id="72" name=""/>
              <p:cNvSpPr/>
              <p:nvPr/>
            </p:nvSpPr>
            <p:spPr>
              <a:xfrm>
                <a:off x="2666880" y="2108160"/>
                <a:ext cx="99072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66880" y="2121480"/>
                <a:ext cx="9907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981080" y="2108160"/>
              <a:ext cx="685800" cy="380880"/>
              <a:chOff x="1981080" y="2108160"/>
              <a:chExt cx="685800" cy="380880"/>
            </a:xfrm>
          </p:grpSpPr>
          <p:sp>
            <p:nvSpPr>
              <p:cNvPr id="75" name=""/>
              <p:cNvSpPr/>
              <p:nvPr/>
            </p:nvSpPr>
            <p:spPr>
              <a:xfrm>
                <a:off x="1981080" y="2108160"/>
                <a:ext cx="68580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981080" y="2121480"/>
                <a:ext cx="6858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447920" y="2108160"/>
              <a:ext cx="533160" cy="380880"/>
              <a:chOff x="1447920" y="2108160"/>
              <a:chExt cx="533160" cy="380880"/>
            </a:xfrm>
          </p:grpSpPr>
          <p:sp>
            <p:nvSpPr>
              <p:cNvPr id="78" name=""/>
              <p:cNvSpPr/>
              <p:nvPr/>
            </p:nvSpPr>
            <p:spPr>
              <a:xfrm>
                <a:off x="1447920" y="2108160"/>
                <a:ext cx="53316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47920" y="2121480"/>
                <a:ext cx="5331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914400" y="2108160"/>
              <a:ext cx="533520" cy="380880"/>
              <a:chOff x="914400" y="2108160"/>
              <a:chExt cx="533520" cy="380880"/>
            </a:xfrm>
          </p:grpSpPr>
          <p:sp>
            <p:nvSpPr>
              <p:cNvPr id="81" name=""/>
              <p:cNvSpPr/>
              <p:nvPr/>
            </p:nvSpPr>
            <p:spPr>
              <a:xfrm>
                <a:off x="914400" y="2108160"/>
                <a:ext cx="53352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14400" y="2121480"/>
                <a:ext cx="5335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57200" y="2108160"/>
              <a:ext cx="457200" cy="380880"/>
              <a:chOff x="457200" y="2108160"/>
              <a:chExt cx="457200" cy="380880"/>
            </a:xfrm>
          </p:grpSpPr>
          <p:sp>
            <p:nvSpPr>
              <p:cNvPr id="84" name=""/>
              <p:cNvSpPr/>
              <p:nvPr/>
            </p:nvSpPr>
            <p:spPr>
              <a:xfrm>
                <a:off x="457200" y="2108160"/>
                <a:ext cx="45720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7200" y="212148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666880" y="1727280"/>
              <a:ext cx="990720" cy="380880"/>
              <a:chOff x="2666880" y="1727280"/>
              <a:chExt cx="990720" cy="380880"/>
            </a:xfrm>
          </p:grpSpPr>
          <p:sp>
            <p:nvSpPr>
              <p:cNvPr id="87" name=""/>
              <p:cNvSpPr/>
              <p:nvPr/>
            </p:nvSpPr>
            <p:spPr>
              <a:xfrm>
                <a:off x="2666880" y="1727280"/>
                <a:ext cx="99072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666880" y="1740600"/>
                <a:ext cx="9907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981080" y="1727280"/>
              <a:ext cx="685800" cy="380880"/>
              <a:chOff x="1981080" y="1727280"/>
              <a:chExt cx="685800" cy="380880"/>
            </a:xfrm>
          </p:grpSpPr>
          <p:sp>
            <p:nvSpPr>
              <p:cNvPr id="90" name=""/>
              <p:cNvSpPr/>
              <p:nvPr/>
            </p:nvSpPr>
            <p:spPr>
              <a:xfrm>
                <a:off x="1981080" y="1727280"/>
                <a:ext cx="68580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81080" y="1740600"/>
                <a:ext cx="6858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447920" y="1727280"/>
              <a:ext cx="533160" cy="380880"/>
              <a:chOff x="1447920" y="1727280"/>
              <a:chExt cx="533160" cy="380880"/>
            </a:xfrm>
          </p:grpSpPr>
          <p:sp>
            <p:nvSpPr>
              <p:cNvPr id="93" name=""/>
              <p:cNvSpPr/>
              <p:nvPr/>
            </p:nvSpPr>
            <p:spPr>
              <a:xfrm>
                <a:off x="1447920" y="1727280"/>
                <a:ext cx="53316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447920" y="1740600"/>
                <a:ext cx="5331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914400" y="1727280"/>
              <a:ext cx="533520" cy="380880"/>
              <a:chOff x="914400" y="1727280"/>
              <a:chExt cx="533520" cy="380880"/>
            </a:xfrm>
          </p:grpSpPr>
          <p:sp>
            <p:nvSpPr>
              <p:cNvPr id="96" name=""/>
              <p:cNvSpPr/>
              <p:nvPr/>
            </p:nvSpPr>
            <p:spPr>
              <a:xfrm>
                <a:off x="914400" y="1727280"/>
                <a:ext cx="53352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14400" y="1740600"/>
                <a:ext cx="5335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57200" y="1727280"/>
              <a:ext cx="457200" cy="380880"/>
              <a:chOff x="457200" y="1727280"/>
              <a:chExt cx="457200" cy="380880"/>
            </a:xfrm>
          </p:grpSpPr>
          <p:sp>
            <p:nvSpPr>
              <p:cNvPr id="99" name=""/>
              <p:cNvSpPr/>
              <p:nvPr/>
            </p:nvSpPr>
            <p:spPr>
              <a:xfrm>
                <a:off x="457200" y="1727280"/>
                <a:ext cx="45720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57200" y="174060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666880" y="1219320"/>
              <a:ext cx="990720" cy="507960"/>
              <a:chOff x="2666880" y="1219320"/>
              <a:chExt cx="990720" cy="507960"/>
            </a:xfrm>
          </p:grpSpPr>
          <p:sp>
            <p:nvSpPr>
              <p:cNvPr id="102" name=""/>
              <p:cNvSpPr/>
              <p:nvPr/>
            </p:nvSpPr>
            <p:spPr>
              <a:xfrm>
                <a:off x="2666880" y="1219320"/>
                <a:ext cx="990720" cy="507960"/>
              </a:xfrm>
              <a:prstGeom prst="roundRect">
                <a:avLst>
                  <a:gd name="adj" fmla="val 31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66880" y="1296000"/>
                <a:ext cx="9907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átvit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981080" y="1219320"/>
              <a:ext cx="685800" cy="507960"/>
              <a:chOff x="1981080" y="1219320"/>
              <a:chExt cx="685800" cy="507960"/>
            </a:xfrm>
          </p:grpSpPr>
          <p:sp>
            <p:nvSpPr>
              <p:cNvPr id="105" name=""/>
              <p:cNvSpPr/>
              <p:nvPr/>
            </p:nvSpPr>
            <p:spPr>
              <a:xfrm>
                <a:off x="1981080" y="1219320"/>
                <a:ext cx="685800" cy="507960"/>
              </a:xfrm>
              <a:prstGeom prst="roundRect">
                <a:avLst>
                  <a:gd name="adj" fmla="val 31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81080" y="1296000"/>
                <a:ext cx="6858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+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447920" y="1219320"/>
              <a:ext cx="533160" cy="507960"/>
              <a:chOff x="1447920" y="1219320"/>
              <a:chExt cx="533160" cy="507960"/>
            </a:xfrm>
          </p:grpSpPr>
          <p:sp>
            <p:nvSpPr>
              <p:cNvPr id="108" name=""/>
              <p:cNvSpPr/>
              <p:nvPr/>
            </p:nvSpPr>
            <p:spPr>
              <a:xfrm>
                <a:off x="1447920" y="1219320"/>
                <a:ext cx="533160" cy="507960"/>
              </a:xfrm>
              <a:prstGeom prst="roundRect">
                <a:avLst>
                  <a:gd name="adj" fmla="val 31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447920" y="1296000"/>
                <a:ext cx="5331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914400" y="1219320"/>
              <a:ext cx="533520" cy="507960"/>
              <a:chOff x="914400" y="1219320"/>
              <a:chExt cx="533520" cy="507960"/>
            </a:xfrm>
          </p:grpSpPr>
          <p:sp>
            <p:nvSpPr>
              <p:cNvPr id="111" name=""/>
              <p:cNvSpPr/>
              <p:nvPr/>
            </p:nvSpPr>
            <p:spPr>
              <a:xfrm>
                <a:off x="914400" y="1219320"/>
                <a:ext cx="533520" cy="507960"/>
              </a:xfrm>
              <a:prstGeom prst="roundRect">
                <a:avLst>
                  <a:gd name="adj" fmla="val 31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4400" y="1296000"/>
                <a:ext cx="5335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57200" y="1219320"/>
              <a:ext cx="457200" cy="507960"/>
            </a:xfrm>
            <a:custGeom>
              <a:avLst/>
              <a:gdLst>
                <a:gd name="textAreaLeft" fmla="*/ 360 w 457200"/>
                <a:gd name="textAreaRight" fmla="*/ 456840 w 457200"/>
                <a:gd name="textAreaTop" fmla="*/ 360 h 507960"/>
                <a:gd name="textAreaBottom" fmla="*/ 507600 h 507960"/>
              </a:gdLst>
              <a:ahLst/>
              <a:rect l="textAreaLeft" t="textAreaTop" r="textAreaRight" b="textAreaBottom"/>
              <a:pathLst>
                <a:path w="21600" h="23996">
                  <a:moveTo>
                    <a:pt x="75" y="0"/>
                  </a:moveTo>
                  <a:arcTo wR="75" hR="75" stAng="16200000" swAng="-5400000"/>
                  <a:lnTo>
                    <a:pt x="0" y="23921"/>
                  </a:lnTo>
                  <a:arcTo wR="75" hR="75" stAng="10800000" swAng="-5400000"/>
                  <a:lnTo>
                    <a:pt x="21525" y="23996"/>
                  </a:lnTo>
                  <a:arcTo wR="75" hR="75" stAng="5400000" swAng="-5400000"/>
                  <a:lnTo>
                    <a:pt x="21600" y="75"/>
                  </a:lnTo>
                  <a:arcTo wR="75" hR="75" stAng="0" swAng="-5400000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" y="1219320"/>
              <a:ext cx="3200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1727280"/>
              <a:ext cx="3200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" y="2108160"/>
              <a:ext cx="3200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" y="2489040"/>
              <a:ext cx="3200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2946240"/>
              <a:ext cx="3200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3327480"/>
              <a:ext cx="3200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" y="1219320"/>
              <a:ext cx="1440" cy="21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4400" y="1219320"/>
              <a:ext cx="1440" cy="21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1219320"/>
              <a:ext cx="1440" cy="21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1219320"/>
              <a:ext cx="1800" cy="21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1219320"/>
              <a:ext cx="1800" cy="210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1219320"/>
              <a:ext cx="1440" cy="2108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09880" y="1143000"/>
            <a:ext cx="5334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ÉT BINÁRIS SZÁM ÖSSZEAD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85800" y="4191120"/>
            <a:ext cx="2058840" cy="2211120"/>
            <a:chOff x="685800" y="4191120"/>
            <a:chExt cx="2058840" cy="2211120"/>
          </a:xfrm>
        </p:grpSpPr>
        <p:grpSp>
          <p:nvGrpSpPr>
            <p:cNvPr id="128" name=""/>
            <p:cNvGrpSpPr/>
            <p:nvPr/>
          </p:nvGrpSpPr>
          <p:grpSpPr>
            <a:xfrm>
              <a:off x="1905120" y="5943600"/>
              <a:ext cx="838080" cy="457200"/>
              <a:chOff x="1905120" y="5943600"/>
              <a:chExt cx="838080" cy="457200"/>
            </a:xfrm>
          </p:grpSpPr>
          <p:sp>
            <p:nvSpPr>
              <p:cNvPr id="129" name=""/>
              <p:cNvSpPr/>
              <p:nvPr/>
            </p:nvSpPr>
            <p:spPr>
              <a:xfrm>
                <a:off x="1905120" y="5943600"/>
                <a:ext cx="83808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05120" y="594360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523880" y="5943600"/>
              <a:ext cx="381240" cy="457200"/>
              <a:chOff x="1523880" y="5943600"/>
              <a:chExt cx="381240" cy="457200"/>
            </a:xfrm>
          </p:grpSpPr>
          <p:sp>
            <p:nvSpPr>
              <p:cNvPr id="132" name=""/>
              <p:cNvSpPr/>
              <p:nvPr/>
            </p:nvSpPr>
            <p:spPr>
              <a:xfrm>
                <a:off x="1523880" y="594360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23880" y="594360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1143000" y="5943600"/>
              <a:ext cx="380880" cy="457200"/>
              <a:chOff x="1143000" y="5943600"/>
              <a:chExt cx="380880" cy="457200"/>
            </a:xfrm>
          </p:grpSpPr>
          <p:sp>
            <p:nvSpPr>
              <p:cNvPr id="135" name=""/>
              <p:cNvSpPr/>
              <p:nvPr/>
            </p:nvSpPr>
            <p:spPr>
              <a:xfrm>
                <a:off x="1143000" y="594360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43000" y="594360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85800" y="5943600"/>
              <a:ext cx="457200" cy="457200"/>
              <a:chOff x="685800" y="5943600"/>
              <a:chExt cx="457200" cy="457200"/>
            </a:xfrm>
          </p:grpSpPr>
          <p:sp>
            <p:nvSpPr>
              <p:cNvPr id="138" name=""/>
              <p:cNvSpPr/>
              <p:nvPr/>
            </p:nvSpPr>
            <p:spPr>
              <a:xfrm>
                <a:off x="685800" y="5943600"/>
                <a:ext cx="4572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5800" y="594360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905120" y="5486400"/>
              <a:ext cx="838080" cy="457200"/>
              <a:chOff x="1905120" y="5486400"/>
              <a:chExt cx="838080" cy="457200"/>
            </a:xfrm>
          </p:grpSpPr>
          <p:sp>
            <p:nvSpPr>
              <p:cNvPr id="141" name=""/>
              <p:cNvSpPr/>
              <p:nvPr/>
            </p:nvSpPr>
            <p:spPr>
              <a:xfrm>
                <a:off x="1905120" y="5486400"/>
                <a:ext cx="83808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05120" y="548640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523880" y="5486400"/>
              <a:ext cx="381240" cy="457200"/>
              <a:chOff x="1523880" y="5486400"/>
              <a:chExt cx="381240" cy="457200"/>
            </a:xfrm>
          </p:grpSpPr>
          <p:sp>
            <p:nvSpPr>
              <p:cNvPr id="144" name=""/>
              <p:cNvSpPr/>
              <p:nvPr/>
            </p:nvSpPr>
            <p:spPr>
              <a:xfrm>
                <a:off x="1523880" y="548640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23880" y="548640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143000" y="5486400"/>
              <a:ext cx="380880" cy="457200"/>
              <a:chOff x="1143000" y="5486400"/>
              <a:chExt cx="380880" cy="457200"/>
            </a:xfrm>
          </p:grpSpPr>
          <p:sp>
            <p:nvSpPr>
              <p:cNvPr id="147" name=""/>
              <p:cNvSpPr/>
              <p:nvPr/>
            </p:nvSpPr>
            <p:spPr>
              <a:xfrm>
                <a:off x="1143000" y="548640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143000" y="548640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85800" y="5486400"/>
              <a:ext cx="457200" cy="457200"/>
              <a:chOff x="685800" y="5486400"/>
              <a:chExt cx="457200" cy="457200"/>
            </a:xfrm>
          </p:grpSpPr>
          <p:sp>
            <p:nvSpPr>
              <p:cNvPr id="150" name=""/>
              <p:cNvSpPr/>
              <p:nvPr/>
            </p:nvSpPr>
            <p:spPr>
              <a:xfrm>
                <a:off x="685800" y="5486400"/>
                <a:ext cx="4572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800" y="548640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905120" y="5105520"/>
              <a:ext cx="838080" cy="380880"/>
              <a:chOff x="1905120" y="5105520"/>
              <a:chExt cx="838080" cy="380880"/>
            </a:xfrm>
          </p:grpSpPr>
          <p:sp>
            <p:nvSpPr>
              <p:cNvPr id="153" name=""/>
              <p:cNvSpPr/>
              <p:nvPr/>
            </p:nvSpPr>
            <p:spPr>
              <a:xfrm>
                <a:off x="1905120" y="5105520"/>
                <a:ext cx="83808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05120" y="510552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523880" y="5105520"/>
              <a:ext cx="381240" cy="380880"/>
              <a:chOff x="1523880" y="5105520"/>
              <a:chExt cx="381240" cy="380880"/>
            </a:xfrm>
          </p:grpSpPr>
          <p:sp>
            <p:nvSpPr>
              <p:cNvPr id="156" name=""/>
              <p:cNvSpPr/>
              <p:nvPr/>
            </p:nvSpPr>
            <p:spPr>
              <a:xfrm>
                <a:off x="1523880" y="5105520"/>
                <a:ext cx="38124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523880" y="510552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143000" y="5105520"/>
              <a:ext cx="380880" cy="380880"/>
              <a:chOff x="1143000" y="5105520"/>
              <a:chExt cx="380880" cy="380880"/>
            </a:xfrm>
          </p:grpSpPr>
          <p:sp>
            <p:nvSpPr>
              <p:cNvPr id="159" name=""/>
              <p:cNvSpPr/>
              <p:nvPr/>
            </p:nvSpPr>
            <p:spPr>
              <a:xfrm>
                <a:off x="1143000" y="5105520"/>
                <a:ext cx="38088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3000" y="510552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85800" y="5105520"/>
              <a:ext cx="457200" cy="380880"/>
              <a:chOff x="685800" y="5105520"/>
              <a:chExt cx="457200" cy="380880"/>
            </a:xfrm>
          </p:grpSpPr>
          <p:sp>
            <p:nvSpPr>
              <p:cNvPr id="162" name=""/>
              <p:cNvSpPr/>
              <p:nvPr/>
            </p:nvSpPr>
            <p:spPr>
              <a:xfrm>
                <a:off x="685800" y="5105520"/>
                <a:ext cx="45720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5800" y="510552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905120" y="4648320"/>
              <a:ext cx="838080" cy="457200"/>
              <a:chOff x="1905120" y="4648320"/>
              <a:chExt cx="838080" cy="457200"/>
            </a:xfrm>
          </p:grpSpPr>
          <p:sp>
            <p:nvSpPr>
              <p:cNvPr id="165" name=""/>
              <p:cNvSpPr/>
              <p:nvPr/>
            </p:nvSpPr>
            <p:spPr>
              <a:xfrm>
                <a:off x="1905120" y="4648320"/>
                <a:ext cx="83808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905120" y="464832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523880" y="4648320"/>
              <a:ext cx="381240" cy="457200"/>
              <a:chOff x="1523880" y="4648320"/>
              <a:chExt cx="381240" cy="457200"/>
            </a:xfrm>
          </p:grpSpPr>
          <p:sp>
            <p:nvSpPr>
              <p:cNvPr id="168" name=""/>
              <p:cNvSpPr/>
              <p:nvPr/>
            </p:nvSpPr>
            <p:spPr>
              <a:xfrm>
                <a:off x="1523880" y="464832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3880" y="464832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143000" y="4648320"/>
              <a:ext cx="380880" cy="457200"/>
              <a:chOff x="1143000" y="4648320"/>
              <a:chExt cx="380880" cy="45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1143000" y="464832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43000" y="464832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685800" y="4648320"/>
              <a:ext cx="457200" cy="457200"/>
              <a:chOff x="685800" y="4648320"/>
              <a:chExt cx="4572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685800" y="4648320"/>
                <a:ext cx="4572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85800" y="464832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905120" y="4191120"/>
              <a:ext cx="838080" cy="457200"/>
            </a:xfrm>
            <a:prstGeom prst="roundRect">
              <a:avLst>
                <a:gd name="adj" fmla="val 34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523880" y="4191120"/>
              <a:ext cx="381240" cy="457200"/>
              <a:chOff x="1523880" y="4191120"/>
              <a:chExt cx="381240" cy="457200"/>
            </a:xfrm>
          </p:grpSpPr>
          <p:sp>
            <p:nvSpPr>
              <p:cNvPr id="178" name=""/>
              <p:cNvSpPr/>
              <p:nvPr/>
            </p:nvSpPr>
            <p:spPr>
              <a:xfrm>
                <a:off x="1523880" y="419112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23880" y="419112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143000" y="4191120"/>
              <a:ext cx="380880" cy="457200"/>
              <a:chOff x="1143000" y="4191120"/>
              <a:chExt cx="380880" cy="457200"/>
            </a:xfrm>
          </p:grpSpPr>
          <p:sp>
            <p:nvSpPr>
              <p:cNvPr id="181" name=""/>
              <p:cNvSpPr/>
              <p:nvPr/>
            </p:nvSpPr>
            <p:spPr>
              <a:xfrm>
                <a:off x="1143000" y="419112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143000" y="419112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85800" y="419112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800" y="4191120"/>
              <a:ext cx="2057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464832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510552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548640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" y="594360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" y="6400800"/>
              <a:ext cx="2057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4191120"/>
              <a:ext cx="144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4191120"/>
              <a:ext cx="144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23880" y="4191120"/>
              <a:ext cx="180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5120" y="4191120"/>
              <a:ext cx="144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5105520"/>
              <a:ext cx="14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3200" y="4191120"/>
              <a:ext cx="14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3200" y="5486400"/>
              <a:ext cx="144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357800" y="33386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4267080"/>
                <a:ext cx="8380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⊕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57200" y="3505320"/>
            <a:ext cx="2514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IZÁRÓ VA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809880" y="4191120"/>
            <a:ext cx="2059200" cy="2211120"/>
            <a:chOff x="3809880" y="4191120"/>
            <a:chExt cx="2059200" cy="2211120"/>
          </a:xfrm>
        </p:grpSpPr>
        <p:grpSp>
          <p:nvGrpSpPr>
            <p:cNvPr id="201" name=""/>
            <p:cNvGrpSpPr/>
            <p:nvPr/>
          </p:nvGrpSpPr>
          <p:grpSpPr>
            <a:xfrm>
              <a:off x="5029200" y="5943600"/>
              <a:ext cx="838080" cy="457200"/>
              <a:chOff x="5029200" y="5943600"/>
              <a:chExt cx="838080" cy="457200"/>
            </a:xfrm>
          </p:grpSpPr>
          <p:sp>
            <p:nvSpPr>
              <p:cNvPr id="202" name=""/>
              <p:cNvSpPr/>
              <p:nvPr/>
            </p:nvSpPr>
            <p:spPr>
              <a:xfrm>
                <a:off x="5029200" y="5943600"/>
                <a:ext cx="83808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29200" y="594360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4648320" y="5943600"/>
              <a:ext cx="380880" cy="457200"/>
              <a:chOff x="4648320" y="5943600"/>
              <a:chExt cx="380880" cy="457200"/>
            </a:xfrm>
          </p:grpSpPr>
          <p:sp>
            <p:nvSpPr>
              <p:cNvPr id="205" name=""/>
              <p:cNvSpPr/>
              <p:nvPr/>
            </p:nvSpPr>
            <p:spPr>
              <a:xfrm>
                <a:off x="4648320" y="594360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648320" y="594360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267080" y="5943600"/>
              <a:ext cx="381240" cy="457200"/>
              <a:chOff x="4267080" y="5943600"/>
              <a:chExt cx="381240" cy="457200"/>
            </a:xfrm>
          </p:grpSpPr>
          <p:sp>
            <p:nvSpPr>
              <p:cNvPr id="208" name=""/>
              <p:cNvSpPr/>
              <p:nvPr/>
            </p:nvSpPr>
            <p:spPr>
              <a:xfrm>
                <a:off x="4267080" y="594360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267080" y="594360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3809880" y="5943600"/>
              <a:ext cx="457200" cy="457200"/>
              <a:chOff x="3809880" y="5943600"/>
              <a:chExt cx="45720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3809880" y="5943600"/>
                <a:ext cx="4572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09880" y="594360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5029200" y="5486400"/>
              <a:ext cx="838080" cy="457200"/>
              <a:chOff x="5029200" y="5486400"/>
              <a:chExt cx="838080" cy="457200"/>
            </a:xfrm>
          </p:grpSpPr>
          <p:sp>
            <p:nvSpPr>
              <p:cNvPr id="214" name=""/>
              <p:cNvSpPr/>
              <p:nvPr/>
            </p:nvSpPr>
            <p:spPr>
              <a:xfrm>
                <a:off x="5029200" y="5486400"/>
                <a:ext cx="83808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29200" y="548640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648320" y="5486400"/>
              <a:ext cx="380880" cy="457200"/>
              <a:chOff x="4648320" y="5486400"/>
              <a:chExt cx="38088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648320" y="548640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48320" y="548640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267080" y="5486400"/>
              <a:ext cx="381240" cy="457200"/>
              <a:chOff x="4267080" y="5486400"/>
              <a:chExt cx="381240" cy="457200"/>
            </a:xfrm>
          </p:grpSpPr>
          <p:sp>
            <p:nvSpPr>
              <p:cNvPr id="220" name=""/>
              <p:cNvSpPr/>
              <p:nvPr/>
            </p:nvSpPr>
            <p:spPr>
              <a:xfrm>
                <a:off x="4267080" y="548640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7080" y="548640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809880" y="5486400"/>
              <a:ext cx="457200" cy="457200"/>
              <a:chOff x="3809880" y="5486400"/>
              <a:chExt cx="457200" cy="457200"/>
            </a:xfrm>
          </p:grpSpPr>
          <p:sp>
            <p:nvSpPr>
              <p:cNvPr id="223" name=""/>
              <p:cNvSpPr/>
              <p:nvPr/>
            </p:nvSpPr>
            <p:spPr>
              <a:xfrm>
                <a:off x="3809880" y="5486400"/>
                <a:ext cx="4572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09880" y="548640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29200" y="5105520"/>
              <a:ext cx="838080" cy="380880"/>
              <a:chOff x="5029200" y="5105520"/>
              <a:chExt cx="838080" cy="380880"/>
            </a:xfrm>
          </p:grpSpPr>
          <p:sp>
            <p:nvSpPr>
              <p:cNvPr id="226" name=""/>
              <p:cNvSpPr/>
              <p:nvPr/>
            </p:nvSpPr>
            <p:spPr>
              <a:xfrm>
                <a:off x="5029200" y="5105520"/>
                <a:ext cx="83808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10552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648320" y="5105520"/>
              <a:ext cx="380880" cy="380880"/>
              <a:chOff x="4648320" y="5105520"/>
              <a:chExt cx="380880" cy="380880"/>
            </a:xfrm>
          </p:grpSpPr>
          <p:sp>
            <p:nvSpPr>
              <p:cNvPr id="229" name=""/>
              <p:cNvSpPr/>
              <p:nvPr/>
            </p:nvSpPr>
            <p:spPr>
              <a:xfrm>
                <a:off x="4648320" y="5105520"/>
                <a:ext cx="38088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48320" y="510552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4267080" y="5105520"/>
              <a:ext cx="381240" cy="380880"/>
              <a:chOff x="4267080" y="5105520"/>
              <a:chExt cx="381240" cy="380880"/>
            </a:xfrm>
          </p:grpSpPr>
          <p:sp>
            <p:nvSpPr>
              <p:cNvPr id="232" name=""/>
              <p:cNvSpPr/>
              <p:nvPr/>
            </p:nvSpPr>
            <p:spPr>
              <a:xfrm>
                <a:off x="4267080" y="5105520"/>
                <a:ext cx="38124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267080" y="510552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809880" y="5105520"/>
              <a:ext cx="457200" cy="380880"/>
              <a:chOff x="3809880" y="5105520"/>
              <a:chExt cx="457200" cy="380880"/>
            </a:xfrm>
          </p:grpSpPr>
          <p:sp>
            <p:nvSpPr>
              <p:cNvPr id="235" name=""/>
              <p:cNvSpPr/>
              <p:nvPr/>
            </p:nvSpPr>
            <p:spPr>
              <a:xfrm>
                <a:off x="3809880" y="5105520"/>
                <a:ext cx="457200" cy="380880"/>
              </a:xfrm>
              <a:prstGeom prst="roundRect">
                <a:avLst>
                  <a:gd name="adj" fmla="val 41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809880" y="510552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5029200" y="4648320"/>
              <a:ext cx="838080" cy="457200"/>
              <a:chOff x="5029200" y="4648320"/>
              <a:chExt cx="838080" cy="457200"/>
            </a:xfrm>
          </p:grpSpPr>
          <p:sp>
            <p:nvSpPr>
              <p:cNvPr id="238" name=""/>
              <p:cNvSpPr/>
              <p:nvPr/>
            </p:nvSpPr>
            <p:spPr>
              <a:xfrm>
                <a:off x="5029200" y="4648320"/>
                <a:ext cx="83808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029200" y="464832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648320" y="4648320"/>
              <a:ext cx="380880" cy="457200"/>
              <a:chOff x="4648320" y="4648320"/>
              <a:chExt cx="380880" cy="457200"/>
            </a:xfrm>
          </p:grpSpPr>
          <p:sp>
            <p:nvSpPr>
              <p:cNvPr id="241" name=""/>
              <p:cNvSpPr/>
              <p:nvPr/>
            </p:nvSpPr>
            <p:spPr>
              <a:xfrm>
                <a:off x="4648320" y="464832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48320" y="464832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4267080" y="4648320"/>
              <a:ext cx="381240" cy="457200"/>
              <a:chOff x="4267080" y="4648320"/>
              <a:chExt cx="381240" cy="457200"/>
            </a:xfrm>
          </p:grpSpPr>
          <p:sp>
            <p:nvSpPr>
              <p:cNvPr id="244" name=""/>
              <p:cNvSpPr/>
              <p:nvPr/>
            </p:nvSpPr>
            <p:spPr>
              <a:xfrm>
                <a:off x="4267080" y="464832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267080" y="464832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3809880" y="4648320"/>
              <a:ext cx="457200" cy="457200"/>
              <a:chOff x="3809880" y="4648320"/>
              <a:chExt cx="457200" cy="457200"/>
            </a:xfrm>
          </p:grpSpPr>
          <p:sp>
            <p:nvSpPr>
              <p:cNvPr id="247" name=""/>
              <p:cNvSpPr/>
              <p:nvPr/>
            </p:nvSpPr>
            <p:spPr>
              <a:xfrm>
                <a:off x="3809880" y="4648320"/>
                <a:ext cx="45720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09880" y="4648320"/>
                <a:ext cx="457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5029200" y="4191120"/>
              <a:ext cx="838080" cy="457200"/>
              <a:chOff x="5029200" y="4191120"/>
              <a:chExt cx="838080" cy="457200"/>
            </a:xfrm>
          </p:grpSpPr>
          <p:sp>
            <p:nvSpPr>
              <p:cNvPr id="250" name=""/>
              <p:cNvSpPr/>
              <p:nvPr/>
            </p:nvSpPr>
            <p:spPr>
              <a:xfrm>
                <a:off x="5029200" y="4191120"/>
                <a:ext cx="838080" cy="457200"/>
              </a:xfrm>
              <a:prstGeom prst="roundRect">
                <a:avLst>
                  <a:gd name="adj" fmla="val 347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029200" y="4191120"/>
                <a:ext cx="8380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648320" y="4191120"/>
              <a:ext cx="380880" cy="457200"/>
              <a:chOff x="4648320" y="4191120"/>
              <a:chExt cx="380880" cy="457200"/>
            </a:xfrm>
          </p:grpSpPr>
          <p:sp>
            <p:nvSpPr>
              <p:cNvPr id="253" name=""/>
              <p:cNvSpPr/>
              <p:nvPr/>
            </p:nvSpPr>
            <p:spPr>
              <a:xfrm>
                <a:off x="4648320" y="4191120"/>
                <a:ext cx="380880" cy="457200"/>
              </a:xfrm>
              <a:custGeom>
                <a:avLst/>
                <a:gdLst>
                  <a:gd name="textAreaLeft" fmla="*/ 360 w 380880"/>
                  <a:gd name="textAreaRight" fmla="*/ 380520 w 38088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24">
                    <a:moveTo>
                      <a:pt x="90" y="0"/>
                    </a:moveTo>
                    <a:arcTo wR="90" hR="90" stAng="16200000" swAng="-5400000"/>
                    <a:lnTo>
                      <a:pt x="0" y="25834"/>
                    </a:lnTo>
                    <a:arcTo wR="90" hR="90" stAng="10800000" swAng="-5400000"/>
                    <a:lnTo>
                      <a:pt x="21510" y="25924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48320" y="4191120"/>
                <a:ext cx="3808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267080" y="4191120"/>
              <a:ext cx="381240" cy="457200"/>
              <a:chOff x="4267080" y="4191120"/>
              <a:chExt cx="381240" cy="457200"/>
            </a:xfrm>
          </p:grpSpPr>
          <p:sp>
            <p:nvSpPr>
              <p:cNvPr id="256" name=""/>
              <p:cNvSpPr/>
              <p:nvPr/>
            </p:nvSpPr>
            <p:spPr>
              <a:xfrm>
                <a:off x="4267080" y="4191120"/>
                <a:ext cx="381240" cy="457200"/>
              </a:xfrm>
              <a:custGeom>
                <a:avLst/>
                <a:gdLst>
                  <a:gd name="textAreaLeft" fmla="*/ 360 w 381240"/>
                  <a:gd name="textAreaRight" fmla="*/ 380880 w 381240"/>
                  <a:gd name="textAreaTop" fmla="*/ 360 h 457200"/>
                  <a:gd name="textAreaBottom" fmla="*/ 456840 h 457200"/>
                </a:gdLst>
                <a:ahLst/>
                <a:rect l="textAreaLeft" t="textAreaTop" r="textAreaRight" b="textAreaBottom"/>
                <a:pathLst>
                  <a:path w="21600" h="25900">
                    <a:moveTo>
                      <a:pt x="90" y="0"/>
                    </a:moveTo>
                    <a:arcTo wR="90" hR="90" stAng="16200000" swAng="-5400000"/>
                    <a:lnTo>
                      <a:pt x="0" y="25810"/>
                    </a:lnTo>
                    <a:arcTo wR="90" hR="90" stAng="10800000" swAng="-5400000"/>
                    <a:lnTo>
                      <a:pt x="21510" y="25900"/>
                    </a:lnTo>
                    <a:arcTo wR="90" hR="90" stAng="5400000" swAng="-5400000"/>
                    <a:lnTo>
                      <a:pt x="21600" y="90"/>
                    </a:lnTo>
                    <a:arcTo wR="90" hR="90" stAng="0" swAng="-5400000"/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267080" y="4191120"/>
                <a:ext cx="3812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809880" y="419112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9880" y="4191120"/>
              <a:ext cx="2057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09880" y="464832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09880" y="510552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548640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9880" y="5943600"/>
              <a:ext cx="2057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9880" y="6400800"/>
              <a:ext cx="20574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9880" y="4191120"/>
              <a:ext cx="1800" cy="22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4191120"/>
              <a:ext cx="180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48320" y="4191120"/>
              <a:ext cx="144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29200" y="4191120"/>
              <a:ext cx="1440" cy="220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67280" y="5105520"/>
              <a:ext cx="1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67280" y="4191120"/>
              <a:ext cx="1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67280" y="5486400"/>
              <a:ext cx="18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48320" y="3505320"/>
            <a:ext cx="761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1 BITES ÖSSZEADÓ</a:t>
            </a:r>
            <a:r>
              <a:rPr b="1" lang="en-GB" sz="5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7800" y="33386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581280" cy="130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971800" y="2514600"/>
                <a:ext cx="393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038480" y="2590920"/>
                <a:ext cx="362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952880" y="2514600"/>
                <a:ext cx="609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6095880" y="2590920"/>
                <a:ext cx="324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7086600" y="2590920"/>
                <a:ext cx="36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1" name=""/>
          <p:cNvGrpSpPr/>
          <p:nvPr/>
        </p:nvGrpSpPr>
        <p:grpSpPr>
          <a:xfrm>
            <a:off x="1676520" y="2590920"/>
            <a:ext cx="6097320" cy="3979800"/>
            <a:chOff x="1676520" y="2590920"/>
            <a:chExt cx="6097320" cy="3979800"/>
          </a:xfrm>
        </p:grpSpPr>
        <p:grpSp>
          <p:nvGrpSpPr>
            <p:cNvPr id="282" name=""/>
            <p:cNvGrpSpPr/>
            <p:nvPr/>
          </p:nvGrpSpPr>
          <p:grpSpPr>
            <a:xfrm>
              <a:off x="6756480" y="6118200"/>
              <a:ext cx="1015920" cy="450720"/>
              <a:chOff x="6756480" y="6118200"/>
              <a:chExt cx="1015920" cy="450720"/>
            </a:xfrm>
          </p:grpSpPr>
          <p:sp>
            <p:nvSpPr>
              <p:cNvPr id="283" name=""/>
              <p:cNvSpPr/>
              <p:nvPr/>
            </p:nvSpPr>
            <p:spPr>
              <a:xfrm>
                <a:off x="6756480" y="611820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756480" y="6118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740560" y="6118200"/>
              <a:ext cx="1015920" cy="450720"/>
              <a:chOff x="5740560" y="6118200"/>
              <a:chExt cx="1015920" cy="450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40560" y="611820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40560" y="6118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724280" y="6118200"/>
              <a:ext cx="1016280" cy="450720"/>
              <a:chOff x="4724280" y="6118200"/>
              <a:chExt cx="1016280" cy="450720"/>
            </a:xfrm>
          </p:grpSpPr>
          <p:sp>
            <p:nvSpPr>
              <p:cNvPr id="289" name=""/>
              <p:cNvSpPr/>
              <p:nvPr/>
            </p:nvSpPr>
            <p:spPr>
              <a:xfrm>
                <a:off x="4724280" y="6118200"/>
                <a:ext cx="101628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4280" y="611820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3708360" y="6118200"/>
              <a:ext cx="1015920" cy="450720"/>
              <a:chOff x="3708360" y="6118200"/>
              <a:chExt cx="1015920" cy="450720"/>
            </a:xfrm>
          </p:grpSpPr>
          <p:sp>
            <p:nvSpPr>
              <p:cNvPr id="292" name=""/>
              <p:cNvSpPr/>
              <p:nvPr/>
            </p:nvSpPr>
            <p:spPr>
              <a:xfrm>
                <a:off x="3708360" y="611820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08360" y="6118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92440" y="6118200"/>
              <a:ext cx="1015920" cy="450720"/>
              <a:chOff x="2692440" y="6118200"/>
              <a:chExt cx="1015920" cy="450720"/>
            </a:xfrm>
          </p:grpSpPr>
          <p:sp>
            <p:nvSpPr>
              <p:cNvPr id="295" name=""/>
              <p:cNvSpPr/>
              <p:nvPr/>
            </p:nvSpPr>
            <p:spPr>
              <a:xfrm>
                <a:off x="2692440" y="611820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692440" y="6118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676520" y="6118200"/>
              <a:ext cx="1015920" cy="450720"/>
              <a:chOff x="1676520" y="6118200"/>
              <a:chExt cx="1015920" cy="450720"/>
            </a:xfrm>
          </p:grpSpPr>
          <p:sp>
            <p:nvSpPr>
              <p:cNvPr id="298" name=""/>
              <p:cNvSpPr/>
              <p:nvPr/>
            </p:nvSpPr>
            <p:spPr>
              <a:xfrm>
                <a:off x="1676520" y="611820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76520" y="6118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7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756480" y="5665680"/>
              <a:ext cx="1015920" cy="452520"/>
              <a:chOff x="6756480" y="5665680"/>
              <a:chExt cx="1015920" cy="452520"/>
            </a:xfrm>
          </p:grpSpPr>
          <p:sp>
            <p:nvSpPr>
              <p:cNvPr id="301" name=""/>
              <p:cNvSpPr/>
              <p:nvPr/>
            </p:nvSpPr>
            <p:spPr>
              <a:xfrm>
                <a:off x="6756480" y="566568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56480" y="56656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740560" y="5665680"/>
              <a:ext cx="1015920" cy="452520"/>
              <a:chOff x="5740560" y="5665680"/>
              <a:chExt cx="1015920" cy="452520"/>
            </a:xfrm>
          </p:grpSpPr>
          <p:sp>
            <p:nvSpPr>
              <p:cNvPr id="304" name=""/>
              <p:cNvSpPr/>
              <p:nvPr/>
            </p:nvSpPr>
            <p:spPr>
              <a:xfrm>
                <a:off x="5740560" y="566568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40560" y="56656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724280" y="5665680"/>
              <a:ext cx="1016280" cy="452520"/>
              <a:chOff x="4724280" y="5665680"/>
              <a:chExt cx="1016280" cy="452520"/>
            </a:xfrm>
          </p:grpSpPr>
          <p:sp>
            <p:nvSpPr>
              <p:cNvPr id="307" name=""/>
              <p:cNvSpPr/>
              <p:nvPr/>
            </p:nvSpPr>
            <p:spPr>
              <a:xfrm>
                <a:off x="4724280" y="5665680"/>
                <a:ext cx="101628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24280" y="566568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708360" y="5665680"/>
              <a:ext cx="1015920" cy="452520"/>
              <a:chOff x="3708360" y="5665680"/>
              <a:chExt cx="1015920" cy="452520"/>
            </a:xfrm>
          </p:grpSpPr>
          <p:sp>
            <p:nvSpPr>
              <p:cNvPr id="310" name=""/>
              <p:cNvSpPr/>
              <p:nvPr/>
            </p:nvSpPr>
            <p:spPr>
              <a:xfrm>
                <a:off x="3708360" y="566568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08360" y="56656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692440" y="5665680"/>
              <a:ext cx="1015920" cy="452520"/>
              <a:chOff x="2692440" y="5665680"/>
              <a:chExt cx="1015920" cy="45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692440" y="566568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692440" y="56656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1676520" y="5665680"/>
              <a:ext cx="1015920" cy="452520"/>
              <a:chOff x="1676520" y="5665680"/>
              <a:chExt cx="1015920" cy="452520"/>
            </a:xfrm>
          </p:grpSpPr>
          <p:sp>
            <p:nvSpPr>
              <p:cNvPr id="316" name=""/>
              <p:cNvSpPr/>
              <p:nvPr/>
            </p:nvSpPr>
            <p:spPr>
              <a:xfrm>
                <a:off x="1676520" y="566568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676520" y="56656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756480" y="5214960"/>
              <a:ext cx="1015920" cy="450720"/>
              <a:chOff x="6756480" y="5214960"/>
              <a:chExt cx="1015920" cy="450720"/>
            </a:xfrm>
          </p:grpSpPr>
          <p:sp>
            <p:nvSpPr>
              <p:cNvPr id="319" name=""/>
              <p:cNvSpPr/>
              <p:nvPr/>
            </p:nvSpPr>
            <p:spPr>
              <a:xfrm>
                <a:off x="6756480" y="521496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756480" y="5214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740560" y="5214960"/>
              <a:ext cx="1015920" cy="450720"/>
              <a:chOff x="5740560" y="5214960"/>
              <a:chExt cx="1015920" cy="450720"/>
            </a:xfrm>
          </p:grpSpPr>
          <p:sp>
            <p:nvSpPr>
              <p:cNvPr id="322" name=""/>
              <p:cNvSpPr/>
              <p:nvPr/>
            </p:nvSpPr>
            <p:spPr>
              <a:xfrm>
                <a:off x="5740560" y="521496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40560" y="5214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724280" y="5214960"/>
              <a:ext cx="1016280" cy="450720"/>
              <a:chOff x="4724280" y="5214960"/>
              <a:chExt cx="1016280" cy="45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4724280" y="5214960"/>
                <a:ext cx="101628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4280" y="521496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708360" y="5214960"/>
              <a:ext cx="1015920" cy="450720"/>
              <a:chOff x="3708360" y="5214960"/>
              <a:chExt cx="1015920" cy="450720"/>
            </a:xfrm>
          </p:grpSpPr>
          <p:sp>
            <p:nvSpPr>
              <p:cNvPr id="328" name=""/>
              <p:cNvSpPr/>
              <p:nvPr/>
            </p:nvSpPr>
            <p:spPr>
              <a:xfrm>
                <a:off x="3708360" y="521496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708360" y="5214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692440" y="5214960"/>
              <a:ext cx="1015920" cy="450720"/>
              <a:chOff x="2692440" y="5214960"/>
              <a:chExt cx="1015920" cy="450720"/>
            </a:xfrm>
          </p:grpSpPr>
          <p:sp>
            <p:nvSpPr>
              <p:cNvPr id="331" name=""/>
              <p:cNvSpPr/>
              <p:nvPr/>
            </p:nvSpPr>
            <p:spPr>
              <a:xfrm>
                <a:off x="2692440" y="521496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692440" y="5214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1676520" y="5214960"/>
              <a:ext cx="1015920" cy="450720"/>
              <a:chOff x="1676520" y="5214960"/>
              <a:chExt cx="1015920" cy="450720"/>
            </a:xfrm>
          </p:grpSpPr>
          <p:sp>
            <p:nvSpPr>
              <p:cNvPr id="334" name=""/>
              <p:cNvSpPr/>
              <p:nvPr/>
            </p:nvSpPr>
            <p:spPr>
              <a:xfrm>
                <a:off x="1676520" y="521496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676520" y="5214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756480" y="4762440"/>
              <a:ext cx="1015920" cy="452520"/>
              <a:chOff x="6756480" y="4762440"/>
              <a:chExt cx="1015920" cy="452520"/>
            </a:xfrm>
          </p:grpSpPr>
          <p:sp>
            <p:nvSpPr>
              <p:cNvPr id="337" name=""/>
              <p:cNvSpPr/>
              <p:nvPr/>
            </p:nvSpPr>
            <p:spPr>
              <a:xfrm>
                <a:off x="6756480" y="476244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56480" y="476244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740560" y="4762440"/>
              <a:ext cx="1015920" cy="452520"/>
              <a:chOff x="5740560" y="4762440"/>
              <a:chExt cx="1015920" cy="452520"/>
            </a:xfrm>
          </p:grpSpPr>
          <p:sp>
            <p:nvSpPr>
              <p:cNvPr id="340" name=""/>
              <p:cNvSpPr/>
              <p:nvPr/>
            </p:nvSpPr>
            <p:spPr>
              <a:xfrm>
                <a:off x="5740560" y="476244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740560" y="476244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724280" y="4762440"/>
              <a:ext cx="1016280" cy="452520"/>
              <a:chOff x="4724280" y="4762440"/>
              <a:chExt cx="1016280" cy="452520"/>
            </a:xfrm>
          </p:grpSpPr>
          <p:sp>
            <p:nvSpPr>
              <p:cNvPr id="343" name=""/>
              <p:cNvSpPr/>
              <p:nvPr/>
            </p:nvSpPr>
            <p:spPr>
              <a:xfrm>
                <a:off x="4724280" y="4762440"/>
                <a:ext cx="101628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24280" y="476244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708360" y="4762440"/>
              <a:ext cx="1015920" cy="452520"/>
              <a:chOff x="3708360" y="4762440"/>
              <a:chExt cx="1015920" cy="452520"/>
            </a:xfrm>
          </p:grpSpPr>
          <p:sp>
            <p:nvSpPr>
              <p:cNvPr id="346" name=""/>
              <p:cNvSpPr/>
              <p:nvPr/>
            </p:nvSpPr>
            <p:spPr>
              <a:xfrm>
                <a:off x="3708360" y="476244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08360" y="476244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692440" y="4762440"/>
              <a:ext cx="1015920" cy="452520"/>
              <a:chOff x="2692440" y="4762440"/>
              <a:chExt cx="1015920" cy="45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2692440" y="476244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692440" y="476244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676520" y="4762440"/>
              <a:ext cx="1015920" cy="452520"/>
              <a:chOff x="1676520" y="4762440"/>
              <a:chExt cx="1015920" cy="452520"/>
            </a:xfrm>
          </p:grpSpPr>
          <p:sp>
            <p:nvSpPr>
              <p:cNvPr id="352" name=""/>
              <p:cNvSpPr/>
              <p:nvPr/>
            </p:nvSpPr>
            <p:spPr>
              <a:xfrm>
                <a:off x="1676520" y="476244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76520" y="476244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756480" y="4311720"/>
              <a:ext cx="1015920" cy="450720"/>
              <a:chOff x="6756480" y="4311720"/>
              <a:chExt cx="1015920" cy="450720"/>
            </a:xfrm>
          </p:grpSpPr>
          <p:sp>
            <p:nvSpPr>
              <p:cNvPr id="355" name=""/>
              <p:cNvSpPr/>
              <p:nvPr/>
            </p:nvSpPr>
            <p:spPr>
              <a:xfrm>
                <a:off x="6756480" y="431172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56480" y="431172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5740560" y="4311720"/>
              <a:ext cx="1015920" cy="450720"/>
              <a:chOff x="5740560" y="4311720"/>
              <a:chExt cx="1015920" cy="450720"/>
            </a:xfrm>
          </p:grpSpPr>
          <p:sp>
            <p:nvSpPr>
              <p:cNvPr id="358" name=""/>
              <p:cNvSpPr/>
              <p:nvPr/>
            </p:nvSpPr>
            <p:spPr>
              <a:xfrm>
                <a:off x="5740560" y="431172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40560" y="431172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724280" y="4311720"/>
              <a:ext cx="1016280" cy="450720"/>
              <a:chOff x="4724280" y="4311720"/>
              <a:chExt cx="1016280" cy="450720"/>
            </a:xfrm>
          </p:grpSpPr>
          <p:sp>
            <p:nvSpPr>
              <p:cNvPr id="361" name=""/>
              <p:cNvSpPr/>
              <p:nvPr/>
            </p:nvSpPr>
            <p:spPr>
              <a:xfrm>
                <a:off x="4724280" y="4311720"/>
                <a:ext cx="101628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724280" y="431172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708360" y="4311720"/>
              <a:ext cx="1015920" cy="450720"/>
              <a:chOff x="3708360" y="4311720"/>
              <a:chExt cx="1015920" cy="450720"/>
            </a:xfrm>
          </p:grpSpPr>
          <p:sp>
            <p:nvSpPr>
              <p:cNvPr id="364" name=""/>
              <p:cNvSpPr/>
              <p:nvPr/>
            </p:nvSpPr>
            <p:spPr>
              <a:xfrm>
                <a:off x="3708360" y="431172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08360" y="431172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692440" y="4311720"/>
              <a:ext cx="1015920" cy="450720"/>
              <a:chOff x="2692440" y="4311720"/>
              <a:chExt cx="1015920" cy="450720"/>
            </a:xfrm>
          </p:grpSpPr>
          <p:sp>
            <p:nvSpPr>
              <p:cNvPr id="367" name=""/>
              <p:cNvSpPr/>
              <p:nvPr/>
            </p:nvSpPr>
            <p:spPr>
              <a:xfrm>
                <a:off x="2692440" y="431172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92440" y="431172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1676520" y="4311720"/>
              <a:ext cx="1015920" cy="450720"/>
              <a:chOff x="1676520" y="4311720"/>
              <a:chExt cx="1015920" cy="450720"/>
            </a:xfrm>
          </p:grpSpPr>
          <p:sp>
            <p:nvSpPr>
              <p:cNvPr id="370" name=""/>
              <p:cNvSpPr/>
              <p:nvPr/>
            </p:nvSpPr>
            <p:spPr>
              <a:xfrm>
                <a:off x="1676520" y="431172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676520" y="431172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6756480" y="3859200"/>
              <a:ext cx="1015920" cy="452520"/>
              <a:chOff x="6756480" y="3859200"/>
              <a:chExt cx="1015920" cy="452520"/>
            </a:xfrm>
          </p:grpSpPr>
          <p:sp>
            <p:nvSpPr>
              <p:cNvPr id="373" name=""/>
              <p:cNvSpPr/>
              <p:nvPr/>
            </p:nvSpPr>
            <p:spPr>
              <a:xfrm>
                <a:off x="6756480" y="385920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56480" y="3859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740560" y="3859200"/>
              <a:ext cx="1015920" cy="452520"/>
              <a:chOff x="5740560" y="3859200"/>
              <a:chExt cx="1015920" cy="452520"/>
            </a:xfrm>
          </p:grpSpPr>
          <p:sp>
            <p:nvSpPr>
              <p:cNvPr id="376" name=""/>
              <p:cNvSpPr/>
              <p:nvPr/>
            </p:nvSpPr>
            <p:spPr>
              <a:xfrm>
                <a:off x="5740560" y="385920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40560" y="3859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724280" y="3859200"/>
              <a:ext cx="1016280" cy="452520"/>
              <a:chOff x="4724280" y="3859200"/>
              <a:chExt cx="1016280" cy="452520"/>
            </a:xfrm>
          </p:grpSpPr>
          <p:sp>
            <p:nvSpPr>
              <p:cNvPr id="379" name=""/>
              <p:cNvSpPr/>
              <p:nvPr/>
            </p:nvSpPr>
            <p:spPr>
              <a:xfrm>
                <a:off x="4724280" y="3859200"/>
                <a:ext cx="101628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724280" y="385920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708360" y="3859200"/>
              <a:ext cx="1015920" cy="452520"/>
              <a:chOff x="3708360" y="3859200"/>
              <a:chExt cx="1015920" cy="452520"/>
            </a:xfrm>
          </p:grpSpPr>
          <p:sp>
            <p:nvSpPr>
              <p:cNvPr id="382" name=""/>
              <p:cNvSpPr/>
              <p:nvPr/>
            </p:nvSpPr>
            <p:spPr>
              <a:xfrm>
                <a:off x="3708360" y="385920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08360" y="3859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692440" y="3859200"/>
              <a:ext cx="1015920" cy="452520"/>
              <a:chOff x="2692440" y="3859200"/>
              <a:chExt cx="1015920" cy="452520"/>
            </a:xfrm>
          </p:grpSpPr>
          <p:sp>
            <p:nvSpPr>
              <p:cNvPr id="385" name=""/>
              <p:cNvSpPr/>
              <p:nvPr/>
            </p:nvSpPr>
            <p:spPr>
              <a:xfrm>
                <a:off x="2692440" y="385920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92440" y="3859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1676520" y="3859200"/>
              <a:ext cx="1015920" cy="452520"/>
              <a:chOff x="1676520" y="3859200"/>
              <a:chExt cx="1015920" cy="452520"/>
            </a:xfrm>
          </p:grpSpPr>
          <p:sp>
            <p:nvSpPr>
              <p:cNvPr id="388" name=""/>
              <p:cNvSpPr/>
              <p:nvPr/>
            </p:nvSpPr>
            <p:spPr>
              <a:xfrm>
                <a:off x="1676520" y="385920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676520" y="385920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6756480" y="3408480"/>
              <a:ext cx="1015920" cy="450720"/>
              <a:chOff x="6756480" y="3408480"/>
              <a:chExt cx="1015920" cy="450720"/>
            </a:xfrm>
          </p:grpSpPr>
          <p:sp>
            <p:nvSpPr>
              <p:cNvPr id="391" name=""/>
              <p:cNvSpPr/>
              <p:nvPr/>
            </p:nvSpPr>
            <p:spPr>
              <a:xfrm>
                <a:off x="6756480" y="340848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56480" y="34084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5740560" y="3408480"/>
              <a:ext cx="1015920" cy="450720"/>
              <a:chOff x="5740560" y="3408480"/>
              <a:chExt cx="1015920" cy="450720"/>
            </a:xfrm>
          </p:grpSpPr>
          <p:sp>
            <p:nvSpPr>
              <p:cNvPr id="394" name=""/>
              <p:cNvSpPr/>
              <p:nvPr/>
            </p:nvSpPr>
            <p:spPr>
              <a:xfrm>
                <a:off x="5740560" y="340848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40560" y="34084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724280" y="3408480"/>
              <a:ext cx="1016280" cy="450720"/>
              <a:chOff x="4724280" y="3408480"/>
              <a:chExt cx="1016280" cy="450720"/>
            </a:xfrm>
          </p:grpSpPr>
          <p:sp>
            <p:nvSpPr>
              <p:cNvPr id="397" name=""/>
              <p:cNvSpPr/>
              <p:nvPr/>
            </p:nvSpPr>
            <p:spPr>
              <a:xfrm>
                <a:off x="4724280" y="3408480"/>
                <a:ext cx="101628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724280" y="340848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708360" y="3408480"/>
              <a:ext cx="1015920" cy="450720"/>
              <a:chOff x="3708360" y="3408480"/>
              <a:chExt cx="1015920" cy="450720"/>
            </a:xfrm>
          </p:grpSpPr>
          <p:sp>
            <p:nvSpPr>
              <p:cNvPr id="400" name=""/>
              <p:cNvSpPr/>
              <p:nvPr/>
            </p:nvSpPr>
            <p:spPr>
              <a:xfrm>
                <a:off x="3708360" y="340848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08360" y="34084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692440" y="3408480"/>
              <a:ext cx="1015920" cy="450720"/>
              <a:chOff x="2692440" y="3408480"/>
              <a:chExt cx="1015920" cy="450720"/>
            </a:xfrm>
          </p:grpSpPr>
          <p:sp>
            <p:nvSpPr>
              <p:cNvPr id="403" name=""/>
              <p:cNvSpPr/>
              <p:nvPr/>
            </p:nvSpPr>
            <p:spPr>
              <a:xfrm>
                <a:off x="2692440" y="340848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692440" y="34084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1676520" y="3408480"/>
              <a:ext cx="1015920" cy="450720"/>
              <a:chOff x="1676520" y="3408480"/>
              <a:chExt cx="1015920" cy="450720"/>
            </a:xfrm>
          </p:grpSpPr>
          <p:sp>
            <p:nvSpPr>
              <p:cNvPr id="406" name=""/>
              <p:cNvSpPr/>
              <p:nvPr/>
            </p:nvSpPr>
            <p:spPr>
              <a:xfrm>
                <a:off x="1676520" y="3408480"/>
                <a:ext cx="1015920" cy="4507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676520" y="340848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756480" y="2955960"/>
              <a:ext cx="1015920" cy="452520"/>
              <a:chOff x="6756480" y="2955960"/>
              <a:chExt cx="1015920" cy="452520"/>
            </a:xfrm>
          </p:grpSpPr>
          <p:sp>
            <p:nvSpPr>
              <p:cNvPr id="409" name=""/>
              <p:cNvSpPr/>
              <p:nvPr/>
            </p:nvSpPr>
            <p:spPr>
              <a:xfrm>
                <a:off x="6756480" y="295596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756480" y="2955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740560" y="2955960"/>
              <a:ext cx="1015920" cy="452520"/>
              <a:chOff x="5740560" y="2955960"/>
              <a:chExt cx="1015920" cy="452520"/>
            </a:xfrm>
          </p:grpSpPr>
          <p:sp>
            <p:nvSpPr>
              <p:cNvPr id="412" name=""/>
              <p:cNvSpPr/>
              <p:nvPr/>
            </p:nvSpPr>
            <p:spPr>
              <a:xfrm>
                <a:off x="5740560" y="295596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40560" y="2955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724280" y="2955960"/>
              <a:ext cx="1016280" cy="452520"/>
              <a:chOff x="4724280" y="2955960"/>
              <a:chExt cx="1016280" cy="452520"/>
            </a:xfrm>
          </p:grpSpPr>
          <p:sp>
            <p:nvSpPr>
              <p:cNvPr id="415" name=""/>
              <p:cNvSpPr/>
              <p:nvPr/>
            </p:nvSpPr>
            <p:spPr>
              <a:xfrm>
                <a:off x="4724280" y="2955960"/>
                <a:ext cx="101628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724280" y="2955960"/>
                <a:ext cx="101628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3708360" y="2955960"/>
              <a:ext cx="1015920" cy="452520"/>
              <a:chOff x="3708360" y="2955960"/>
              <a:chExt cx="1015920" cy="452520"/>
            </a:xfrm>
          </p:grpSpPr>
          <p:sp>
            <p:nvSpPr>
              <p:cNvPr id="418" name=""/>
              <p:cNvSpPr/>
              <p:nvPr/>
            </p:nvSpPr>
            <p:spPr>
              <a:xfrm>
                <a:off x="3708360" y="295596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08360" y="2955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692440" y="2955960"/>
              <a:ext cx="1015920" cy="452520"/>
              <a:chOff x="2692440" y="2955960"/>
              <a:chExt cx="1015920" cy="452520"/>
            </a:xfrm>
          </p:grpSpPr>
          <p:sp>
            <p:nvSpPr>
              <p:cNvPr id="421" name=""/>
              <p:cNvSpPr/>
              <p:nvPr/>
            </p:nvSpPr>
            <p:spPr>
              <a:xfrm>
                <a:off x="2692440" y="295596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692440" y="2955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676520" y="2955960"/>
              <a:ext cx="1015920" cy="452520"/>
              <a:chOff x="1676520" y="2955960"/>
              <a:chExt cx="1015920" cy="452520"/>
            </a:xfrm>
          </p:grpSpPr>
          <p:sp>
            <p:nvSpPr>
              <p:cNvPr id="424" name=""/>
              <p:cNvSpPr/>
              <p:nvPr/>
            </p:nvSpPr>
            <p:spPr>
              <a:xfrm>
                <a:off x="1676520" y="2955960"/>
                <a:ext cx="1015920" cy="452520"/>
              </a:xfrm>
              <a:prstGeom prst="roundRect">
                <a:avLst>
                  <a:gd name="adj" fmla="val 352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76520" y="2955960"/>
                <a:ext cx="101592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451"/>
                  </a:spcBef>
                  <a:tabLst>
                    <a:tab algn="l" pos="0"/>
                    <a:tab algn="l" pos="569880"/>
                    <a:tab algn="l" pos="1484280"/>
                    <a:tab algn="l" pos="2398680"/>
                    <a:tab algn="l" pos="3313080"/>
                    <a:tab algn="l" pos="4227480"/>
                    <a:tab algn="l" pos="5141880"/>
                    <a:tab algn="l" pos="6056280"/>
                    <a:tab algn="l" pos="6970680"/>
                    <a:tab algn="l" pos="7885080"/>
                    <a:tab algn="l" pos="8799480"/>
                    <a:tab algn="l" pos="971388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imes New Roman"/>
                  </a:rPr>
                  <a:t>0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756480" y="2590920"/>
              <a:ext cx="101592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40560" y="2590920"/>
              <a:ext cx="101592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24280" y="2590920"/>
              <a:ext cx="101628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08360" y="2590920"/>
              <a:ext cx="101592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92440" y="2590920"/>
              <a:ext cx="101592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76520" y="2590920"/>
              <a:ext cx="1015920" cy="365040"/>
            </a:xfrm>
            <a:prstGeom prst="roundRect">
              <a:avLst>
                <a:gd name="adj" fmla="val 4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76520" y="295596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6520" y="340848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76520" y="385920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76520" y="431172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76520" y="4762440"/>
              <a:ext cx="6095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76520" y="521496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76520" y="5665680"/>
              <a:ext cx="6095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6520" y="6118200"/>
              <a:ext cx="6095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76520" y="6568920"/>
              <a:ext cx="60958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76520" y="2590920"/>
              <a:ext cx="1440" cy="39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92440" y="2590920"/>
              <a:ext cx="1440" cy="39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8360" y="2590920"/>
              <a:ext cx="1800" cy="39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24280" y="2590920"/>
              <a:ext cx="1800" cy="39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40560" y="2590920"/>
              <a:ext cx="1440" cy="39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56480" y="2590920"/>
              <a:ext cx="1440" cy="397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24280" y="2590920"/>
              <a:ext cx="10162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76520" y="2590920"/>
              <a:ext cx="30477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40560" y="2590920"/>
              <a:ext cx="20318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72400" y="2955960"/>
              <a:ext cx="1440" cy="45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2400" y="2590920"/>
              <a:ext cx="144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72400" y="3408480"/>
              <a:ext cx="1440" cy="316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91440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1 BITES ÖSSZEADÓ KAPCSOLÁSI RAJ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57800" y="33386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57560" y="2066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828880" cy="2724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938760" y="33148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3429000" y="685800"/>
                <a:ext cx="3657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⊕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3505320" y="33148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276720" y="1371600"/>
                <a:ext cx="563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3152880" cy="45720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0" y="4114800"/>
            <a:ext cx="4876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ÖBB BITES ÖSSZEADÓ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ÁRHUZAMOS VA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486400"/>
            <a:ext cx="205740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1440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INÁRIS KIVONÓ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57800" y="33386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157560" y="2066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38760" y="33148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505320" y="33148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33520"/>
            <a:ext cx="91440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TTES KOMPLEMENS ALKALMAS A POZITIV ÉS NEGATÍV SZÁMOK ÁBRÁZOLÁSÁ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371600"/>
            <a:ext cx="91440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NÁRIS SZÁ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GYES KOMLEMEN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 1KETTES KOMPL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133720"/>
            <a:ext cx="1523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81280" y="2743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90880" y="1538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2967120"/>
            <a:ext cx="5105520" cy="389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ijevics</dc:creator>
  <dc:description/>
  <dc:language>en-US</dc:language>
  <cp:lastModifiedBy>István MATIJEVICS</cp:lastModifiedBy>
  <cp:revision>0</cp:revision>
  <dc:subject/>
  <dc:title>PowerPoint Presentation</dc:title>
</cp:coreProperties>
</file>