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499680"/>
            <a:ext cx="7770960" cy="63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553080" y="6248520"/>
            <a:ext cx="1905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70CE-2E09-4278-B7FC-3C902B9B8F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447920" y="0"/>
            <a:ext cx="64767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ZÁMÍTÓGÉPEK CSOPORTOSÍTÁ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914400"/>
            <a:ext cx="52578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éhány csoportosítási szempont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523880"/>
            <a:ext cx="91440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űveleti sebessé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időegység alatt feldogozott műveletszám, MIPS (Millions of Instructions Per Second – hány millió utasítást hajt végre a gép egy másodpercp alatt), a MOPS (Millions of Operations Per Second – hány millió műveletet hajt végre a gép egy másodpercp alatt) és az MFLOPS (Millions of Floating Point Operations Per Second - hány millió lebegőpontos aritmetikai műveletet hajt végre a gép egy másodpercp alat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392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rajelfrekvencia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gép órajele szinkronizációs feladatok elvégzése mellett biztosítja a párhuzamosan végrehajtható műveletek egymásmellettiségét, de nem utolsó sorban korlátozza a számítógép legnagyobb működési sebességét. Jelenleg ez az adat néhány MHz frekvenciától a több GHz-ig terj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47920" y="0"/>
            <a:ext cx="64767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ZÁMÍTÓGÉPEK CSOPORTOSÍTÁ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33520"/>
            <a:ext cx="52578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éhány csoportosítási szempont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066680"/>
            <a:ext cx="9144000" cy="14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ógia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lyan tényező, amely az egyes egységek, de a teljes gép működési sebességét, megbízhatóságát, fogyasztását, méretét, tervezési, gyártási folyamatát, a használhatóság hőmérsékleti tartományát stb. megszabja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666880"/>
            <a:ext cx="91440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külső és a belső sinrendszer szélessége, felépítés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gyis a párhuzamos, egyidejűleg átvihető adatszélessé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505320"/>
            <a:ext cx="91440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asítások, műveletek időbeli átlapolhatóság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árhuzamosan a műveletek, vagy azok részei hogyan hajthatók végre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419720"/>
            <a:ext cx="91440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óhosszúsá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tasításvégrehajtáskor mekkora az a szóhosszúság, amit a gép egyszerre, párhuzamosan kezel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410080"/>
            <a:ext cx="9144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ória-sebesség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memória ciklusideje és a sinrendszer szélessége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791320"/>
            <a:ext cx="91440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fériák-sebesség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mely a perifériák működési sebességétől, valamint a perifériavezérlők kapacitásától füg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47920" y="0"/>
            <a:ext cx="64767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ZÁMÍTÓGÉPEK CSOPORTOSÍTÁSA sebességük és teljesítőképességük alapjá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057400"/>
            <a:ext cx="71629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gygépek (mainframe vagy super computer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429000"/>
            <a:ext cx="4495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özepes (mini) gépe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876920"/>
            <a:ext cx="57913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sgépek (mikroszámítógépek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447920" y="0"/>
            <a:ext cx="64767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ZÁMÍTÓGÉPEK CSOPORTOSÍTÁSA utasításfolyam és adatfolyam alapjá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600200"/>
            <a:ext cx="91440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D (Single Instruction Stream Single Data Stream): egy utasításfolyamhoz egy adatfolyam párosu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514600"/>
            <a:ext cx="91440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D (Single Instruction Stream Multiple Data Stream): egy utasításfolyam mellett több adatfoly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657600"/>
            <a:ext cx="91440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D (Multiple Instruction Stream Single Data Stream): teh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több utasításfolyam mellett egy adatfoly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876920"/>
            <a:ext cx="91440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MD (Multiple Instruction Stream Multiple Data Stream): több utasításfolyam és több adatfolya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