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99680"/>
            <a:ext cx="77709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553080" y="6248520"/>
            <a:ext cx="1905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0F8F-B41A-424E-804F-2CE31E84EC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Z ILP (Instruction Level Parallel) – UTASÍTÁSSZINTEN PÁRHUZAMOS MŰKÖDÉSŰ PROCESSZOROK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1371600"/>
            <a:ext cx="9144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UTASÍTÁSOK GYORSÍTÁSA PÁRHUZAMOSÍTÁSSAL,  A PIPEL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438280"/>
            <a:ext cx="48006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asítás lehívá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etch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asítás dekódolá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code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asítás végrehajtá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ecute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057400" y="4775040"/>
            <a:ext cx="6097680" cy="2084400"/>
            <a:chOff x="2057400" y="4775040"/>
            <a:chExt cx="6097680" cy="2084400"/>
          </a:xfrm>
        </p:grpSpPr>
        <p:grpSp>
          <p:nvGrpSpPr>
            <p:cNvPr id="44" name=""/>
            <p:cNvGrpSpPr/>
            <p:nvPr/>
          </p:nvGrpSpPr>
          <p:grpSpPr>
            <a:xfrm>
              <a:off x="7281720" y="6400800"/>
              <a:ext cx="871560" cy="457200"/>
              <a:chOff x="7281720" y="6400800"/>
              <a:chExt cx="871560" cy="457200"/>
            </a:xfrm>
          </p:grpSpPr>
          <p:sp>
            <p:nvSpPr>
              <p:cNvPr id="45" name=""/>
              <p:cNvSpPr/>
              <p:nvPr/>
            </p:nvSpPr>
            <p:spPr>
              <a:xfrm>
                <a:off x="7281720" y="6400800"/>
                <a:ext cx="871560" cy="457200"/>
              </a:xfrm>
              <a:prstGeom prst="roundRect">
                <a:avLst>
                  <a:gd name="adj" fmla="val 347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81720" y="6400800"/>
                <a:ext cx="8715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E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6411960" y="6400800"/>
              <a:ext cx="869760" cy="457200"/>
              <a:chOff x="6411960" y="6400800"/>
              <a:chExt cx="869760" cy="457200"/>
            </a:xfrm>
          </p:grpSpPr>
          <p:sp>
            <p:nvSpPr>
              <p:cNvPr id="48" name=""/>
              <p:cNvSpPr/>
              <p:nvPr/>
            </p:nvSpPr>
            <p:spPr>
              <a:xfrm>
                <a:off x="6411960" y="6400800"/>
                <a:ext cx="869760" cy="457200"/>
              </a:xfrm>
              <a:prstGeom prst="roundRect">
                <a:avLst>
                  <a:gd name="adj" fmla="val 347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411960" y="6400800"/>
                <a:ext cx="8697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5540400" y="6400800"/>
              <a:ext cx="871560" cy="457200"/>
              <a:chOff x="5540400" y="6400800"/>
              <a:chExt cx="871560" cy="457200"/>
            </a:xfrm>
          </p:grpSpPr>
          <p:sp>
            <p:nvSpPr>
              <p:cNvPr id="51" name=""/>
              <p:cNvSpPr/>
              <p:nvPr/>
            </p:nvSpPr>
            <p:spPr>
              <a:xfrm>
                <a:off x="5540400" y="6400800"/>
                <a:ext cx="871560" cy="457200"/>
              </a:xfrm>
              <a:prstGeom prst="roundRect">
                <a:avLst>
                  <a:gd name="adj" fmla="val 347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540400" y="6400800"/>
                <a:ext cx="8715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F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4670280" y="6400800"/>
              <a:ext cx="870120" cy="457200"/>
            </a:xfrm>
            <a:prstGeom prst="roundRect">
              <a:avLst>
                <a:gd name="adj" fmla="val 34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98720" y="6400800"/>
              <a:ext cx="871560" cy="457200"/>
            </a:xfrm>
            <a:prstGeom prst="roundRect">
              <a:avLst>
                <a:gd name="adj" fmla="val 34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28960" y="6400800"/>
              <a:ext cx="869760" cy="457200"/>
            </a:xfrm>
            <a:prstGeom prst="roundRect">
              <a:avLst>
                <a:gd name="adj" fmla="val 34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057400" y="6400800"/>
              <a:ext cx="871560" cy="457200"/>
              <a:chOff x="2057400" y="6400800"/>
              <a:chExt cx="871560" cy="457200"/>
            </a:xfrm>
          </p:grpSpPr>
          <p:sp>
            <p:nvSpPr>
              <p:cNvPr id="57" name=""/>
              <p:cNvSpPr/>
              <p:nvPr/>
            </p:nvSpPr>
            <p:spPr>
              <a:xfrm>
                <a:off x="2057400" y="6400800"/>
                <a:ext cx="871560" cy="457200"/>
              </a:xfrm>
              <a:prstGeom prst="roundRect">
                <a:avLst>
                  <a:gd name="adj" fmla="val 347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57400" y="6400800"/>
                <a:ext cx="8715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4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7281720" y="5943600"/>
              <a:ext cx="871560" cy="457200"/>
            </a:xfrm>
            <a:prstGeom prst="roundRect">
              <a:avLst>
                <a:gd name="adj" fmla="val 34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6411960" y="5943600"/>
              <a:ext cx="869760" cy="457200"/>
              <a:chOff x="6411960" y="5943600"/>
              <a:chExt cx="869760" cy="457200"/>
            </a:xfrm>
          </p:grpSpPr>
          <p:sp>
            <p:nvSpPr>
              <p:cNvPr id="61" name=""/>
              <p:cNvSpPr/>
              <p:nvPr/>
            </p:nvSpPr>
            <p:spPr>
              <a:xfrm>
                <a:off x="6411960" y="5943600"/>
                <a:ext cx="869760" cy="457200"/>
              </a:xfrm>
              <a:prstGeom prst="roundRect">
                <a:avLst>
                  <a:gd name="adj" fmla="val 347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411960" y="5943600"/>
                <a:ext cx="8697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E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540400" y="5943600"/>
              <a:ext cx="871560" cy="457200"/>
              <a:chOff x="5540400" y="5943600"/>
              <a:chExt cx="871560" cy="457200"/>
            </a:xfrm>
          </p:grpSpPr>
          <p:sp>
            <p:nvSpPr>
              <p:cNvPr id="64" name=""/>
              <p:cNvSpPr/>
              <p:nvPr/>
            </p:nvSpPr>
            <p:spPr>
              <a:xfrm>
                <a:off x="5540400" y="5943600"/>
                <a:ext cx="871560" cy="457200"/>
              </a:xfrm>
              <a:prstGeom prst="roundRect">
                <a:avLst>
                  <a:gd name="adj" fmla="val 347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540400" y="5943600"/>
                <a:ext cx="8715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4670280" y="5943600"/>
              <a:ext cx="870120" cy="457200"/>
              <a:chOff x="4670280" y="5943600"/>
              <a:chExt cx="870120" cy="457200"/>
            </a:xfrm>
          </p:grpSpPr>
          <p:sp>
            <p:nvSpPr>
              <p:cNvPr id="67" name=""/>
              <p:cNvSpPr/>
              <p:nvPr/>
            </p:nvSpPr>
            <p:spPr>
              <a:xfrm>
                <a:off x="4670280" y="5943600"/>
                <a:ext cx="870120" cy="457200"/>
              </a:xfrm>
              <a:prstGeom prst="roundRect">
                <a:avLst>
                  <a:gd name="adj" fmla="val 347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670280" y="5943600"/>
                <a:ext cx="87012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F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798720" y="5943600"/>
              <a:ext cx="871560" cy="457200"/>
            </a:xfrm>
            <a:prstGeom prst="roundRect">
              <a:avLst>
                <a:gd name="adj" fmla="val 34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28960" y="5943600"/>
              <a:ext cx="869760" cy="457200"/>
            </a:xfrm>
            <a:prstGeom prst="roundRect">
              <a:avLst>
                <a:gd name="adj" fmla="val 34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2057400" y="5943600"/>
              <a:ext cx="871560" cy="457200"/>
              <a:chOff x="2057400" y="5943600"/>
              <a:chExt cx="871560" cy="457200"/>
            </a:xfrm>
          </p:grpSpPr>
          <p:sp>
            <p:nvSpPr>
              <p:cNvPr id="72" name=""/>
              <p:cNvSpPr/>
              <p:nvPr/>
            </p:nvSpPr>
            <p:spPr>
              <a:xfrm>
                <a:off x="2057400" y="5943600"/>
                <a:ext cx="871560" cy="457200"/>
              </a:xfrm>
              <a:prstGeom prst="roundRect">
                <a:avLst>
                  <a:gd name="adj" fmla="val 347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057400" y="5943600"/>
                <a:ext cx="8715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7281720" y="5562720"/>
              <a:ext cx="871560" cy="380880"/>
            </a:xfrm>
            <a:prstGeom prst="roundRect">
              <a:avLst>
                <a:gd name="adj" fmla="val 41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11960" y="5562720"/>
              <a:ext cx="869760" cy="380880"/>
            </a:xfrm>
            <a:prstGeom prst="roundRect">
              <a:avLst>
                <a:gd name="adj" fmla="val 41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5540400" y="5562720"/>
              <a:ext cx="871560" cy="380880"/>
              <a:chOff x="5540400" y="5562720"/>
              <a:chExt cx="871560" cy="380880"/>
            </a:xfrm>
          </p:grpSpPr>
          <p:sp>
            <p:nvSpPr>
              <p:cNvPr id="77" name=""/>
              <p:cNvSpPr/>
              <p:nvPr/>
            </p:nvSpPr>
            <p:spPr>
              <a:xfrm>
                <a:off x="5540400" y="5562720"/>
                <a:ext cx="871560" cy="380880"/>
              </a:xfrm>
              <a:prstGeom prst="roundRect">
                <a:avLst>
                  <a:gd name="adj" fmla="val 417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540400" y="5562720"/>
                <a:ext cx="8715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E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4670280" y="5562720"/>
              <a:ext cx="870120" cy="380880"/>
              <a:chOff x="4670280" y="5562720"/>
              <a:chExt cx="870120" cy="380880"/>
            </a:xfrm>
          </p:grpSpPr>
          <p:sp>
            <p:nvSpPr>
              <p:cNvPr id="80" name=""/>
              <p:cNvSpPr/>
              <p:nvPr/>
            </p:nvSpPr>
            <p:spPr>
              <a:xfrm>
                <a:off x="4670280" y="5562720"/>
                <a:ext cx="870120" cy="380880"/>
              </a:xfrm>
              <a:prstGeom prst="roundRect">
                <a:avLst>
                  <a:gd name="adj" fmla="val 417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670280" y="5562720"/>
                <a:ext cx="87012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3798720" y="5562720"/>
              <a:ext cx="871560" cy="380880"/>
              <a:chOff x="3798720" y="5562720"/>
              <a:chExt cx="871560" cy="380880"/>
            </a:xfrm>
          </p:grpSpPr>
          <p:sp>
            <p:nvSpPr>
              <p:cNvPr id="83" name=""/>
              <p:cNvSpPr/>
              <p:nvPr/>
            </p:nvSpPr>
            <p:spPr>
              <a:xfrm>
                <a:off x="3798720" y="5562720"/>
                <a:ext cx="871560" cy="380880"/>
              </a:xfrm>
              <a:prstGeom prst="roundRect">
                <a:avLst>
                  <a:gd name="adj" fmla="val 417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798720" y="5562720"/>
                <a:ext cx="8715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F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2928960" y="5562720"/>
              <a:ext cx="869760" cy="380880"/>
            </a:xfrm>
            <a:prstGeom prst="roundRect">
              <a:avLst>
                <a:gd name="adj" fmla="val 41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2057400" y="5562720"/>
              <a:ext cx="871560" cy="380880"/>
              <a:chOff x="2057400" y="5562720"/>
              <a:chExt cx="871560" cy="380880"/>
            </a:xfrm>
          </p:grpSpPr>
          <p:sp>
            <p:nvSpPr>
              <p:cNvPr id="87" name=""/>
              <p:cNvSpPr/>
              <p:nvPr/>
            </p:nvSpPr>
            <p:spPr>
              <a:xfrm>
                <a:off x="2057400" y="5562720"/>
                <a:ext cx="871560" cy="380880"/>
              </a:xfrm>
              <a:prstGeom prst="roundRect">
                <a:avLst>
                  <a:gd name="adj" fmla="val 417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57400" y="5562720"/>
                <a:ext cx="8715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7281720" y="5181480"/>
              <a:ext cx="871560" cy="381240"/>
            </a:xfrm>
            <a:prstGeom prst="roundRect">
              <a:avLst>
                <a:gd name="adj" fmla="val 41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11960" y="5181480"/>
              <a:ext cx="869760" cy="381240"/>
            </a:xfrm>
            <a:prstGeom prst="roundRect">
              <a:avLst>
                <a:gd name="adj" fmla="val 41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40400" y="5181480"/>
              <a:ext cx="871560" cy="381240"/>
            </a:xfrm>
            <a:prstGeom prst="roundRect">
              <a:avLst>
                <a:gd name="adj" fmla="val 41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670280" y="5181480"/>
              <a:ext cx="870120" cy="381240"/>
              <a:chOff x="4670280" y="5181480"/>
              <a:chExt cx="870120" cy="381240"/>
            </a:xfrm>
          </p:grpSpPr>
          <p:sp>
            <p:nvSpPr>
              <p:cNvPr id="93" name=""/>
              <p:cNvSpPr/>
              <p:nvPr/>
            </p:nvSpPr>
            <p:spPr>
              <a:xfrm>
                <a:off x="4670280" y="5181480"/>
                <a:ext cx="870120" cy="381240"/>
              </a:xfrm>
              <a:prstGeom prst="roundRect">
                <a:avLst>
                  <a:gd name="adj" fmla="val 417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670280" y="5181480"/>
                <a:ext cx="87012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E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798720" y="5181480"/>
              <a:ext cx="871560" cy="381240"/>
              <a:chOff x="3798720" y="5181480"/>
              <a:chExt cx="871560" cy="381240"/>
            </a:xfrm>
          </p:grpSpPr>
          <p:sp>
            <p:nvSpPr>
              <p:cNvPr id="96" name=""/>
              <p:cNvSpPr/>
              <p:nvPr/>
            </p:nvSpPr>
            <p:spPr>
              <a:xfrm>
                <a:off x="3798720" y="5181480"/>
                <a:ext cx="871560" cy="381240"/>
              </a:xfrm>
              <a:prstGeom prst="roundRect">
                <a:avLst>
                  <a:gd name="adj" fmla="val 417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98720" y="5181480"/>
                <a:ext cx="8715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928960" y="5181480"/>
              <a:ext cx="869760" cy="381240"/>
              <a:chOff x="2928960" y="5181480"/>
              <a:chExt cx="869760" cy="381240"/>
            </a:xfrm>
          </p:grpSpPr>
          <p:sp>
            <p:nvSpPr>
              <p:cNvPr id="99" name=""/>
              <p:cNvSpPr/>
              <p:nvPr/>
            </p:nvSpPr>
            <p:spPr>
              <a:xfrm>
                <a:off x="2928960" y="5181480"/>
                <a:ext cx="869760" cy="381240"/>
              </a:xfrm>
              <a:prstGeom prst="roundRect">
                <a:avLst>
                  <a:gd name="adj" fmla="val 417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928960" y="5181480"/>
                <a:ext cx="8697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F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057400" y="5181480"/>
              <a:ext cx="871560" cy="381240"/>
              <a:chOff x="2057400" y="5181480"/>
              <a:chExt cx="871560" cy="381240"/>
            </a:xfrm>
          </p:grpSpPr>
          <p:sp>
            <p:nvSpPr>
              <p:cNvPr id="102" name=""/>
              <p:cNvSpPr/>
              <p:nvPr/>
            </p:nvSpPr>
            <p:spPr>
              <a:xfrm>
                <a:off x="2057400" y="5181480"/>
                <a:ext cx="871560" cy="381240"/>
              </a:xfrm>
              <a:prstGeom prst="roundRect">
                <a:avLst>
                  <a:gd name="adj" fmla="val 417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057400" y="5181480"/>
                <a:ext cx="8715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7281720" y="4775040"/>
              <a:ext cx="871560" cy="406440"/>
              <a:chOff x="7281720" y="4775040"/>
              <a:chExt cx="871560" cy="40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7281720" y="4775040"/>
                <a:ext cx="871560" cy="406440"/>
              </a:xfrm>
              <a:prstGeom prst="roundRect">
                <a:avLst>
                  <a:gd name="adj" fmla="val 389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281720" y="4775040"/>
                <a:ext cx="8715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i+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411960" y="4775040"/>
              <a:ext cx="869760" cy="406440"/>
              <a:chOff x="6411960" y="4775040"/>
              <a:chExt cx="869760" cy="40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6411960" y="4775040"/>
                <a:ext cx="869760" cy="406440"/>
              </a:xfrm>
              <a:prstGeom prst="roundRect">
                <a:avLst>
                  <a:gd name="adj" fmla="val 389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411960" y="4775040"/>
                <a:ext cx="8697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i+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540400" y="4775040"/>
              <a:ext cx="871560" cy="406440"/>
              <a:chOff x="5540400" y="4775040"/>
              <a:chExt cx="871560" cy="40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5540400" y="4775040"/>
                <a:ext cx="871560" cy="406440"/>
              </a:xfrm>
              <a:prstGeom prst="roundRect">
                <a:avLst>
                  <a:gd name="adj" fmla="val 389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40400" y="4775040"/>
                <a:ext cx="8715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i+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670280" y="4775040"/>
              <a:ext cx="870120" cy="406440"/>
              <a:chOff x="4670280" y="4775040"/>
              <a:chExt cx="870120" cy="40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670280" y="4775040"/>
                <a:ext cx="870120" cy="406440"/>
              </a:xfrm>
              <a:prstGeom prst="roundRect">
                <a:avLst>
                  <a:gd name="adj" fmla="val 389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670280" y="4775040"/>
                <a:ext cx="87012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798720" y="4775040"/>
              <a:ext cx="871560" cy="406440"/>
              <a:chOff x="3798720" y="4775040"/>
              <a:chExt cx="871560" cy="406440"/>
            </a:xfrm>
          </p:grpSpPr>
          <p:sp>
            <p:nvSpPr>
              <p:cNvPr id="117" name=""/>
              <p:cNvSpPr/>
              <p:nvPr/>
            </p:nvSpPr>
            <p:spPr>
              <a:xfrm>
                <a:off x="3798720" y="4775040"/>
                <a:ext cx="871560" cy="406440"/>
              </a:xfrm>
              <a:prstGeom prst="roundRect">
                <a:avLst>
                  <a:gd name="adj" fmla="val 389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98720" y="4775040"/>
                <a:ext cx="8715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i-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928960" y="4775040"/>
              <a:ext cx="869760" cy="406440"/>
              <a:chOff x="2928960" y="4775040"/>
              <a:chExt cx="869760" cy="40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2928960" y="4775040"/>
                <a:ext cx="869760" cy="406440"/>
              </a:xfrm>
              <a:prstGeom prst="roundRect">
                <a:avLst>
                  <a:gd name="adj" fmla="val 389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928960" y="4775040"/>
                <a:ext cx="8697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i-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2057400" y="4775040"/>
              <a:ext cx="871560" cy="406440"/>
            </a:xfrm>
            <a:prstGeom prst="roundRect">
              <a:avLst>
                <a:gd name="adj" fmla="val 38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57400" y="5181480"/>
              <a:ext cx="6095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5562720"/>
              <a:ext cx="609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57400" y="5943600"/>
              <a:ext cx="609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7400" y="6400800"/>
              <a:ext cx="609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57400" y="6858000"/>
              <a:ext cx="6095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4775040"/>
              <a:ext cx="1440" cy="208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28960" y="4775040"/>
              <a:ext cx="1440" cy="208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98720" y="4775040"/>
              <a:ext cx="1800" cy="208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70280" y="4775040"/>
              <a:ext cx="1800" cy="208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40400" y="4775040"/>
              <a:ext cx="1440" cy="208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11960" y="4775040"/>
              <a:ext cx="1440" cy="208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81720" y="4775040"/>
              <a:ext cx="1800" cy="208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81720" y="4775040"/>
              <a:ext cx="871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57400" y="4775040"/>
              <a:ext cx="52243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53280" y="5181480"/>
              <a:ext cx="18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153280" y="4775040"/>
              <a:ext cx="180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153280" y="5562720"/>
              <a:ext cx="180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Z ILP (Instruction Level Parallel) – UTASÍTÁSSZINTEN PÁRHUZAMOS MŰKÖDÉSŰ PROCESSZOROK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828800"/>
            <a:ext cx="9144000" cy="35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gsúlyosabb problémák a következő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térő időtartamú elemi lépése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zérlésátadó utasítások (feltételes és feltétel nélküli ugrások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gszakítások kéré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más után következő utasítások, ahol a következő utasítás az előző utasítás eredményére hivatkozik, amely még nem jöhetett lét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ver ütközése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Z ILP (Instruction Level Parallel) – UTASÍTÁSSZINTEN PÁRHUZAMOS MŰKÖDÉSŰ PROCESSZOROK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447920"/>
            <a:ext cx="9144000" cy="46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éhány megoldás szoftver eszközzel (fordítóprogram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res utasítások beiktatása, vagyi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k alkalmazás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asítások átrendezése, amennyiben lehetség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éhány megoldás hardver eszközz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reboard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hol minden használt regiszter egy listába kerül, azért, hogy ha egy adott  utasítás hivatkozik rá, akkor azt a rendszer várakoztass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orward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etén a hardver adatátadást biztosít a második utasítás számára, amennyiben azok számára ugyanaz az adat szükséges (ez csak akkor valósul meg, ha az első utasítás befejeződöt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Z ILP (Instruction Level Parallel) – UTASÍTÁSSZINTEN PÁRHUZAMOS MŰKÖDÉSŰ PROCESSZOROK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447920"/>
            <a:ext cx="91440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ás architektúra alkalmazás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arvard architektúránál az adat- és programmemóra szétválasztása külön adat- és programsint követel, így itt nincs sinütközés, ez a megoldás használatos a Pentium processzoroknál is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she esetében (a cashe memórák tárgyalása a memóriáknál található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657600"/>
            <a:ext cx="9144000" cy="31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 program utasításainak általában 10-15 %-át a vezérlésátadó utasítások teszik k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gállítja a pipeline töltését addig, amig bizonytalan, hogy a programnak új címre kell ugrania, vagy n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őre feltételezett módon kezeli a problémát, vagyis feltételezi, hogy nem lesz ugrás,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tijevics</dc:creator>
  <dc:description/>
  <dc:language>en-US</dc:language>
  <cp:lastModifiedBy>István MATIJEVICS</cp:lastModifiedBy>
  <cp:revision>0</cp:revision>
  <dc:subject/>
  <dc:title>PowerPoint Presentation</dc:title>
</cp:coreProperties>
</file>