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553080" y="62485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8500-DAF3-48DD-9B98-38ECA24D46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ptm120.ppt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MIKROPROCESSZOR ELEME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85800"/>
            <a:ext cx="9144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ZÉRLŐ EGYSÉ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95280"/>
            <a:ext cx="495288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zalozott 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kroprogramoz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1523880"/>
            <a:ext cx="3962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KROPROGRAMOZ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2441520"/>
            <a:ext cx="7302600" cy="44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MIKROPROCESSZOR ELEME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85800"/>
            <a:ext cx="9144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ZÉRLŐ EGYSÉ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1523880"/>
            <a:ext cx="3962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KROPROGRAMOZ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98720" y="2173320"/>
            <a:ext cx="6368760" cy="46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MIKROPROCESSZOR ELEME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85800"/>
            <a:ext cx="4419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ZÉRLŐ EGYSÉ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685800"/>
            <a:ext cx="3962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KROPROGRAMOZ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2209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élda: C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33720" y="1219320"/>
            <a:ext cx="6249960" cy="2071440"/>
            <a:chOff x="2133720" y="1219320"/>
            <a:chExt cx="6249960" cy="2071440"/>
          </a:xfrm>
        </p:grpSpPr>
        <p:grpSp>
          <p:nvGrpSpPr>
            <p:cNvPr id="54" name=""/>
            <p:cNvGrpSpPr/>
            <p:nvPr/>
          </p:nvGrpSpPr>
          <p:grpSpPr>
            <a:xfrm>
              <a:off x="7696080" y="2771640"/>
              <a:ext cx="685800" cy="517680"/>
              <a:chOff x="7696080" y="2771640"/>
              <a:chExt cx="685800" cy="517680"/>
            </a:xfrm>
          </p:grpSpPr>
          <p:sp>
            <p:nvSpPr>
              <p:cNvPr id="55" name=""/>
              <p:cNvSpPr/>
              <p:nvPr/>
            </p:nvSpPr>
            <p:spPr>
              <a:xfrm>
                <a:off x="7696080" y="2771640"/>
                <a:ext cx="68580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96080" y="2771640"/>
                <a:ext cx="68580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6934320" y="2771640"/>
              <a:ext cx="761760" cy="517680"/>
              <a:chOff x="6934320" y="2771640"/>
              <a:chExt cx="761760" cy="517680"/>
            </a:xfrm>
          </p:grpSpPr>
          <p:sp>
            <p:nvSpPr>
              <p:cNvPr id="58" name=""/>
              <p:cNvSpPr/>
              <p:nvPr/>
            </p:nvSpPr>
            <p:spPr>
              <a:xfrm>
                <a:off x="6934320" y="2771640"/>
                <a:ext cx="7617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934320" y="2771640"/>
                <a:ext cx="76176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5943600" y="2771640"/>
              <a:ext cx="990720" cy="517680"/>
              <a:chOff x="5943600" y="2771640"/>
              <a:chExt cx="990720" cy="517680"/>
            </a:xfrm>
          </p:grpSpPr>
          <p:sp>
            <p:nvSpPr>
              <p:cNvPr id="61" name=""/>
              <p:cNvSpPr/>
              <p:nvPr/>
            </p:nvSpPr>
            <p:spPr>
              <a:xfrm>
                <a:off x="5943600" y="2771640"/>
                <a:ext cx="99072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943600" y="2771640"/>
                <a:ext cx="99072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4898880" y="2771640"/>
              <a:ext cx="1044720" cy="517680"/>
              <a:chOff x="4898880" y="2771640"/>
              <a:chExt cx="1044720" cy="517680"/>
            </a:xfrm>
          </p:grpSpPr>
          <p:sp>
            <p:nvSpPr>
              <p:cNvPr id="64" name=""/>
              <p:cNvSpPr/>
              <p:nvPr/>
            </p:nvSpPr>
            <p:spPr>
              <a:xfrm>
                <a:off x="4898880" y="2771640"/>
                <a:ext cx="104472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898880" y="2771640"/>
                <a:ext cx="104472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027320" y="2771640"/>
              <a:ext cx="871560" cy="517680"/>
              <a:chOff x="4027320" y="2771640"/>
              <a:chExt cx="871560" cy="517680"/>
            </a:xfrm>
          </p:grpSpPr>
          <p:sp>
            <p:nvSpPr>
              <p:cNvPr id="67" name=""/>
              <p:cNvSpPr/>
              <p:nvPr/>
            </p:nvSpPr>
            <p:spPr>
              <a:xfrm>
                <a:off x="4027320" y="2771640"/>
                <a:ext cx="8715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027320" y="2771640"/>
                <a:ext cx="87156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157560" y="2771640"/>
              <a:ext cx="869760" cy="517680"/>
              <a:chOff x="3157560" y="2771640"/>
              <a:chExt cx="869760" cy="517680"/>
            </a:xfrm>
          </p:grpSpPr>
          <p:sp>
            <p:nvSpPr>
              <p:cNvPr id="70" name=""/>
              <p:cNvSpPr/>
              <p:nvPr/>
            </p:nvSpPr>
            <p:spPr>
              <a:xfrm>
                <a:off x="3157560" y="2771640"/>
                <a:ext cx="8697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57560" y="2771640"/>
                <a:ext cx="86976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133720" y="2771640"/>
              <a:ext cx="1023840" cy="517680"/>
              <a:chOff x="2133720" y="2771640"/>
              <a:chExt cx="1023840" cy="517680"/>
            </a:xfrm>
          </p:grpSpPr>
          <p:sp>
            <p:nvSpPr>
              <p:cNvPr id="73" name=""/>
              <p:cNvSpPr/>
              <p:nvPr/>
            </p:nvSpPr>
            <p:spPr>
              <a:xfrm>
                <a:off x="2133720" y="2771640"/>
                <a:ext cx="102384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33720" y="2771640"/>
                <a:ext cx="102384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696080" y="2254320"/>
              <a:ext cx="685800" cy="517320"/>
              <a:chOff x="7696080" y="2254320"/>
              <a:chExt cx="685800" cy="517320"/>
            </a:xfrm>
          </p:grpSpPr>
          <p:sp>
            <p:nvSpPr>
              <p:cNvPr id="76" name=""/>
              <p:cNvSpPr/>
              <p:nvPr/>
            </p:nvSpPr>
            <p:spPr>
              <a:xfrm>
                <a:off x="7696080" y="2254320"/>
                <a:ext cx="68580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96080" y="2254320"/>
                <a:ext cx="68580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34320" y="2254320"/>
              <a:ext cx="761760" cy="517320"/>
              <a:chOff x="6934320" y="2254320"/>
              <a:chExt cx="761760" cy="517320"/>
            </a:xfrm>
          </p:grpSpPr>
          <p:sp>
            <p:nvSpPr>
              <p:cNvPr id="79" name=""/>
              <p:cNvSpPr/>
              <p:nvPr/>
            </p:nvSpPr>
            <p:spPr>
              <a:xfrm>
                <a:off x="6934320" y="2254320"/>
                <a:ext cx="76176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934320" y="2254320"/>
                <a:ext cx="76176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943600" y="2254320"/>
              <a:ext cx="990720" cy="517320"/>
              <a:chOff x="5943600" y="2254320"/>
              <a:chExt cx="990720" cy="517320"/>
            </a:xfrm>
          </p:grpSpPr>
          <p:sp>
            <p:nvSpPr>
              <p:cNvPr id="82" name=""/>
              <p:cNvSpPr/>
              <p:nvPr/>
            </p:nvSpPr>
            <p:spPr>
              <a:xfrm>
                <a:off x="5943600" y="2254320"/>
                <a:ext cx="99072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943600" y="2254320"/>
                <a:ext cx="99072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898880" y="2254320"/>
              <a:ext cx="1044720" cy="517320"/>
              <a:chOff x="4898880" y="2254320"/>
              <a:chExt cx="1044720" cy="517320"/>
            </a:xfrm>
          </p:grpSpPr>
          <p:sp>
            <p:nvSpPr>
              <p:cNvPr id="85" name=""/>
              <p:cNvSpPr/>
              <p:nvPr/>
            </p:nvSpPr>
            <p:spPr>
              <a:xfrm>
                <a:off x="4898880" y="2254320"/>
                <a:ext cx="104472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898880" y="2254320"/>
                <a:ext cx="104472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027320" y="2254320"/>
              <a:ext cx="871560" cy="517320"/>
              <a:chOff x="4027320" y="2254320"/>
              <a:chExt cx="871560" cy="517320"/>
            </a:xfrm>
          </p:grpSpPr>
          <p:sp>
            <p:nvSpPr>
              <p:cNvPr id="88" name=""/>
              <p:cNvSpPr/>
              <p:nvPr/>
            </p:nvSpPr>
            <p:spPr>
              <a:xfrm>
                <a:off x="4027320" y="2254320"/>
                <a:ext cx="87156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27320" y="2254320"/>
                <a:ext cx="87156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3157560" y="2254320"/>
              <a:ext cx="869760" cy="517320"/>
              <a:chOff x="3157560" y="2254320"/>
              <a:chExt cx="869760" cy="517320"/>
            </a:xfrm>
          </p:grpSpPr>
          <p:sp>
            <p:nvSpPr>
              <p:cNvPr id="91" name=""/>
              <p:cNvSpPr/>
              <p:nvPr/>
            </p:nvSpPr>
            <p:spPr>
              <a:xfrm>
                <a:off x="3157560" y="2254320"/>
                <a:ext cx="86976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57560" y="2254320"/>
                <a:ext cx="86976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2133720" y="2254320"/>
              <a:ext cx="1023840" cy="517320"/>
              <a:chOff x="2133720" y="2254320"/>
              <a:chExt cx="1023840" cy="517320"/>
            </a:xfrm>
          </p:grpSpPr>
          <p:sp>
            <p:nvSpPr>
              <p:cNvPr id="94" name=""/>
              <p:cNvSpPr/>
              <p:nvPr/>
            </p:nvSpPr>
            <p:spPr>
              <a:xfrm>
                <a:off x="2133720" y="2254320"/>
                <a:ext cx="102384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33720" y="2254320"/>
                <a:ext cx="102384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696080" y="1736640"/>
              <a:ext cx="685800" cy="517680"/>
              <a:chOff x="7696080" y="1736640"/>
              <a:chExt cx="685800" cy="517680"/>
            </a:xfrm>
          </p:grpSpPr>
          <p:sp>
            <p:nvSpPr>
              <p:cNvPr id="97" name=""/>
              <p:cNvSpPr/>
              <p:nvPr/>
            </p:nvSpPr>
            <p:spPr>
              <a:xfrm>
                <a:off x="7696080" y="1736640"/>
                <a:ext cx="68580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96080" y="1736640"/>
                <a:ext cx="68580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934320" y="1736640"/>
              <a:ext cx="761760" cy="517680"/>
              <a:chOff x="6934320" y="1736640"/>
              <a:chExt cx="761760" cy="517680"/>
            </a:xfrm>
          </p:grpSpPr>
          <p:sp>
            <p:nvSpPr>
              <p:cNvPr id="100" name=""/>
              <p:cNvSpPr/>
              <p:nvPr/>
            </p:nvSpPr>
            <p:spPr>
              <a:xfrm>
                <a:off x="6934320" y="1736640"/>
                <a:ext cx="7617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934320" y="1736640"/>
                <a:ext cx="76176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5943600" y="1736640"/>
              <a:ext cx="990720" cy="517680"/>
              <a:chOff x="5943600" y="1736640"/>
              <a:chExt cx="990720" cy="517680"/>
            </a:xfrm>
          </p:grpSpPr>
          <p:sp>
            <p:nvSpPr>
              <p:cNvPr id="103" name=""/>
              <p:cNvSpPr/>
              <p:nvPr/>
            </p:nvSpPr>
            <p:spPr>
              <a:xfrm>
                <a:off x="5943600" y="1736640"/>
                <a:ext cx="99072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43600" y="1736640"/>
                <a:ext cx="99072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898880" y="1736640"/>
              <a:ext cx="1044720" cy="517680"/>
              <a:chOff x="4898880" y="1736640"/>
              <a:chExt cx="1044720" cy="517680"/>
            </a:xfrm>
          </p:grpSpPr>
          <p:sp>
            <p:nvSpPr>
              <p:cNvPr id="106" name=""/>
              <p:cNvSpPr/>
              <p:nvPr/>
            </p:nvSpPr>
            <p:spPr>
              <a:xfrm>
                <a:off x="4898880" y="1736640"/>
                <a:ext cx="104472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98880" y="1736640"/>
                <a:ext cx="104472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4027320" y="1736640"/>
              <a:ext cx="871560" cy="517680"/>
              <a:chOff x="4027320" y="1736640"/>
              <a:chExt cx="871560" cy="517680"/>
            </a:xfrm>
          </p:grpSpPr>
          <p:sp>
            <p:nvSpPr>
              <p:cNvPr id="109" name=""/>
              <p:cNvSpPr/>
              <p:nvPr/>
            </p:nvSpPr>
            <p:spPr>
              <a:xfrm>
                <a:off x="4027320" y="1736640"/>
                <a:ext cx="8715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027320" y="1736640"/>
                <a:ext cx="87156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157560" y="1736640"/>
              <a:ext cx="869760" cy="517680"/>
              <a:chOff x="3157560" y="1736640"/>
              <a:chExt cx="869760" cy="517680"/>
            </a:xfrm>
          </p:grpSpPr>
          <p:sp>
            <p:nvSpPr>
              <p:cNvPr id="112" name=""/>
              <p:cNvSpPr/>
              <p:nvPr/>
            </p:nvSpPr>
            <p:spPr>
              <a:xfrm>
                <a:off x="3157560" y="1736640"/>
                <a:ext cx="8697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57560" y="1736640"/>
                <a:ext cx="86976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133720" y="1736640"/>
              <a:ext cx="1023840" cy="517680"/>
              <a:chOff x="2133720" y="1736640"/>
              <a:chExt cx="1023840" cy="517680"/>
            </a:xfrm>
          </p:grpSpPr>
          <p:sp>
            <p:nvSpPr>
              <p:cNvPr id="115" name=""/>
              <p:cNvSpPr/>
              <p:nvPr/>
            </p:nvSpPr>
            <p:spPr>
              <a:xfrm>
                <a:off x="2133720" y="1736640"/>
                <a:ext cx="102384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33720" y="1736640"/>
                <a:ext cx="102384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7696080" y="1219320"/>
              <a:ext cx="685800" cy="517320"/>
              <a:chOff x="7696080" y="1219320"/>
              <a:chExt cx="685800" cy="517320"/>
            </a:xfrm>
          </p:grpSpPr>
          <p:sp>
            <p:nvSpPr>
              <p:cNvPr id="118" name=""/>
              <p:cNvSpPr/>
              <p:nvPr/>
            </p:nvSpPr>
            <p:spPr>
              <a:xfrm>
                <a:off x="7696080" y="1219320"/>
                <a:ext cx="68580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6080" y="1219320"/>
                <a:ext cx="68580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934320" y="1219320"/>
              <a:ext cx="761760" cy="517320"/>
              <a:chOff x="6934320" y="1219320"/>
              <a:chExt cx="761760" cy="517320"/>
            </a:xfrm>
          </p:grpSpPr>
          <p:sp>
            <p:nvSpPr>
              <p:cNvPr id="121" name=""/>
              <p:cNvSpPr/>
              <p:nvPr/>
            </p:nvSpPr>
            <p:spPr>
              <a:xfrm>
                <a:off x="6934320" y="1219320"/>
                <a:ext cx="76176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934320" y="1219320"/>
                <a:ext cx="76176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943600" y="1219320"/>
              <a:ext cx="990720" cy="517320"/>
              <a:chOff x="5943600" y="1219320"/>
              <a:chExt cx="990720" cy="517320"/>
            </a:xfrm>
          </p:grpSpPr>
          <p:sp>
            <p:nvSpPr>
              <p:cNvPr id="124" name=""/>
              <p:cNvSpPr/>
              <p:nvPr/>
            </p:nvSpPr>
            <p:spPr>
              <a:xfrm>
                <a:off x="5943600" y="1219320"/>
                <a:ext cx="99072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943600" y="1219320"/>
                <a:ext cx="99072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898880" y="1219320"/>
              <a:ext cx="1044720" cy="517320"/>
              <a:chOff x="4898880" y="1219320"/>
              <a:chExt cx="1044720" cy="517320"/>
            </a:xfrm>
          </p:grpSpPr>
          <p:sp>
            <p:nvSpPr>
              <p:cNvPr id="127" name=""/>
              <p:cNvSpPr/>
              <p:nvPr/>
            </p:nvSpPr>
            <p:spPr>
              <a:xfrm>
                <a:off x="4898880" y="1219320"/>
                <a:ext cx="104472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98880" y="1219320"/>
                <a:ext cx="104472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027320" y="1219320"/>
              <a:ext cx="871560" cy="517320"/>
              <a:chOff x="4027320" y="1219320"/>
              <a:chExt cx="871560" cy="517320"/>
            </a:xfrm>
          </p:grpSpPr>
          <p:sp>
            <p:nvSpPr>
              <p:cNvPr id="130" name=""/>
              <p:cNvSpPr/>
              <p:nvPr/>
            </p:nvSpPr>
            <p:spPr>
              <a:xfrm>
                <a:off x="4027320" y="1219320"/>
                <a:ext cx="87156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27320" y="1219320"/>
                <a:ext cx="87156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3157560" y="1219320"/>
              <a:ext cx="869760" cy="517320"/>
              <a:chOff x="3157560" y="1219320"/>
              <a:chExt cx="869760" cy="517320"/>
            </a:xfrm>
          </p:grpSpPr>
          <p:sp>
            <p:nvSpPr>
              <p:cNvPr id="133" name=""/>
              <p:cNvSpPr/>
              <p:nvPr/>
            </p:nvSpPr>
            <p:spPr>
              <a:xfrm>
                <a:off x="3157560" y="1219320"/>
                <a:ext cx="86976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57560" y="1219320"/>
                <a:ext cx="86976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133720" y="1219320"/>
              <a:ext cx="1023840" cy="517320"/>
            </a:xfrm>
            <a:prstGeom prst="roundRect">
              <a:avLst>
                <a:gd name="adj" fmla="val 3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1219320"/>
              <a:ext cx="6248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1736640"/>
              <a:ext cx="624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2254320"/>
              <a:ext cx="624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33720" y="2771640"/>
              <a:ext cx="624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3720" y="3289320"/>
              <a:ext cx="6248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33720" y="1219320"/>
              <a:ext cx="1440" cy="20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57560" y="1219320"/>
              <a:ext cx="144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27320" y="1219320"/>
              <a:ext cx="180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98880" y="1219320"/>
              <a:ext cx="180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1219320"/>
              <a:ext cx="144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34320" y="1219320"/>
              <a:ext cx="144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96080" y="1219320"/>
              <a:ext cx="180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1880" y="1736640"/>
              <a:ext cx="180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1880" y="1219320"/>
              <a:ext cx="1800" cy="51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1880" y="2254320"/>
              <a:ext cx="1800" cy="103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0" y="3429000"/>
            <a:ext cx="9144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 vezérlő egységen belül ható mikroutasítást jelöl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ímei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komplementáló egység címe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m ak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regisz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kkumulátor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komplementáló egysé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mező a forrásregiszter címét ad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áció a következő utasítás címéről (pl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övetkező cím) 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külső feltétel a következő cím meghatározására 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átvitelbit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b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MIKROPROCESSZOR ELEME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85800"/>
            <a:ext cx="556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METIKAI-LOGIKAI EGYSÉ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295280"/>
            <a:ext cx="5715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átvitel (carry) jelzőb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5257800" cy="2454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886200" y="3882960"/>
            <a:ext cx="5257800" cy="29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MIKROPROCESSZOR ELEME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85800"/>
            <a:ext cx="556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METIKAI-LOGIKAI EGYSÉ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295280"/>
            <a:ext cx="5715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– túlcsordulás (overflow) jelző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590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 a negativ szá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05740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– ’félátvitel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6480" y="267192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8534160" cy="2590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90920" y="2057400"/>
            <a:ext cx="6172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– jelzi, hogy a regiszter tartalma 0 (Z = 1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MIKROPROCESSZOR ELEME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85800"/>
            <a:ext cx="556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METIKAI-LOGIKAI EGYSÉ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76480" y="267192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2484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MIKROPROCESSZOR ELEME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85800"/>
            <a:ext cx="9144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Z A AKKUMULÁTOR ÉS AZ ÁLTALÁNOS CÉLÚ REGISZT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76480" y="267192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600200"/>
            <a:ext cx="3581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ÍMREGISZT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1600200"/>
            <a:ext cx="5105520" cy="24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utasítás, vagy programszámlál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datszámlál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veremtár mutató (stack pointer) 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dexregiszter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3333600"/>
            <a:ext cx="4038480" cy="3524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6019920"/>
            <a:ext cx="361800" cy="55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