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wmf" ContentType="image/x-wmf"/>
  <Override PartName="/ppt/media/image57.png" ContentType="image/png"/>
  <Override PartName="/ppt/media/image56.png" ContentType="image/png"/>
  <Override PartName="/ppt/media/image55.png" ContentType="image/png"/>
  <Override PartName="/ppt/media/image12.wmf" ContentType="image/x-wmf"/>
  <Override PartName="/ppt/media/image54.png" ContentType="image/png"/>
  <Override PartName="/ppt/media/image11.wmf" ContentType="image/x-wmf"/>
  <Override PartName="/ppt/media/image53.png" ContentType="image/png"/>
  <Override PartName="/ppt/media/image10.wmf" ContentType="image/x-wmf"/>
  <Override PartName="/ppt/media/image52.png" ContentType="image/png"/>
  <Override PartName="/ppt/media/image58.wmf" ContentType="image/x-wmf"/>
  <Override PartName="/ppt/media/image60.png" ContentType="image/png"/>
  <Override PartName="/ppt/media/image31.wmf" ContentType="image/x-wmf"/>
  <Override PartName="/ppt/media/image28.png" ContentType="image/png"/>
  <Override PartName="/ppt/media/image3.wmf" ContentType="image/x-wmf"/>
  <Override PartName="/ppt/media/image15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20.wmf" ContentType="image/x-wmf"/>
  <Override PartName="/ppt/media/image63.png" ContentType="image/png"/>
  <Override PartName="/ppt/media/image69.wmf" ContentType="image/x-wmf"/>
  <Override PartName="/ppt/media/image29.png" ContentType="image/png"/>
  <Override PartName="/ppt/media/image22.png" ContentType="image/png"/>
  <Override PartName="/ppt/media/image68.png" ContentType="image/png"/>
  <Override PartName="/ppt/media/image67.png" ContentType="image/png"/>
  <Override PartName="/ppt/media/image30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19.wmf" ContentType="image/x-wmf"/>
  <Override PartName="/ppt/media/image21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26.png" ContentType="image/png"/>
  <Override PartName="/ppt/media/image50.png" ContentType="image/png"/>
  <Override PartName="/ppt/media/image8.png" ContentType="image/png"/>
  <Override PartName="/ppt/media/image38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51.png" ContentType="image/png"/>
  <Override PartName="/ppt/media/image1.png" ContentType="image/png"/>
  <Override PartName="/ppt/media/image13.png" ContentType="image/png"/>
  <Override PartName="/ppt/media/image2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33.png" ContentType="image/png"/>
  <Override PartName="/ppt/media/image39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png" ContentType="image/png"/>
  <Override PartName="/ppt/media/image4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C399-607F-4A1F-879E-B6D67168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0BC7-49D9-4812-AB0D-24CE1E2D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F135-6C0E-4451-9825-D16C57B2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5EBF-FA1F-4459-AE38-FD6AED0F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22D8-F80C-447F-B980-DC28BC3F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45EF-66F6-4C0B-9C91-8CF1F964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1D2E-E537-4BED-8221-89B6B258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DCDA-D9BE-4F6A-A5C5-CD00737A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BB15-88AA-4E9F-A6B1-B10E094C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1F02-0FC1-44FC-98EE-287798E7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0BC6-7360-42BC-9814-35CFF342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66B3-8A1F-428B-BBE9-1F230B20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2F16-FDCC-4F5D-8750-545F099C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8211-9582-4E04-85AC-D457CBDA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AF30-08C4-4794-A305-73C70D86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431D-95F0-4BB7-957F-9878925A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93EE-4847-4DF6-A21C-0300B056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D52-39E3-49A6-B40C-56DD54B0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BEB8-EB95-482C-8128-3051B023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B45A-1746-47E0-92C8-812557CD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86C1-E1C9-47ED-874B-485310DA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3932-B6BC-496D-9940-93EA47AF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A12-C769-4888-8ACA-445488EE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87B-A746-4B49-AEEE-DF840806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d0036"/>
                </a:gs>
                <a:gs pos="50000">
                  <a:srgbClr val="004a9c"/>
                </a:gs>
                <a:gs pos="100000">
                  <a:srgbClr val="0d003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d0036"/>
                </a:gs>
                <a:gs pos="50000">
                  <a:srgbClr val="0d0d69"/>
                </a:gs>
                <a:gs pos="100000">
                  <a:srgbClr val="0d003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036"/>
                </a:gs>
                <a:gs pos="50000">
                  <a:srgbClr val="0d0d69"/>
                </a:gs>
                <a:gs pos="100000">
                  <a:srgbClr val="0d003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69"/>
                </a:gs>
                <a:gs pos="50000">
                  <a:srgbClr val="0d0036"/>
                </a:gs>
                <a:gs pos="100000">
                  <a:srgbClr val="0d0d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69"/>
                </a:gs>
                <a:gs pos="50000">
                  <a:srgbClr val="190056"/>
                </a:gs>
                <a:gs pos="100000">
                  <a:srgbClr val="0d0d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190056"/>
                </a:gs>
                <a:gs pos="50000">
                  <a:srgbClr val="0d0d69"/>
                </a:gs>
                <a:gs pos="100000">
                  <a:srgbClr val="19005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69"/>
                </a:gs>
                <a:gs pos="50000">
                  <a:srgbClr val="190056"/>
                </a:gs>
                <a:gs pos="100000">
                  <a:srgbClr val="0d0d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190056"/>
                </a:gs>
                <a:gs pos="50000">
                  <a:srgbClr val="0d0d69"/>
                </a:gs>
                <a:gs pos="100000">
                  <a:srgbClr val="19005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674D-4F0A-405C-A485-39F981DE6F1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d0036"/>
                </a:gs>
                <a:gs pos="50000">
                  <a:srgbClr val="004a9c"/>
                </a:gs>
                <a:gs pos="100000">
                  <a:srgbClr val="0d003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d0036"/>
                </a:gs>
                <a:gs pos="50000">
                  <a:srgbClr val="0d0d69"/>
                </a:gs>
                <a:gs pos="100000">
                  <a:srgbClr val="0d003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036"/>
                </a:gs>
                <a:gs pos="50000">
                  <a:srgbClr val="0d0d69"/>
                </a:gs>
                <a:gs pos="100000">
                  <a:srgbClr val="0d003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69"/>
                </a:gs>
                <a:gs pos="50000">
                  <a:srgbClr val="0d0036"/>
                </a:gs>
                <a:gs pos="100000">
                  <a:srgbClr val="0d0d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69"/>
                </a:gs>
                <a:gs pos="50000">
                  <a:srgbClr val="190056"/>
                </a:gs>
                <a:gs pos="100000">
                  <a:srgbClr val="0d0d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190056"/>
                </a:gs>
                <a:gs pos="50000">
                  <a:srgbClr val="0d0d69"/>
                </a:gs>
                <a:gs pos="100000">
                  <a:srgbClr val="19005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69"/>
                </a:gs>
                <a:gs pos="50000">
                  <a:srgbClr val="190056"/>
                </a:gs>
                <a:gs pos="100000">
                  <a:srgbClr val="0d0d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190056"/>
                </a:gs>
                <a:gs pos="50000">
                  <a:srgbClr val="0d0d69"/>
                </a:gs>
                <a:gs pos="100000">
                  <a:srgbClr val="19005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DE54-7479-4AAD-AEC3-5AEF07FB2B2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ormable models for medical image segment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r. Sc. Marko Subaši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8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bdominal aortic aneurys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largement of abdominal aorta due to weakened aortic wa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largement of aorta may lead to aortic wall rap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ful information can be obtained through imag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4267080" cy="3608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811480" y="4437000"/>
            <a:ext cx="1985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fur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526716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iac arteri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00720" y="242100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al arteri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12200" y="3716280"/>
            <a:ext cx="1843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aneurzs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64000" y="2214720"/>
            <a:ext cx="690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aor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bdominal aortic aneurys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urrent imaging gold standard is Computerized tomography – angiograph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is necessary to extract abdominal aorta from the rest of the abdomen in CT slices – segmentation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gmentation results can provide useful information about aneurysm shape, size etc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information is useful in diagnostics, procedure planning, and condition trac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69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gmentation of aortic interior and aortic wall is requir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gmentation of aortic interior is not a difficult task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gmentation of aortic wall is much more problemat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467480" y="259092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467480" y="4648320"/>
            <a:ext cx="1486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Segmentation of outer aortic border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cium sediments – calcifications – can appear inside aortic w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gh intensity in CT scans,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t still part of the aortic wa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some places aorta may touch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ing tissue making the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rder between them difficult to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tingu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also poses problem to radiologis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400800" y="2895480"/>
            <a:ext cx="2514600" cy="2446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19333200">
            <a:off x="7162920" y="3429000"/>
            <a:ext cx="457200" cy="3049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364000" y="2492280"/>
            <a:ext cx="1874880" cy="10130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34320" y="3657600"/>
            <a:ext cx="304560" cy="9907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156000" y="4191120"/>
            <a:ext cx="777960" cy="390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952880" y="5181480"/>
            <a:ext cx="335304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crease of segmentation tim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is desired to decrease number of necessary calculations, especially in 3-D ca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mit calculations only to DM segments that area actually moving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52920" indent="-458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DM has stopped at a certain point no further calculations need to be done for that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528920" indent="-3931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troduction of tracking algorithm for D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528920" indent="-3931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oints where DM has stopped are excluded from further calculatio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52920" indent="-458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rge decrease of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ecution time in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gmentation of tube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ke objects like aor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29200" y="5181480"/>
            <a:ext cx="31240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crease of segmentation tim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ulti resolution approa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10808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aling of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x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y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mens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10808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mension is not scal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caling by factor 2 in x and y dimension decreases number of points and number of calculations by 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fter segmentation has been finished at lower resolution it is continued at full resolution for several iter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10808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switching to full resolution function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is decreased by 1 to avoid spilling of D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gmentation of aortic interior is performed with 3-D DM and poses no significant probl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segmentation results can be used as initialization for aortic wall seg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segmentation of aortic wall knowledge of aortic wall and segmented aortic interior are us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hape of the aneurysm is difficult to predict but we can presume that the outer aortic border is  smoo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enters of mass of aortic interior and aortic wall should be nearb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-D deformable model used in seg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itional stopping criter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714760" y="4419720"/>
          <a:ext cx="5891040" cy="22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4419720"/>
                    <a:ext cx="589104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09480" y="2743200"/>
          <a:ext cx="772488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743200"/>
                    <a:ext cx="77248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ed fun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581280" y="3124080"/>
                <a:ext cx="23846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κ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839880" y="4191120"/>
                <a:ext cx="2176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∇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839880" y="4952880"/>
                <a:ext cx="23097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∇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σ</m:t>
                                    </m:r>
                                  </m:sub>
                                </m:sSub>
                                <m:r>
                                  <m:t xml:space="preserve">∗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402240" y="4191120"/>
                <a:ext cx="12034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κ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α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192560" y="4191120"/>
                <a:ext cx="8604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1" name=""/>
          <p:cNvGraphicFramePr/>
          <p:nvPr/>
        </p:nvGraphicFramePr>
        <p:xfrm>
          <a:off x="6400800" y="4876920"/>
          <a:ext cx="1905120" cy="15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876920"/>
                    <a:ext cx="190512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80880" y="4038480"/>
            <a:ext cx="8229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34320" y="2362320"/>
            <a:ext cx="1752480" cy="531720"/>
            <a:chOff x="6934320" y="2362320"/>
            <a:chExt cx="1752480" cy="53172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6934320" y="2362320"/>
                  <a:ext cx="175248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V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∇</m:t>
                          </m:r>
                          <m:r>
                            <m:t xml:space="preserve">Φ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"/>
            <p:cNvSpPr/>
            <p:nvPr/>
          </p:nvSpPr>
          <p:spPr>
            <a:xfrm>
              <a:off x="7812000" y="2724120"/>
              <a:ext cx="14292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formable mode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dominal aortic aneurysm (segmentation, problem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gmentation time redu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 approaches for AAA segmen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ult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1822680" cy="2236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1822680" cy="2236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895480" y="4419720"/>
            <a:ext cx="1822680" cy="2236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952880" y="4419720"/>
            <a:ext cx="1822680" cy="2236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7010280" y="2057400"/>
            <a:ext cx="1676520" cy="2236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7010280" y="4419720"/>
            <a:ext cx="18226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gmentation of aortic interior same as in the 1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pproach – 3D D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segmentation of aortic wall tracking of moving segments of DM is introduc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-D deformable model is us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acking of stretc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105520" y="5181480"/>
            <a:ext cx="1447560" cy="1400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438280" y="5305320"/>
            <a:ext cx="1187640" cy="1214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62520" y="5562720"/>
            <a:ext cx="685800" cy="457200"/>
          </a:xfrm>
          <a:prstGeom prst="rightArrow">
            <a:avLst>
              <a:gd name="adj1" fmla="val 50000"/>
              <a:gd name="adj2" fmla="val 54167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itional stopping criter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ing curve segment is bounded with stationary points – tracking of moving segments (merging and splitting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tension coefficien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pread coefficient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opping condi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716360" y="4005360"/>
                <a:ext cx="2286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-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716360" y="4581360"/>
                <a:ext cx="120348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-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716360" y="5445000"/>
                <a:ext cx="22845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&gt;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251320" y="5826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2920" y="5826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09480" y="45720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209680" y="45720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809880" y="45720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3809880" y="27432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2209680" y="27432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609480" y="27432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7010280" y="27432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5410080" y="27432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/>
          <a:stretch/>
        </p:blipFill>
        <p:spPr>
          <a:xfrm>
            <a:off x="7010280" y="45720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5410080" y="4572000"/>
            <a:ext cx="15242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gmentation of aortic interior and aortic wall using 3D D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opping of DM penetration into surrounding tissue in aortic wall segmentation – preproces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lice by slice reconstruction of outer aortic border with some information flow among neighboring sli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nstruction of aortic w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ventional methods are use to enhance outer aortic bor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reconstruction of weak outer border knowledge of aortic shape and aneurysm is utiliz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asi-convex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tance map and its gradient in radial direction is us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992320" y="3581280"/>
          <a:ext cx="3235320" cy="27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2320" y="3581280"/>
                    <a:ext cx="323532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cifications – sediments of calcium inside aortic w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y bright regions on CT slices – introduces inhomogeneity into aortic wall reg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be used in estimation of position of weak outer aortic bor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19320" y="5029200"/>
            <a:ext cx="1369800" cy="1639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895480" y="5029200"/>
            <a:ext cx="1370160" cy="16398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572000" y="5029200"/>
            <a:ext cx="1370160" cy="1639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6248520" y="5029200"/>
            <a:ext cx="1639800" cy="16398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7315200" y="3352680"/>
            <a:ext cx="1362240" cy="1417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457200" y="160020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2057400" y="160020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3657600" y="160020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9"/>
          <a:stretch/>
        </p:blipFill>
        <p:spPr>
          <a:xfrm>
            <a:off x="5257800" y="160020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0"/>
          <a:stretch/>
        </p:blipFill>
        <p:spPr>
          <a:xfrm>
            <a:off x="6858000" y="160020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1"/>
          <a:stretch/>
        </p:blipFill>
        <p:spPr>
          <a:xfrm>
            <a:off x="457200" y="3276720"/>
            <a:ext cx="1500120" cy="1555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2"/>
          <a:stretch/>
        </p:blipFill>
        <p:spPr>
          <a:xfrm>
            <a:off x="2057400" y="3276720"/>
            <a:ext cx="1500120" cy="1555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3"/>
          <a:stretch/>
        </p:blipFill>
        <p:spPr>
          <a:xfrm>
            <a:off x="3657600" y="3276720"/>
            <a:ext cx="1500120" cy="1555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4"/>
          <a:stretch/>
        </p:blipFill>
        <p:spPr>
          <a:xfrm>
            <a:off x="5257800" y="3276720"/>
            <a:ext cx="1500120" cy="1555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52280" y="4952880"/>
            <a:ext cx="87631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62720" y="304920"/>
            <a:ext cx="1911240" cy="2290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52280" y="4572000"/>
            <a:ext cx="1684440" cy="17524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5486400" y="4572000"/>
            <a:ext cx="1684440" cy="1752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7238880" y="45720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1905120" y="4572000"/>
            <a:ext cx="1684080" cy="1752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158760" y="2666880"/>
            <a:ext cx="1684440" cy="1752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7"/>
          <a:stretch/>
        </p:blipFill>
        <p:spPr>
          <a:xfrm>
            <a:off x="5486400" y="2666880"/>
            <a:ext cx="1684440" cy="1752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1911240" y="2666880"/>
            <a:ext cx="1684440" cy="17528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3657600" y="2654280"/>
            <a:ext cx="1765440" cy="1765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0"/>
          <a:stretch/>
        </p:blipFill>
        <p:spPr>
          <a:xfrm>
            <a:off x="7238880" y="2660760"/>
            <a:ext cx="1758960" cy="17589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1"/>
          <a:stretch/>
        </p:blipFill>
        <p:spPr>
          <a:xfrm>
            <a:off x="3657600" y="45720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2"/>
          <a:stretch/>
        </p:blipFill>
        <p:spPr>
          <a:xfrm>
            <a:off x="7219800" y="304920"/>
            <a:ext cx="19242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formable models are curves or surfaces defined within an image domain that can move under the influence of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internal forc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which are defined within the curve or surface itself, and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external forc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which are computed from the image dat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62120" y="3962520"/>
          <a:ext cx="7705440" cy="285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62520"/>
                    <a:ext cx="77054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3348000" y="1557360"/>
          <a:ext cx="5796000" cy="2324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1557360"/>
                    <a:ext cx="579600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gmentation of aortic interior and aortic wall using 2-D D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ortic interior: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edge based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er aortic boundary – aortic wall: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region based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lice by slice segmentation with information flow among neighboring slic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itional modifications to overcome problems in aortic wall segmen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itialization of DM in aortic interior segmentation using neighboring, already segmented sli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n-serial slice sequence in segmen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itialization in aortic wall segmentation using segmentation results of aortic interi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ed function in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region base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DM holds 5 term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stant speed term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stant expansion of D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vature based term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astic proper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09680" y="3124080"/>
                <a:ext cx="48006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λ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Φ</m:t>
                        </m:r>
                        <m:r>
                          <m:t xml:space="preserve">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63" name=""/>
          <p:cNvGrpSpPr/>
          <p:nvPr/>
        </p:nvGrpSpPr>
        <p:grpSpPr>
          <a:xfrm>
            <a:off x="7086600" y="2590920"/>
            <a:ext cx="1752480" cy="531720"/>
            <a:chOff x="7086600" y="2590920"/>
            <a:chExt cx="1752480" cy="531720"/>
          </a:xfrm>
        </p:grpSpPr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7086600" y="2590920"/>
                  <a:ext cx="175248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V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∇</m:t>
                          </m:r>
                          <m:r>
                            <m:t xml:space="preserve">Φ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5" name=""/>
            <p:cNvSpPr/>
            <p:nvPr/>
          </p:nvSpPr>
          <p:spPr>
            <a:xfrm>
              <a:off x="7964640" y="2952720"/>
              <a:ext cx="1425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012000" y="4005360"/>
                <a:ext cx="8046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084720" y="4869000"/>
                <a:ext cx="2221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κ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κ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κ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59054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rm that enforces curvature similarity of inner and outer aortic bord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age based component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nly similar pixels are allow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rm based on neighboring, already segmented sli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908680" y="2255760"/>
                <a:ext cx="30830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κ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κ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κ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κ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κ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κ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740640" y="3540240"/>
                <a:ext cx="172080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6137280" y="5160960"/>
                <a:ext cx="27478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Φ</m:t>
                        </m:r>
                        <m:r>
                          <m:t xml:space="preserve">±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1689120" cy="1638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124080" y="4952880"/>
            <a:ext cx="1689120" cy="1638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6934320" y="4952880"/>
            <a:ext cx="1689120" cy="1638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5943600" y="1600200"/>
            <a:ext cx="1219320" cy="16257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4495680" y="1600200"/>
            <a:ext cx="1219320" cy="1625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7391520" y="1600200"/>
            <a:ext cx="1218960" cy="16257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5029200" y="3276720"/>
            <a:ext cx="1689120" cy="1638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124080" y="3276720"/>
            <a:ext cx="1689120" cy="1638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6934320" y="3276720"/>
            <a:ext cx="16891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39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arison with manually corrected semiautomatic metho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an correlation coefficient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,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an relative error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5,39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andard deviation of relative error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9,68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5035680" y="2133720"/>
          <a:ext cx="3976560" cy="412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5680" y="2133720"/>
                    <a:ext cx="3976560" cy="41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 methods have been presented for segmentation of abdominal aortic aneurysm that require minimal user intervention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 four methods are based on geometric deformable mo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ods differ in a way of solving the specific problem of aortic wall segmen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ods have been tested on patient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ssible application of the methods is in diagnostics, procedure planning and condition track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 four methods do not function well in the presence of strong image degradation such as artifacts produced by metal parts of stent graft devi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t is not possible to use these methods in postoperative condition trac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st successful is the method that utilizes knowledge of aortic sha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internal forc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re designed to keep the model smooth during defor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external forces are defined to move the model toward an object boundary or other desired features within an ima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Ms often combine several image processing methods and incorporates prior information about object being segmen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bustness to both image noise and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smal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boundary gap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goal is to describe the object in the image using a mathematical mod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itial deformable model is deformed toward its final shape with the help of various fac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successful application in medical image segmen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ssible application in 2-D space and also in higher dimensional spa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AMETR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rst type of deformable mod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del is given in parametric for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blem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nable to segment complex objects in a straight forward mann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nable to change topolog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EOMETR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re recent d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volution of DM depends on geometric properties rather then parameter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lves problems of parametric D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hanges topolog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n model complex shap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ometric 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sed on curve evolution theory or minimization of energ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tilizes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level se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lgorith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curve is represented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mplicitly as a set of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zero valued poi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awback is higher complexity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ue to increased number of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ut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77120" y="2666880"/>
            <a:ext cx="1904760" cy="1900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72200" y="4876920"/>
            <a:ext cx="255420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ometric 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520" y="2209680"/>
          <a:ext cx="4876560" cy="30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4876560" cy="30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670720" y="3733920"/>
                <a:ext cx="26031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∇</m:t>
                        </m:r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676520" y="5334120"/>
                <a:ext cx="23223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dis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581800" y="4724280"/>
                <a:ext cx="29336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V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7391520" y="4648320"/>
            <a:ext cx="228600" cy="685800"/>
          </a:xfrm>
          <a:prstGeom prst="ellipse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1600" y="54100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difference between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arious model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13:03:47Z</dcterms:created>
  <dc:creator>ZESOI</dc:creator>
  <dc:description/>
  <dc:language>en-US</dc:language>
  <cp:lastModifiedBy>GOR</cp:lastModifiedBy>
  <dcterms:modified xsi:type="dcterms:W3CDTF">2004-07-20T10:35:37Z</dcterms:modified>
  <cp:revision>150</cp:revision>
  <dc:subject/>
  <dc:title>Deformabilni model za segmentaciju medicnskih slika</dc:title>
</cp:coreProperties>
</file>