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FBD0-9877-4138-8AB7-C382A4DEC72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BE6-8710-4943-AECD-55DC47AFCC3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0937-BDE8-4DA0-890A-3D2425A8A5F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F675-3382-4999-8E95-4D66BC26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C41-137B-4555-BCCA-BDDB65C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DC3-187C-467D-81D9-793C418B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E4A6-622E-4D8D-9BC7-B769552D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2F3-E669-4E78-AF93-3854D20A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9B5-B9A9-43A4-89B9-95A00CBA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016-3649-4910-9198-B1CA84EE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619-B326-41AC-916E-01017C29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D4A-50AC-4EB6-8A3E-90A17814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3DF-B5E8-47FE-AEC2-A84C773E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BC4-BC24-41E2-AE10-E3961F35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D5BD-5A1B-4A0F-AEDC-F981DEED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0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774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8C56-4FD1-4A1C-A553-7B705591B97F}" type="slidenum">
              <a:rPr b="0" lang="hu-HU" sz="1400" spc="-1" strike="noStrike">
                <a:solidFill>
                  <a:srgbClr val="a7744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68360" y="1557360"/>
            <a:ext cx="8207280" cy="468000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468360" y="260280"/>
            <a:ext cx="8207280" cy="1152720"/>
          </a:xfrm>
          <a:prstGeom prst="rect">
            <a:avLst/>
          </a:prstGeom>
          <a:solidFill>
            <a:srgbClr val="a77447"/>
          </a:solidFill>
          <a:ln cap="rnd" w="9360">
            <a:solidFill>
              <a:srgbClr val="76523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D9D-05C5-4359-AFB1-57C1082B935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da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468360" y="260280"/>
            <a:ext cx="8207280" cy="5977080"/>
          </a:xfrm>
          <a:prstGeom prst="rect">
            <a:avLst/>
          </a:prstGeom>
          <a:solidFill>
            <a:srgbClr val="cdb279"/>
          </a:solidFill>
          <a:ln w="9360">
            <a:solidFill>
              <a:srgbClr val="a784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1164-6125-41DD-A5AE-4847F23ED4B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goo.gl/rBfhS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Programozás I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gyakor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dattípu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gned/un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hort, int, long, long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loat, double, long do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interek és tömbök ( void*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union, stru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ogramozás alapjai és Programozá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B150-3E30-45B3-8FE9-7F3048F7A597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ain függvé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nt main(int argc, char *argv[], char *envp[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kezdő eljárás minden C/C++ program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araméter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gc: argument count, a parancssori paraméter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gv: argument vector, a parancssori argumentumok (string) címeit tartalmazó tö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dexelés 0-tól, utolsó argumentum után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vp: környezeti változók címeit tartalmazó tö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0758-A60D-46B7-87B6-36320D4CDA6D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dio.h – printf/sca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rintf(const char * format, ...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”Az %d annyi, mint öt”, 5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-Visszatérési érték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canf(const char * format, ... 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Példa: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=-1;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”Mennyi az x értéke?”);</a:t>
            </a:r>
            <a:br>
              <a:rPr sz="2600"/>
            </a:br>
            <a:r>
              <a:rPr b="0" lang="hu-HU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”%d”, &amp;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Visszatérési érték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138F-7577-450E-94AB-20F6158F679F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onverziós karakte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85880" y="1571760"/>
          <a:ext cx="7500960" cy="3857400"/>
        </p:xfrm>
        <a:graphic>
          <a:graphicData uri="http://schemas.openxmlformats.org/drawingml/2006/table">
            <a:tbl>
              <a:tblPr/>
              <a:tblGrid>
                <a:gridCol w="1865160"/>
                <a:gridCol w="5635800"/>
              </a:tblGrid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lenté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vagy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es egész szám (inte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begőpontos szám (flo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kter (ch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öveg (str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vagy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dományos (mantissza/expone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52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t % segítségével lehet megjeleníteni egy darab százalékjel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001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megjelenítésének pontossá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4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C873-E7A0-440A-827B-97F0B003426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zövegdoboz 7"/>
          <p:cNvSpPr/>
          <p:nvPr/>
        </p:nvSpPr>
        <p:spPr>
          <a:xfrm>
            <a:off x="500040" y="54291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intf(”Egy %s megevett %03d csirkét”, ”kutya”, 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Egy kutya megevett 012 csirké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dio.h – fopen/f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ILE *fopen(const char *filename, const char *mode)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nyitási módok: r – olvasás, w – írás, a – append, b – bináris, t – szöveges, stb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nt fclose(FILE *strea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LE *f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ile = fopen(”cseresznye.txt", "r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close(f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1327-7D7B-468D-A7A8-36890822E371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dio.h – fprintf/fsca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400" y="1599840"/>
            <a:ext cx="84294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 fprintf ( FILE * stream, const char * format, ...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</a:t>
            </a:r>
            <a:br>
              <a:rPr sz="28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t x =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printf( file, "%d cseresznye a fájlba.\n",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 fscanf ( FILE * stream, const char * format, ... 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8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n-NO" sz="24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n-NO" sz="2400" spc="-1" strike="noStrike">
                <a:solidFill>
                  <a:srgbClr val="000000"/>
                </a:solidFill>
                <a:latin typeface="Arial"/>
              </a:rPr>
              <a:t>fscanf( file, "%d", &amp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4CB8-6449-4F87-A2E3-4FF1CE062BAA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araktertömb, melynek végét \0 jel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#include &lt;string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után használható függvény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_t strlen( const char *s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araméterként kapott string méretét adja vissza (\0 karakter előttig számol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cpy( char *s1, const char *s2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2 string tartalmát az s1 karaktertömbbe máso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ncpy( char *s1, const char *s2, size_t n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2 stringből (legfeljebb) n számú karaktert másol s1-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9EB-7C7A-4EBF-A598-4FE63A4014B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cat( char *s1, const char *s2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2 string tartalmát hozzáfűzi s1-hez (s1 végi \0-t törli, és a hozzáfűzött s2 végére tesz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ncat( char *s1, const char *s2, size_t n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 karaktert fűz s1 végéhez s2-b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chr( const char *s,  int c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tringben a megadott c karakter legelső előfordulására mutató pointert ad vissza. (NULL, ha nem fordul elő ben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rchr( const char *s,  int c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gadott c karakter utolsó előfordulására mutató pointert ad vissza. (NULL, ha nem fordul elő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C34D-F6BF-4850-B514-1AB930B4067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 strcmp( const char *s1, const char *s2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hasonlítja s1 és s2 stringet. Visszatérési értéke 0, ha a két string egyforma. &lt;0, ha s1 &lt; s2.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&gt;0, ha s1 &gt; s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 strncmp( const char *s1, const char *s2, size_t n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cmp-hez hasonló, az első n karaktert vizsgá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 *strstr( const char *s1,  const char *s2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s2 string előfordul s1-ben, az s2 kezdetére mutató pointert ad vissza. NULL külön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har *strrev( const char *s1)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fordítja a string tartalm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A75C-7AF0-4A46-96F2-0F95FCD9BCAE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ABDB-B39E-438B-A745-9BE307253C14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Elérhetősége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ntal Gá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mail: antal@inf.u-szeged.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eblap: http://inf.u-szeged.hu/~a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ogadóó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marosan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előzetes egyeztetés alapján bármik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akorlatok időpontj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akorlattal kapcsolatos email-ek </a:t>
            </a:r>
            <a:r>
              <a:rPr b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csa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studos e-mail cím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57360"/>
            <a:ext cx="82296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2 kötelező program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Igen/Nem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őre megadott listából kap majd mindenki feladat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Első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október 15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Arial"/>
              </a:rPr>
              <a:t>Második felad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900" spc="-1" strike="noStrike">
                <a:solidFill>
                  <a:srgbClr val="000000"/>
                </a:solidFill>
                <a:latin typeface="Arial"/>
              </a:rPr>
              <a:t>Beadás</a:t>
            </a:r>
            <a:r>
              <a:rPr b="0" lang="hu-HU" sz="1900" spc="-1" strike="noStrike">
                <a:solidFill>
                  <a:srgbClr val="000000"/>
                </a:solidFill>
                <a:latin typeface="Arial"/>
              </a:rPr>
              <a:t>: november 19. 08:00, CooSp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Gyakorlati vizsga (</a:t>
            </a: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100 pont / 50 pont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megadott program elkészítése (2 ó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olsó két hétben legalább egyszer el kell me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javítási lehetőség, minimum pontszámé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9283-300C-4117-A393-8A1940E9CFB0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70A2-867C-4E46-B0EE-BD6143C7B88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ok látogatása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TEL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ttőnél több igazolatlan hiányzás esetén a kurzus nem teljesítettnek minős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gazolásokat a hiányzást követő első órán kell bemutatni az oktatónak (vagy fogadóórán) – később bemutatott igazolás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kerül elfogadás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yakorlaton szerezhető pluszpontok nem számítanak bele a minimum pontszá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adásra járni kötelez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élév során 3 db kisdolgozat, az előadások vég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darabot lehet javítani/pótolni, az utolsó előadá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16DC-6D12-4EA4-A626-F36047F97EB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4437000"/>
          <a:ext cx="7417080" cy="1482840"/>
        </p:xfrm>
        <a:graphic>
          <a:graphicData uri="http://schemas.openxmlformats.org/drawingml/2006/table">
            <a:tbl>
              <a:tblPr/>
              <a:tblGrid>
                <a:gridCol w="1812960"/>
                <a:gridCol w="1979640"/>
                <a:gridCol w="1811520"/>
                <a:gridCol w="18129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á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érhető p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im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0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od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ad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óber 3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Javít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lőadás kisdolgoz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 javítható/pótolható,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teljes pontszám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ovábbi kérdés, kérés, probléma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lőa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avalyi pontok áthozása (aki érintet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goo.gl/rBfh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ötelező program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javítható/pótolhat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Gyakorlati vizs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 javítható, minimum pont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470C-14C0-46FE-8EF4-ACB63C55B82C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5662-9D17-4DE9-87A7-063FDC007073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orlaton szerezhető pontok: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llokviumon szerezhető pontok: 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85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75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64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e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gt;= 50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égsé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&lt; 50%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átum helye 3"/>
          <p:cNvSpPr/>
          <p:nvPr/>
        </p:nvSpPr>
        <p:spPr>
          <a:xfrm>
            <a:off x="0" y="6524640"/>
            <a:ext cx="5651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Szegedi Tudományegyetem Természettudományi és Informatikai K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Élőláb helye 4"/>
          <p:cNvSpPr/>
          <p:nvPr/>
        </p:nvSpPr>
        <p:spPr>
          <a:xfrm>
            <a:off x="5796000" y="6524640"/>
            <a:ext cx="172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77447"/>
                </a:solidFill>
                <a:latin typeface="Arial"/>
              </a:rPr>
              <a:t>Antal Gá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ia számának helye 5"/>
          <p:cNvSpPr/>
          <p:nvPr/>
        </p:nvSpPr>
        <p:spPr>
          <a:xfrm>
            <a:off x="7596360" y="6524640"/>
            <a:ext cx="15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864B-ADD8-4F41-AA89-4C9DB5B37772}" type="slidenum">
              <a:rPr b="0" lang="hu-HU" sz="1400" spc="-1" strike="noStrike">
                <a:solidFill>
                  <a:srgbClr val="a7744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rodal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Herbert Schildt: C/C++ Referenciakönyv Panem Kft Budapest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Scott Meyers: Hatékony C++, ISBN:  9639193828, Scolar Kiadó Budapest, (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d0d0d"/>
                </a:solidFill>
                <a:latin typeface="Arial"/>
              </a:rPr>
              <a:t>Bjarne Stroustrup: A C++ Programozási nyelv I-II.</a:t>
            </a: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, ISBN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9789639301191</a:t>
            </a: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, Kiskapu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https://buckysroom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d0d0d"/>
                </a:solidFill>
                <a:latin typeface="Arial"/>
              </a:rPr>
              <a:t>pub/Programozas-I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d0d0d"/>
                </a:solidFill>
                <a:latin typeface="Arial"/>
              </a:rPr>
              <a:t>https://www.tutorialspoint.com/c_standard_library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Ismét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NSI C, 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1T21:15:37Z</dcterms:created>
  <dc:creator>hapci</dc:creator>
  <dc:description/>
  <dc:language>en-US</dc:language>
  <cp:lastModifiedBy>kutyamutya</cp:lastModifiedBy>
  <dcterms:modified xsi:type="dcterms:W3CDTF">2018-09-05T13:31:59Z</dcterms:modified>
  <cp:revision>98</cp:revision>
  <dc:subject/>
  <dc:title>1. dia</dc:title>
</cp:coreProperties>
</file>