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C54-5350-4A8C-ABA3-CF3DD9F2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8C8-617E-4EC1-8DB4-0CF9993C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EAA-4789-4CB7-B8F4-178453F3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036-CE05-43E8-80FF-7C43D3E7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594-746D-4D91-B1C8-1CB7B70D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DFB-65F1-4AFB-AD6C-456EB0DF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846-F095-4694-BF37-5CE09DBD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21B-7D4E-4697-8B82-988302DB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0A9-FB99-4114-9BC7-82F504B7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E79-F3FB-47C7-A4CC-C0F73C3C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B3C-7264-4C52-9C59-E41BB71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65A-374C-4453-A437-C7443528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86E6-509E-4341-8439-342B9A1525E0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A9A3-981B-42C9-A4E6-3FF5466A24F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8F97-5437-4BCF-8C39-53204F4FB8F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hort-circuit_evaluation" TargetMode="External"/><Relationship Id="rId2" Type="http://schemas.openxmlformats.org/officeDocument/2006/relationships/hyperlink" Target="https://en.wikipedia.org/wiki/Short-circuit_evaluation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Logikai művel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amp;&amp; kif2 : logikai 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|| kif2 : logikai va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! kif : logikai tag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áu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 a=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f( ( a%10 == 8 ) || (2*a &gt; 10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”az a megfelelő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0996-CB33-4814-9462-D51CE37839A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Relációs művel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== kif2 : egyen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!= kif2 : nem egyen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lt; kif2 : kise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gt; kif2 : nagyo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lt;= kif2 : kisebb-egyen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gt;= kif2 : nagyobb-egyen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hort-circuit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n.wikipedia.org/wiki/Short-circuit_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57DE-BE07-4117-9C41-BA1B66CF75C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bitszintű művel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~kif : komplemens képzés (bitenkénti negál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gt;&gt; kif2 : bitléptetés job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lt;&lt; kif2 : bitléptetés bal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amp; kif2 : bitenkénti és műve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| kif2 : bitenkénti vagy műve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^ kif2 : bitenkénti kizáró va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4D3A-086F-40C2-91AE-D2246402933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Értékadó művel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áltozó = kif -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érték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=, -=, *=, /=, %= -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űvelettel egybekötött érték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&gt;&gt;=, &lt;&lt;=, &amp;=, ^=, |=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- művelettel egybekötött érték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ul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 x = 8;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x += 2;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//x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C362-8A30-4952-8BAA-AE12521E553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Inkrementál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efix operát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++kif, --kif : kif inkrementálása (dekrementál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térési értéke a növelt 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stfix operát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++,  kif-- : kif inkrementálása (dekrementál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térési értéke a növelés előtti érték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x = 0, y = 1;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x = ++y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x = 2, y = 2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x = y++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x = 2; y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0C72-AA04-45A2-9CE2-1FDEC64B982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ord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A528-18F0-4D95-98AD-36F6D032CE3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Kép 6" descr=""/>
          <p:cNvPicPr/>
          <p:nvPr/>
        </p:nvPicPr>
        <p:blipFill>
          <a:blip r:embed="rId1"/>
          <a:stretch/>
        </p:blipFill>
        <p:spPr>
          <a:xfrm>
            <a:off x="1508040" y="1773360"/>
            <a:ext cx="61261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ordítóprogram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ual Studio, c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cc, g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L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lang, clang+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868E-97BA-40F4-9269-9479014B864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uild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ordítás, link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gramozás alap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gyenes, nyílt forrás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ttps://cmake.org/cmake-tutoria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i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ttps://ninja-build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FBD3-0B12-4380-8BCC-53644E7B640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5736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 kötelező program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gen/Ne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őre megadott listából kap majd mindenki feladat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ső felad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Beadás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: október 15. 08:00, Coo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ásodik felad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Beadás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: november 19. 08:00, Coo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akorlati vizsga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100 pont / 50 pon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megadott program elkészítése (2 ó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olsó két hétben legalább egyszer el kell me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javítási lehetőség, minimum pontszámé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E669-9324-4155-BECA-BE7F1C889DE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-orientált program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gramozási paradigma, amelyben a programot objektumokból építjük fel. A program működése objektumok kommunikációját jel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elv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égbezá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limorf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6FF6-4880-4470-BD3C-3F280AF9B11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-orientált program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Osztál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Leírás objektumok csoportjához, melyeknek közösek 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tribútumai, operáció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 objektumokkal való kapcsolat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elkedés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sztály az objektum típ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hetséges állapotok halm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EAA1-098F-4CE9-B49A-E360BD14958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-orientált program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Objektu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Információt tárol, és kérésre műveleteket végez. Van állapota, viselkedése, futásidőben azonosíthat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bjektum az osztály példá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a lehetséges állapotok köz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606A-3BA4-4731-8E3E-51246AF3C94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-orientált program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artalom helye 6" descr=""/>
          <p:cNvPicPr/>
          <p:nvPr/>
        </p:nvPicPr>
        <p:blipFill>
          <a:blip r:embed="rId1"/>
          <a:stretch/>
        </p:blipFill>
        <p:spPr>
          <a:xfrm>
            <a:off x="900000" y="1569960"/>
            <a:ext cx="7344000" cy="4751640"/>
          </a:xfrm>
          <a:prstGeom prst="rect">
            <a:avLst/>
          </a:prstGeom>
          <a:ln w="0">
            <a:noFill/>
          </a:ln>
        </p:spPr>
      </p:pic>
      <p:sp>
        <p:nvSpPr>
          <p:cNvPr id="11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0D67-9B38-4FD5-8760-4F0409DE16F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Egységbezárás, öröklődés, polimorfiz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ségbezár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z adatok és rajtuk végzett műveletek egységbezárása osztályokba. Az objektum egységbe zárja az állapotot (adattagok értéke) a viselkedésmóddal (metóduso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Öröklődé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Osztályok között értelmezett viszony, egy általános típusból egy specializáltabb típust tudunk létrehozni (ősosztály, gyerekosztály). A gyerekosztály mindent örököl az őstől, azt saját adatokkal és műveletekkel egészíthetjük 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olimorfizmu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Többalakúság, objektumok felcserélhetőségét biztosítja; egy típust az őse alapján kezelj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FAC7-5E21-47FB-BC9F-06DCB99B93A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verloading/Overr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tódus túlterhelés (overloading)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onos nevű, de különböző paraméterlistával rendelkező függvény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tódus felüldefiniálás (overriding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A gyerekosztályban felüldefiniálhatjuk az ősosztályban definiált függvény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ősosztály típusú mutatón vagy referencián keresztül érjük el az osztályhierarchia példányait és ezen keresztül meghívjuk a felülírt metódust, akkor futási időben dől el, hogy pontosan melyik metódus kerül meghívásra. (kései kötés / late bind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2378-A244-4397-8BC9-572718A033E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Aritmetikai művel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+ kif2 : össze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– kif2 : kivon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* kif2 : szor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/ kif2 : osz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% kif2 : maradékos osz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kif : ellentett kép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F128-B5A6-49FD-BFBB-E50068FA82A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8-09-12T13:52:19Z</dcterms:modified>
  <cp:revision>118</cp:revision>
  <dc:subject/>
  <dc:title>1. dia</dc:title>
</cp:coreProperties>
</file>