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1251-D15D-4D27-8893-F9D7E33D7CD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F3D6-C0AE-4F01-8AD3-066C95C1482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609-F076-4D31-917F-074CCF14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D9C-DE70-4EAF-B54F-26A394FA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1C5-4CBC-499D-B3AC-C9263191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D9D-2A9B-4A49-A123-92ACBDA1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836-2BC0-45AC-A01A-FC67ED15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F6D-0124-4EBB-89D3-EB903A27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D0E-B91A-40C6-87EC-6481ECCB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532-FEE1-4885-BC97-91E8DE0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7C1-4926-4157-AFC9-9D2758CD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9FA-FC8D-412E-8CA7-DBC512D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A80-0672-48B0-A0D9-A4085EF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B36-970B-4C14-9EA2-85035B7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BDDA-0D0C-4E91-8737-9CB966C84CF5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7ED-E759-45AF-995B-B080895C405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4685-EBA9-49A0-B0C6-A864AC1AE72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++ ú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bjektum-orientáltsá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évt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orrásfájlokat névterekbe rendezhetjü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ierarchikus tárolási mód (névtérben lehetnek újabb névterek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üggetlen a fájlok fizikai helyétő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using paranccsal kijelölhető, mely névtereket használju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 - az alapvető i/o műveletek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d::c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326A-75A7-4162-95B9-915E04D193A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++ ú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oros komment (C-ben csak /* *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 Komment egyenértékű: /* K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r-beli ciklusváltozó létrehozása és inicializálása a for cikluso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for ( int i=0; i &lt; 10; i ++ 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blok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ool típu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C-ben false = 0, true = minden má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ool igaz = true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értéke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ool hamis = false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értéke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AAD-DE78-4D29-BDCD-EE48BF4047E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/O műve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-s megfelelője az stdio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vető input/output műveleteket tartalma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out, cerr – Alapértelmezett (hiba)ki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eam (bájtok sorozata), melyeket &lt;&lt; operátorral „köthetünk össz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”Hello World” &lt;&lt; ”!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in – Alapértelmezett be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nen olvas, változó típusának megfelelő érté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&gt;&gt; operátorral használható, akár több beolvasásra is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x, y;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in &gt;&gt; x &gt;&gt;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1256-FF3A-44F7-8DB4-14116D7EEC7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fault paramét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üggvények paramétereine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apértelmezett értéke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 adhatunk, de ezeknek a paraméterekne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paraméterlista végé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ell lenniü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kevesebb paraméterrel hívjuk meg a függvényt, az alapértelmezettek megkapják az előre beállított érté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nagyobb (int a, int b = 0) {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return (a &gt; b) a : b;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x = nagyobb (2, 3)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y = nagyobb (2)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 y = 2, ugyanaz, mint a nagyobb(2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1D6F-7FCB-4C6B-BC79-DBD0CDA4CF5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 létreh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ulcsszóval definiáljuk az osztályt, melyet az osztály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ev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v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{ } – blokkban definiáljuk az osztály adattagjait, függvényeit, st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ntos, hogy az osztályt egy ; jel zár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lass SimpleClass {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//…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76AE-4AA9-4293-9FC5-4A7F18AA037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sztályok adattagjainak és függvényeinek kívülről való elérhetőségét szabályozhatj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z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apértelmeze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láthatóság. Csak osztályon belül hivatkozhatunk 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osztályon belül, és származtatott osztályokból érhető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bárhonnan elér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hatóság megadá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adjuk a láthatóságot, majd egy kettőspont (:) karaktert teszünk. Minden tag, amit ez után definiálunk ezt a láthatóságot fogja megkap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65B-4860-4B49-A7FF-2DBABF82AFF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impleClas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oo(){ //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foo2(int b) { //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E6AB-4F80-4BA6-9421-68CADDFAF99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8-09-19T13:51:52Z</dcterms:modified>
  <cp:revision>150</cp:revision>
  <dc:subject/>
  <dc:title>1. dia</dc:title>
</cp:coreProperties>
</file>