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805-FB11-4954-90C6-0E057777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953-FD4E-4816-9750-A38EB6A2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E52-9F00-4683-A5F4-DBE607CA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2DB-3797-4752-919B-1A78B9BD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1EA-342C-4A28-9D15-09C745B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7ED-7C7F-4AB1-90B1-F5C3532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2CD-E9F9-4032-919A-7D88016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7F4-39B9-4675-A06B-8A08B6B6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C61-93ED-496F-A26E-8C1A60A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718-4DF9-4E3E-BA4D-6CA55A3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0F1-54C6-444D-B709-1101F07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814-9612-41F0-A213-B84BF99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B796-FA82-48DB-8239-5DBAA46BA369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B87-7E26-45DE-A4DC-39BB52CE36A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8B23-D05C-4AB0-AEC7-7F79FB0CB1B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eader fáj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iníciós és implementációs rész szétválasz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láthatóság, kereskedelem miatt is fonto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 forrásfájlok (header, source rés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ader fájlokban tároljuk az adattagokat, valamint a függvények definícióit. (Valami.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mplementációt egy másik fájlban (Valami.cpp) írju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477B-548E-47D9-BB48-8CC5EC9E94B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z létre egy Film osztályt, mely tárolja a film címét, a producer nevét, a forgatás időpontját, és hogy mekkora bevételt generá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ztosíts az osztályhoz getter és setter függvényeket, válaszd el az interfészt a megvalósítás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063B-50D2-4E46-A9EE-EC8FE8CD920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múlt órár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cska oszt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ávo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ault paraméter érték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d név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1CE7-2DBC-4D4F-BD86-C321833A458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tüntetett metódus, amely az osztál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nál fut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véne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 kell egyezni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sztály nevé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lehet visszatérési érté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esetben itt inicializáljuk a változókat, a dinamikus változóknak helyet foglalunk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osztályna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ehet több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struktora, de különbözniük kell a paraméterlistájuk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 nélküli konstruktor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k nevez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egy osztályna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emmilyen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struktor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kkor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ordító készít eg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44A3-4F19-4C10-840C-1F88659ADEB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tüntetett metódus, amely az objektum törlésénél fut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inamikusan allokált memória felszabad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ájlok lezá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vének meg kell egyeznie az osztály nevével, de a név elé egy ~ jelet kell t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visszatérési értéke és paraméte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2D6-758D-4CF2-B9F8-2085300E47E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lass OneParamet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 m_iParame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neParameter() {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default konstru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_iParamete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neParameter( int a ) {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paraméteres konstru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_iParameter 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~OneParameter()  {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destru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Nincs dinamikusan foglalt erőforrásunk melyet fel kellene szabadí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153-902C-41AC-8F8B-8EB89C7987B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his po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tuális objektumr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utató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pointer, ezért a -&gt; kell hivatkozni az adattagokra, függvények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, amikor egy függvény paraméter listájában egy változó neve megegyezik az egyik adattag nevével, ilyenkor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sel tudunk különbséget te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lass Oszta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ate: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sz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fgv(int szam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is-&gt;szam = szam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17C6-5B00-41F0-9248-0FFF4B121FF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ok példányo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bjektumokat létrehozhatunk a stacken, illetve a heape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lettarta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 blokk végé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mória felszabadí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utomat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lettarta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meddig fel nem szabadít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mória felszabadí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kéz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E269-D070-4C74-93CC-30F1D50F40E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ck-en, default konstrukt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 el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ck-en, paraméteres konstruk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 masodik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ap-en, default konstrukt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harmadik = new PeldaOszta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ap-en, paraméteres  konstruk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negyedik = new PeldaOsztaly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8F08-50DA-4145-BD24-99E3A75DEC7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it new-val foglaltunk le, azt delete-tel törölni k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emóriát fel kell szabadítani (nincs Garbage Coll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harmadik = new PeldaOszta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negyedik = new PeldaOsztaly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ete harmad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ete negyed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9268-EB4E-4FB1-B461-549511D18CB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09-27T11:50:34Z</dcterms:modified>
  <cp:revision>172</cp:revision>
  <dc:subject/>
  <dc:title>1. dia</dc:title>
</cp:coreProperties>
</file>