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AE0D-0E15-4357-A382-A40A5FBDBCD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9EF2-CE24-4B64-9F6E-396B59A27AF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31B-B653-4B45-B618-68D0AC42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3B4-140A-4D69-93D6-5DA080C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05A-F913-4125-824F-B28AE943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6A1-FF7D-45C6-81AE-3267267F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516-C33E-49D7-90B2-DE204D50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C3E-1A07-4D61-816F-DEEBA296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87F-B57A-463E-B8BE-E2B8350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FA8-724B-4D4F-9B64-26B6A74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19E-4CC0-41B1-8E06-EB3C45C0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4A7-4680-4D5A-8D2A-B3D5380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1FB-C9FC-417A-B89F-2301191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1D2-2FF3-41D4-99D0-1C9BD7F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CC59-978D-456F-A6E0-198DF354DD09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08D-7A97-4CD4-A81D-2502E26B08E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6400-9CB8-44D0-88FB-CBB73BC09C5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5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Referencia szerinti paraméteráta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on hasonlít a pointer szerinti paraméter átadás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C++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m te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ülönbséget referencia és érték paraméter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tehetjük meg, hogy ugyanolyan névvel létrehozunk kettő függvényt, úgy, hogy az egyik paramétere egy referencia, a másiké egy érté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033-C30B-4231-BC55-E2DF138BB69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43308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&amp;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F42-E9AD-40E9-92FB-C42310BA3D0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artalom helye 2"/>
          <p:cNvSpPr/>
          <p:nvPr/>
        </p:nvSpPr>
        <p:spPr>
          <a:xfrm>
            <a:off x="5219640" y="1557360"/>
            <a:ext cx="33861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void fgvNovel( int*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(*a)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fgvNovel( &amp;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namikus tömböknek memóriát a new-val kell lefogla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* arr = new int[ size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ajatOsztaly* sajat = new SajatOsztaly[ size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ez csak akkor működik, ha van default konstruk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öket a delete[] operátorral törörülj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te[] arr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te[] saj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140-E31E-4596-994C-F9E66BDE30D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- name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függvény vagy osztály írásakor könnyen előfordulhat, hogy az általunk választot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v ütközi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meglévő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évterek felhasználásával a különböző definíció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vhierarchiáb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ervezhetőek. Í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ogikai csoportosítás is elérhető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vterekke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tszőleges mélységű névtér hierarchi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kítható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kezdett névtér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olytathat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kár külön másik forrás file-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nos névtérben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 lehe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egyforma definíció (osztály, függvény, változ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21A-5A13-4632-A1D4-185FF4FA1D7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mespace Math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ComplexNu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PositiveNu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mespace House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Kitchen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Roo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237-38B7-4BB7-A1CD-A8F974B770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évterek elérési útja programoz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vtér feloldó operátor (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cope operá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:    std::c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eljes elérési utat meg kell adni, ha az elérni kívánt tag több névtérbe van beágyaz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use::Room::Bed b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2847-E56C-43A5-87D9-F9070823210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hhoz, hogy ne kelljen minden alkalommal kiírni a teljes elérési útvonalat, a névteret használni k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után használhatjuk úgy az adott tagot, mintha a saját névterünkben l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Ma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mplexNum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House::Ro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d b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293-A581-4913-9DFC-2DA4441B7C2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 értelmezett visz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általánosabb típus felől (ős) haladunk egy speciálisabb típus felé (gyerek-, leszármazott-, utódosztá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okat, műveleteket, viselkedésmódot örökö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egészíthetjük saját adatokkal, műveletekk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ülírhatunk bizonyos művel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 újrafelhasználásának egyik mód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es és többszörös 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C9B-016E-4A07-8E19-E35D3298031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ss ChildClass : visibility ParentClass{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erekosztály konstruktorában meg kell hívni az ős osztály konstruktorát a következőké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ildClass( int param) : Parent( param )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111-D376-445A-A360-98022DEC95D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múlt órá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cska oszt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ávo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nyosítás stack/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in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ault paraméter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d név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5D5-D1C4-4F7E-B460-9EDE269CA6C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hatóság használatával csak szigorítani lehet az öröklődé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048-C821-4AEB-93DB-910278F5562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58920" y="2997360"/>
          <a:ext cx="676908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1542960"/>
                <a:gridCol w="165600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szörös 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egy, hanem több osztályból örököltetü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hildClass: visibility Parent1, visibility Parent2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yerek konstruktorában meg kell hívni az ősosztályok konstuktorá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Class( int param) : Parent1( para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ent2( param)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785-AB1A-4CC7-8123-E06FCD6A0B7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s adattago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ősosztály minden adattagját elérjük (kivéve a private láthatóságúak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 már felüldefiniáltunk egy metódust, és a metódust az osztályon belül bármilyen prefix nélkül használjuk, akkor a felülírt metódus fog meghívód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zont ha ilyen esetben az ős osztály metódusát szeretnénk használni, akkor meg kell adni az elérési útvonal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entClass::methodName(para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FD41-FF18-491C-AB73-692C0B74797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opy k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bjektum másolásakor használ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origo(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p2 = orig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p3(orig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rdító létrehoz egy copy konstruktort, ha mi nem csinál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miért nem jó min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F7B-D23A-4789-B450-328C3948FCE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méter átadá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féle módon adhatunk át paramétereket a függvényeink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 szerint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ím szerint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*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ferencia szerint (Java, C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&amp;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326-E103-4533-9F3F-E8536FB0814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rték szeri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araméter érték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emásolódi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eremb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függvény hívás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belsejébe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zz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változóval (objektummal) dolgoz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végén ezek a változók (objektumok)  automatikus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lszabadulna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ltsége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létrehozás, másolás, felszabad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C0B-933A-47F0-AB7E-350243A52AD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BA98-1A79-432A-ABF3-BFD8007F47A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ím szerinti paraméterát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tozó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ásolódik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en belül az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redet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áltozóval (objektummal) dolgoz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végrehajtása utá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abadulnak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pointert állítunk a változóra és ezen keresztül érjük el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létrehozási, másolási, felszabadítási köl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C09E-31C1-4389-BCC3-39BCB09774A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*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*a)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&amp;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37D9-315A-421C-8E98-C12BA19D412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artalom helye 2"/>
          <p:cNvSpPr/>
          <p:nvPr/>
        </p:nvSpPr>
        <p:spPr>
          <a:xfrm>
            <a:off x="4427640" y="1557360"/>
            <a:ext cx="417672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void fgvNovel( int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gyenes összekötő 11"/>
          <p:cNvSpPr/>
          <p:nvPr/>
        </p:nvSpPr>
        <p:spPr>
          <a:xfrm>
            <a:off x="4284720" y="1773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Referencia szerinti paraméteráta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interek nehézkes használata miatt vezetté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sonló a pointerhez, de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tt nem kell képezni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tozó címét, közvetlenül a változóra mutat 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kell gondolkodni, hogy a pointer címét akarjuk, vagy a mutatott értéket, st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gszorít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ferenciát létrehozáskor inicializálni kel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lehet belőle tömböt képe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ferenciaképz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&amp; je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&amp; b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3B6-ADE8-4A5A-9CB6-7370527A99D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0-04T11:51:44Z</dcterms:modified>
  <cp:revision>179</cp:revision>
  <dc:subject/>
  <dc:title>1. dia</dc:title>
</cp:coreProperties>
</file>