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8B3D-8F47-4ECB-8DD2-E4D62283C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C521-E756-4231-8F57-324FC148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E7BC-AC74-4E07-BB45-9D32A3B2F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B04D-A632-4D05-B81D-76C63A4E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1DF4-4601-46A6-B734-40761B08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8019-E488-4E2C-82E2-647F46B2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6DE1-2625-4625-8142-29511279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6F90-BE4E-49B6-B363-FBF34D65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7026-BB51-4C2D-B355-5F3DEF3F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EFCA-1EF7-41D9-96B7-8B73C9DF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6091-C8F1-41E6-AD0C-7B5450ED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745C-6974-4501-967D-E5862DA2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a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9600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B634-B562-4156-AEE9-FF3A8BC44A51}" type="slidenum"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68360" y="1557360"/>
            <a:ext cx="8207280" cy="4680000"/>
          </a:xfrm>
          <a:prstGeom prst="rect">
            <a:avLst/>
          </a:prstGeom>
          <a:solidFill>
            <a:srgbClr val="cdb279"/>
          </a:solidFill>
          <a:ln w="9360">
            <a:solidFill>
              <a:srgbClr val="a78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468360" y="260280"/>
            <a:ext cx="8207280" cy="1152720"/>
          </a:xfrm>
          <a:prstGeom prst="rect">
            <a:avLst/>
          </a:prstGeom>
          <a:solidFill>
            <a:srgbClr val="a77447"/>
          </a:solidFill>
          <a:ln cap="rnd" w="9360">
            <a:solidFill>
              <a:srgbClr val="76523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0369-005F-4DFD-90F1-B1DED8A23033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6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7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a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468360" y="260280"/>
            <a:ext cx="8207280" cy="5977080"/>
          </a:xfrm>
          <a:prstGeom prst="rect">
            <a:avLst/>
          </a:prstGeom>
          <a:solidFill>
            <a:srgbClr val="cdb279"/>
          </a:solidFill>
          <a:ln w="9360">
            <a:solidFill>
              <a:srgbClr val="a78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A3C9-7154-4474-8797-52CBECEB449A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rogramozás I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6. gyakor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onstans pointere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3 fajtája létezi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a a const kulcsszót a 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típus elé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szük, akkor a mutatott érték lesz konst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har t[ 3 ] = { 'a', 'b', 'c' 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st char* p1 = 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// *p1 = 'a'; FORDÍTÁSI HI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1++; // Itt a mutatott érték nem változik, mert még mindig a t-re mutat a p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4E93-DB20-4955-8DF2-8150EBD1B2D3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onstans pointere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a a const kulcsszót a változó neve elé írjuk, akkor a változó lesz konsta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har* const p2 = 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p2 = 'd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// p2++; FORDÍTÁSI HI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4E58-4904-4D66-9BE0-3457B5CC1D62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onstans pointerek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előző kettő kombinációjábó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st char* const p3 = 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// *p = 'd'; FORDÍTÁSI HI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// p++; FORDÍTÁSI HI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BE81-127B-4AE6-BC95-66637A1D23C5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onstans függvényparaméte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gy függvény paramétere is lehet konstans, de ebben az esetben a függvényen belül nem változtathatjuk meg értéküket (fordítási hib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él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oid fuggveny( const int a 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++;// FORDITASI HI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5475-7C5F-441F-BED6-84DB8F3B424D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onstans visszaadott érté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egtehetjük, hogy olyan értéket adunk vissza függvény visszatéréskor, ami konstans (így nem lehet azt megváltoztatn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Általában akkor használjuk, ha valamilyen osztály adattagot adunk vissza pointer vagy referencia formáb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0189-7DAD-4C50-98C0-BEFA33F2B75E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onstans visszaadott érté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él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lass Simple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iv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uble* arra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/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 double*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tArray()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turn arra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91C9-1228-4FFD-A2C9-F3FC60BD3E2F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onstans függvény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lyan függvények, amelyek nem változtatják meg az objektum állapot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paramétereket lezáró zárójel mögé kell írni a const kulcsszó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ipikusan getter metódus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5931-B45D-4855-A76F-6375938F2680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onstans függvény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él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lass Simple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iv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uble* arra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/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 double*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tArray() cons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turn arra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1F68-CE97-4E59-9160-19A5D764C376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onstans osztály adatt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sztály definíción belül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lo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 változóknak értéket adni (kivéve static const int/cha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++11 újdonsá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zért a konstans osztály adattagokat a konstruktorban kell inicializálni „függvényes” módszerr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class Simple {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const int m_ia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const double m_db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Simple() : m_ia( 10 ), m_db( 5.5 ) { }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}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B83E-9201-4D4B-91E0-D28E0F1966D6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Memóriaterül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++-ban elérhető memóriaterület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eap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dinamikusan foglalt objektumok, addig léteznek, míg nem töröljük ők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ac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verem. Adott blokkon belül létezik, a blokk végeztével automatikusan felszabad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atic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a program indulásakor már inicializálódik, a program teljes futása során létezik. Pontosan egy példány található a static adattagokból a memóriában. (globális változók, objektum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0FE8-AE10-4126-B006-1862CE00C2D2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Öröklő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áthatóság használatával csak szigorítani lehet az öröklődé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80DB-119F-45E3-94BA-2B18AEBEA053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258920" y="2997360"/>
          <a:ext cx="6769080" cy="1482480"/>
        </p:xfrm>
        <a:graphic>
          <a:graphicData uri="http://schemas.openxmlformats.org/drawingml/2006/table">
            <a:tbl>
              <a:tblPr/>
              <a:tblGrid>
                <a:gridCol w="2057400"/>
                <a:gridCol w="1542960"/>
                <a:gridCol w="1656000"/>
                <a:gridCol w="151272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v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Statikus változó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marabb jönnek létre mint bármi m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in indulása előtt létrejönnek a memóriá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in befejeztével törlőd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em kell az osztályt példányosítani a használatukho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gyetlen példány létezik a memóriában. (stat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ivatkozni ráju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sztálynév::statikus_változó_n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6DE9-27B5-4A89-BBBB-61476BFED071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Statikus függvény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atikus függvény csak statikus adattagot használhat és statikus függvényt hív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atikus függvényen belül nincs this (miért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a a statikus függvény definíciója és implementációja külön van, akkor az implementációs résznél nem kell újra kiírni a static kulcsszó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4FE6-FE57-4EB4-8FE3-8B8FE055B568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Dinamikus 2D tömbö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namikus 2D-s tömbökre dupla pointerrel hivatkozu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uble** matrix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ew-val foglalunk N méretű X típusú pointer tömbö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zután minden pointerrel rámutatunk M méretű X típusú töm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CE90-3149-414A-A832-764F2B17D35C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Dinamikus 2D tömbö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él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** matrix = new double*[ N 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 int i = 0; i &lt; N; i++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trix[ i ] = new double[ M 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ivatkozás: 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trix[ i ][ j ] = 0.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elszabadítá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int i = 0; i &lt; N; i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[] matrix[ i 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[] matrix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B229-7EF2-47C7-B4A9-158318E9B00A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Fela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57760" y="1571400"/>
            <a:ext cx="482904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     2   3   4     5    6     7    8   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2     4   6   8   10  12   14  16 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3     6   9  12  15  18   21  24 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4     8  12  16  20  24  28  32 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5   10  15  20  25  30  35  40  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6   12  18  24  30  36  42  48  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7   14  21  28  35  42  49  56  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8   16  24  32  40  48  56  64  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9   18  27  36  45  54  63  72  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0  20  30  40  50  60  70  80  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328D-AEC0-4B19-8DA0-1D1D671C7BBE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zövegdoboz 6"/>
          <p:cNvSpPr/>
          <p:nvPr/>
        </p:nvSpPr>
        <p:spPr>
          <a:xfrm>
            <a:off x="571680" y="1643040"/>
            <a:ext cx="3286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y darab, dinamikusan foglalt 2D tömböt használva (létrehozva, majd feltöltve) készítsd el ezt a táblát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inamikus 2d tömb, egészek tárolásá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*9-es má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rték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. sor (indexe 2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6. oszlop (indexe 5) értéke =    1 +2 + 5 + 2*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Virtuális függvény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gyük fel, hogy egy ősosztálybeli pointerrel mutatunk egy gyerek osztálybeli objektum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gyük fel, hogy a gyerek osztályban felüldefiniáltunk egy függvényt. Ha az ős pointeren keresztül meghívjuk ezt a függvényt, akkor nem a felüldefiniált fog meghívódni, hanem az ősosztályban létrehozott függvény.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él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ase* base = new Chil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ase-&gt;function();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//az ős metódusa fog meghívód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BC07-85C3-4AC8-86F3-B02C74487105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Virtuális függvény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 ilyen problémák kiküszöbölésére találták ki a virtuális függvények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Minden olyan objektum, aminek van legalább egy virtuális függvénye, rendelkezik egy virtuális ugró táblával, melyben a virtuális függvények ugrási címe szerep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Ha ősreferencián keresztül hivatkozunk egy metódusra, ami virtuális, akkor a gyerek objektum ugrótáblájából keresi ki a program a meghívandó függvény címé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7A9E-B874-4202-A861-0AA56DDD76DA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Virtuális függvény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Virtuális függvény szintaxisa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irtual visszatérési_típus fgvNév(paraméterek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sak az ősosztályban kell kiírni a virtual szócská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Pure virtual függvény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 Egy virtuális függvényt nem implementálunk az adott osztály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Szintaxisa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irtual visszatérési_típus metódusNév()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7D0F-C009-4079-A651-49131DE40A60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bsztrakt osztály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a egy osztály rendelkezik legalább egy pure virtual függvénnyel, akkor azt absztrakt osztálynak nevezzü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bsztrakt osztályból nem lehet objektumot létrehozni, csak pointer, vagy referencia leh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443B-AFEC-495D-BF2F-1A61045E4F40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KONSTANS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1F23-7F50-4636-8BB7-38E7691E1CE5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onstan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ajtá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szerű konst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onstans pointer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onstans függvényparaméter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onstans visszaadott érté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onstans függvény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onstans osztály adatt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A8F9-78FA-49E4-B0A2-48B950E3A178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Egyszerű konst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C nyelvben nem volt lehetőség valódi konstans létrehozásár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sak definiálhattunk egy konstans értékhez egy nev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define TRU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#define KISKUTYA 4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átránya: típustalan az érté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++: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const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kulcssz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l.: const int a = 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eklarációnál értéket kell neki adn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AF76-B06A-45CD-8AC2-F7EA5EA66649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21:15:37Z</dcterms:created>
  <dc:creator>hapci</dc:creator>
  <dc:description/>
  <dc:language>en-US</dc:language>
  <cp:lastModifiedBy>kutyamutya</cp:lastModifiedBy>
  <dcterms:modified xsi:type="dcterms:W3CDTF">2018-10-10T13:52:19Z</dcterms:modified>
  <cp:revision>210</cp:revision>
  <dc:subject/>
  <dc:title>1. dia</dc:title>
</cp:coreProperties>
</file>