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2D2-3C98-476C-AAE3-A26E813A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816-EFA6-441D-A034-3A827765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A2A-F8FE-4A6D-A77C-752541A7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8CC-7B9E-4290-8267-7B23E3C4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5CE-A506-4D6F-87D0-C8B146A8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CCC-828A-4572-BD8E-2BE2C10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C58-1043-4302-BC20-A233F6D2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A6B-B612-4247-8170-85C84F07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737-8C9A-4B26-8894-B64D793C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217-1BB5-482E-9968-0F24E7A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A15-9B5B-4760-941D-9D323A3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91B-E675-4D4E-B325-607530A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8B26-B021-4AFC-BA59-92FB231B7539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D27E-EDB6-4507-A0ED-0502C72DD6B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BD65-EC18-4385-8D33-408C1D7284A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7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 overloading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Tor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 szamla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 nevez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rt( int sz, int n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zamlalo = s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vezo =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rt operator*( Tort&amp; other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 Tort( this-&gt;szamlalo * other.szamlalo, this-&gt;nevezo * other.nevez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 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EC25-3E80-4BF6-89B4-B9B12BCEFB3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asznál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étrehozzuk az alábbi Tort objektumok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a( 2,3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b( 2,4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hatjuk így is az operátorok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c = a.operator*( b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kényelmi okokból általában így használj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c = a *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58D5-B27E-4D9B-ACDA-9B9C643FECD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inamikus 2D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namikus 2D-s tömbökre dupla pointerrel hivatkozu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** matri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w-val foglalunk N méretű X típusú pointer tömbö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zután minden pointerrel rámutatunk M méretű X típusú tö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D29C-441E-4BA3-9795-C17AD9DE482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inamikus 2D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** matrix = new double*[ N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 int i = 0; i &lt; N; i++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[ i ] = new double[ M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vatkozás: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[ i ][ j ] = 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lszabadít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[] matrix[ i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[] matri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5D02-3E64-4C25-8BAB-08B5297E138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57760" y="1571400"/>
            <a:ext cx="48290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     2   3   4     5    6     7    8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     4   6   8   10  12   14  16 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3     6   9  12  15  18   21  24 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     8  12  16  20  24  28  32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   10  15  20  25  30  35  40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6   12  18  24  30  36  42  48 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7   14  21  28  35  42  49  56 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  16  24  32  40  48  56  64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9   18  27  36  45  54  63  72 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0  20  30  40  50  60  70  80 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FE01-033E-4DCF-BF1A-AB15AEBF3D1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6"/>
          <p:cNvSpPr/>
          <p:nvPr/>
        </p:nvSpPr>
        <p:spPr>
          <a:xfrm>
            <a:off x="571680" y="1643040"/>
            <a:ext cx="328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darab, dinamikusan foglalt 2D tömböt használva (létrehozva, majd feltöltve) készítsd el ezt a táblát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namikus 2d tömb, egészek tárolás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*9-es má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rték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. sor (indexe 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. oszlop (indexe 5) értéke =    1 +2 + 5 + 2*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agyar jelölés (Hungarian not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tozó nevében feltüntetjük a típusát és a tervezett használatá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bák megelő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dern IDE-k miatt visszaszo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 Osztály tagváltozó, double tí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_dCoords, m_darr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r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ővebben: https://en.wikipedia.org/wiki/Hungarian_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4857-E507-4C8A-A4C2-669CE112C38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OPERATOR OVERLOADING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F2CA-17FA-4F51-B8A9-89D116CD4C0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lapvető műve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hetőség van primitív értékek összeadására, kivonására, stb… , ezeket mindenki isme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 a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 b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 c = a –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vajon van-e lehetőség objektumok összeadására, kivonásár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 c = 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gen, felül kell definiálnunk az adott operát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3FFF-877D-4E60-9E74-66B23DBD16D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 fajt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Uná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ak egy ”oldala”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++, --      (következő órán részleteseb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Biná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”oldala” v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al oldal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INDI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z az objektum, melyen alkalmazni szeretnénk az adott operátor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oldali paraméter egy referencia, mellyel el akarjuk végezni a műveletet az előző objektu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73BF-3697-4F9F-A7D7-602FA2400E8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&lt;visszatérési típus&gt; operator&lt;felül definiálandó operátor&gt;(paramét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, ha van egy Tört számokat ábrázoló osztályu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operator+( Tort&amp; right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+,-,*,/ stb.. operátoroknál mindig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j érték képződi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 régiek nem változnak, tehát egy ilyen műveletnél új objektum fog létrejö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FCE0-D888-4E98-A64A-1626B4EEF6F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llipszis 1"/>
          <p:cNvSpPr/>
          <p:nvPr/>
        </p:nvSpPr>
        <p:spPr>
          <a:xfrm>
            <a:off x="1692360" y="5300640"/>
            <a:ext cx="863640" cy="865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llipszis 7"/>
          <p:cNvSpPr/>
          <p:nvPr/>
        </p:nvSpPr>
        <p:spPr>
          <a:xfrm>
            <a:off x="3348000" y="5300640"/>
            <a:ext cx="863640" cy="8650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llipszis 8"/>
          <p:cNvSpPr/>
          <p:nvPr/>
        </p:nvSpPr>
        <p:spPr>
          <a:xfrm>
            <a:off x="5459400" y="5300640"/>
            <a:ext cx="863640" cy="865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zövegdoboz 3"/>
          <p:cNvSpPr/>
          <p:nvPr/>
        </p:nvSpPr>
        <p:spPr>
          <a:xfrm>
            <a:off x="1979640" y="5364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10"/>
          <p:cNvSpPr/>
          <p:nvPr/>
        </p:nvSpPr>
        <p:spPr>
          <a:xfrm>
            <a:off x="1979640" y="56959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zövegdoboz 11"/>
          <p:cNvSpPr/>
          <p:nvPr/>
        </p:nvSpPr>
        <p:spPr>
          <a:xfrm>
            <a:off x="3635280" y="5364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2"/>
          <p:cNvSpPr/>
          <p:nvPr/>
        </p:nvSpPr>
        <p:spPr>
          <a:xfrm>
            <a:off x="3635280" y="5732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3"/>
          <p:cNvSpPr/>
          <p:nvPr/>
        </p:nvSpPr>
        <p:spPr>
          <a:xfrm>
            <a:off x="5680080" y="533880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4"/>
          <p:cNvSpPr/>
          <p:nvPr/>
        </p:nvSpPr>
        <p:spPr>
          <a:xfrm>
            <a:off x="5680080" y="5708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7-10-25T11:01:51Z</dcterms:modified>
  <cp:revision>220</cp:revision>
  <dc:subject/>
  <dc:title>1. dia</dc:title>
</cp:coreProperties>
</file>