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58BE-0A52-4685-B567-D724DC7F1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F88F-DCEF-45EE-AE9A-CEAE50C4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A242-859C-412D-85C4-1A4B434C1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2136-2E38-459A-9462-5366E4FA6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E098-9A60-4A7B-AE3D-3E3F3CBF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41F2-F4ED-4921-8F6C-ED6F28B4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2447-24D0-4DC7-9C96-C0FBFEA4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C4C3-0670-4247-B40B-8DD584F1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145A-9CA3-480D-A079-6E9F3089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9B33-7901-4B36-A088-DE9B28DA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CEA1-1C7C-4B93-A833-12E71B21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0AB0-9048-46D3-BE91-940FE557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a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9600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3107-9F4B-4095-98BB-F3744B983351}" type="slidenum"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68360" y="1557360"/>
            <a:ext cx="8207280" cy="4680000"/>
          </a:xfrm>
          <a:prstGeom prst="rect">
            <a:avLst/>
          </a:prstGeom>
          <a:solidFill>
            <a:srgbClr val="cdb279"/>
          </a:solidFill>
          <a:ln w="9360">
            <a:solidFill>
              <a:srgbClr val="a784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468360" y="260280"/>
            <a:ext cx="8207280" cy="1152720"/>
          </a:xfrm>
          <a:prstGeom prst="rect">
            <a:avLst/>
          </a:prstGeom>
          <a:solidFill>
            <a:srgbClr val="a77447"/>
          </a:solidFill>
          <a:ln cap="rnd" w="9360">
            <a:solidFill>
              <a:srgbClr val="76523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246E-735E-4864-994B-762833F976A5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6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7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a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468360" y="260280"/>
            <a:ext cx="8207280" cy="5977080"/>
          </a:xfrm>
          <a:prstGeom prst="rect">
            <a:avLst/>
          </a:prstGeom>
          <a:solidFill>
            <a:srgbClr val="cdb279"/>
          </a:solidFill>
          <a:ln w="9360">
            <a:solidFill>
              <a:srgbClr val="a784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F9CE-6200-4ABD-A3F0-8F05D17330F2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rogramozás I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8. gyakor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[ ] operá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intax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isszatérési_Tipus operator[] ( int num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egítségével az objektumunkat úgy tudjuk kezelni, mint, ha az egy tömb len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l.: Csoport csoport(25); // 25 fős cso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soport[12];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   // csoport 12. tag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kkor van értelme a használatának, ha az osztály rendelkezik valamilyen adatszerkezettel (tömb, vektor,stb…) és annak az elemeivel térünk viss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A310-707B-490B-AC0A-716F9972278E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= operá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űködése megegyezik a copy konstruktor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intax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isszatérési_Tipus operator=( Osztaly&amp;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py konstrukt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gítségével kész objektumokat tudunk lemásol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a egy osztály nem tartalmaz dinamikus adattagot, akkor bitről bitre másol a fordít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a tartalmaz dinamikus adattagot, akkor csak pointer másolá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gyetlen paramétere a másolandó objektum refer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A78C-94DA-4973-B54F-31331F804B71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&lt;&lt; operá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ehetőség van az objektumokat „bekötni” a kiíró bájtsorb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ort a( 2,3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out &lt;&lt; a &lt;&lt; end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zeket a felüldefiniálásokat a global scope-ba érdemes csinálni és utána friendként felvenni az osztályba, mivel 2 paraméterrel rendelkeznek: ostream referencia, kiírandó osztály refer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üggvény fejléc szintax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riend ostream&amp; operator&lt;&lt;( ostream&amp;, Adott_Osztály&amp;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66BC-B20C-4F62-BED9-4B28076706CC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&gt;&gt; operá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asonló a &lt;&lt; operátorhoz, itt azonban a beolvasó bájtsorhoz köthetjük az objektumunk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end istream&amp; operator&gt;&gt;(istream&amp;,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sztá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B446-D339-4B21-B19F-363CE54912D1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( ) operá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intax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isszatérési_Tipus operator()( param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araméterek számára nincs korlát, tetszőle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egítségével az objektumot lehet úgy kezelni mint egy függvény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üggvényobjektum”: Olyan objektum, amely függvényként viselkedik. Előnye, hogy tárolható vele az állapot is, nem csak a viselked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7B13-0F92-4A51-A2AB-AFC2EC033837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perátor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11280" y="2133720"/>
          <a:ext cx="7770600" cy="256068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3840"/>
                <a:gridCol w="1295640"/>
                <a:gridCol w="1295280"/>
                <a:gridCol w="1295280"/>
              </a:tblGrid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^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^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&l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&gt;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 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BB9E-E2B1-4B3C-A560-6F6597D43B9B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971640" y="5661000"/>
          <a:ext cx="7129440" cy="366840"/>
        </p:xfrm>
        <a:graphic>
          <a:graphicData uri="http://schemas.openxmlformats.org/drawingml/2006/table">
            <a:tbl>
              <a:tblPr/>
              <a:tblGrid>
                <a:gridCol w="1782720"/>
                <a:gridCol w="1782720"/>
                <a:gridCol w="1781280"/>
                <a:gridCol w="1782720"/>
              </a:tblGrid>
              <a:tr h="3668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Szövegdoboz 8"/>
          <p:cNvSpPr/>
          <p:nvPr/>
        </p:nvSpPr>
        <p:spPr>
          <a:xfrm>
            <a:off x="611280" y="162864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elüldefiniálható operátoro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zövegdoboz 9"/>
          <p:cNvSpPr/>
          <p:nvPr/>
        </p:nvSpPr>
        <p:spPr>
          <a:xfrm>
            <a:off x="684360" y="5013360"/>
            <a:ext cx="62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em felüldefiniálható operátoro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Ismétlés – Operátor overlo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intax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isszatérési_Tipus operátor felül_definiálandó_operátor (paramét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l., ha van egy Tört számokat ábrázoló osztályun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ort operator+( Tort&amp; right);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+,-,*,/ stb.. operátoroknál mindig új érték képződik, a régiek nem változnak, tehát egy ilyen műveletnél új objektum fog létrejön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1FFB-E1FC-47BA-B42E-18BEAE9919E2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perator overlo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étrehozzuk az alábbi Tört objektumo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ort a( 2,3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elüldefiniált összeadás operátor használ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ort c = a + 10;   // Tort c = a.operator+( 10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e mi történik ha így szeretnénk használn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ort c = 10 + a;  // ?? Tort c = 10.operator+( a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lyen operátort hogy tudnánk csináln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370B-C4FF-4ED0-8AD2-43E0F6B7EB76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friend függvény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ehetőség van olyan osztályon kívüli függvények írására, melyek hozzáférnek az adott osztály private adattagjaihoz, sőt megtehető az is, hogy egy osztály függvénye hozzáfér egy másik osztály private adattagjaiho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zt úgy tehetjük meg, hogy felvesszük a függvény fejlécét az adott osztályba, a függvény fejléc elé pedig odatesszük a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friend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kulcsszó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EAF8-528B-4DD7-AA03-F053530571BE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friend függvény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operátor overloadingnál is használhatunk friend függvények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ddig megtehettük ez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ort c = a + 1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e a (10 + a) már nem működik, mert szintaxis szerint a bal oldalon kell állnia az objektumn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e azt megtehetjük, hogy a global scope-ba írunk egy 2 paraméteres operátor overloadingot megfelelő paraméter sorrenddel és ezt felvesszük friend függvényként az osztályb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BB2E-C2D0-4DDA-A49E-77057468E41C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perátor overlo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an amikor nem jön létre új érté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+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*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tb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Ugyanúgy felüldefiniálhatjuk, mint bármely más kétoperandusú operátort, csak a visszatérési értéknél nem jön létre új objekt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E5F9-7A60-4957-95AC-CCA21B5A7338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perátorok fajtá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Uná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sak egy ”oldala” v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l. ++,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Biná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Két ”oldala” v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A bal oldala MINDIG az az objektum, melyen alkalmazni szeretnénk az adott operátor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Jobb oldali paraméter egy referencia, mellyel el akarjuk végezni a műveletet az előző objektum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4333-7AF8-419D-B060-7BAAE83943A9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++ operá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gkülönböztetünk prefix és postfix operátort ezek közöt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efix szintax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isszatérési_Tipus operator++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ostfix szintax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isszatérési_Tipus operator++( int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postfix operátornál az int paramétert nem kell használni, csak jelzés a fordítónak, hogy ez egy postfix operá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ülönbség a prefix és postfix közöt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D246-C933-49B4-AAC8-9B4460DC6F87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-- operá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Ugyanaz, mint a ++ operá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efix szintax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isszatérési_Tipus operator--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ostfix szintax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isszatérési_Tipus operator--( int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Általában) a különbség post- és prefix operátor között, hogy  postfixnél a változatlan objektummal kell visszatérni növelés után, míg prefixnél megváltoztatjuk az objektumot és utána térünk vissza ve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F1C5-764E-4D30-8CC1-E78CB2BE2B3C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21:15:37Z</dcterms:created>
  <dc:creator>hapci</dc:creator>
  <dc:description/>
  <dc:language>en-US</dc:language>
  <cp:lastModifiedBy>kutyamutya</cp:lastModifiedBy>
  <dcterms:modified xsi:type="dcterms:W3CDTF">2017-10-25T11:53:45Z</dcterms:modified>
  <cp:revision>224</cp:revision>
  <dc:subject/>
  <dc:title>1. dia</dc:title>
</cp:coreProperties>
</file>