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11E-2701-47EB-A71B-E3097E5A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61B-8091-478E-B65A-C13C2FF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782-6EC9-45EF-B85D-9FEA2EDD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2C5-B18E-4E30-8028-EDF5B0DB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621-20D9-4D32-BB33-6A4BAE5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8BE-264B-4E02-847E-58B0E49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4F9-92DB-47C0-9991-64C3E565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495-6EBE-460D-82C6-1F5CB49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3E1-FB22-4018-AE09-1190B366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CFB-49C3-43FD-A5EC-94ADD10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C9D-5F2D-440B-9215-1BADE06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78E-0D17-40E9-A656-771A8488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8A17-5CFC-428A-B1F1-9112A2B0E59E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016-9A4E-42DF-B7AC-96317603A9D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3DC-86C2-423C-B044-D02DED991C0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4365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FÁJLKEZEL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80E-DBC0-4305-A2E5-59EF3C7EE54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++ nyelvben a file műveleteket is megvalósíthatjuk streamek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 az alap file műveletek egyszerűen használhat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ukhoz include-olni kell az fstream header-t, mely tartalmazza az alapvető műveletek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#include &lt;f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olvasáshoz: i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áshoz: o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3894-937D-404A-B2C6-B90EE9728BB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Élőláb helye 4"/>
          <p:cNvSpPr/>
          <p:nvPr/>
        </p:nvSpPr>
        <p:spPr>
          <a:xfrm>
            <a:off x="741528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06B7-0F41-4F71-ABBF-DF90BC8AE6A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églalap 9"/>
          <p:cNvSpPr/>
          <p:nvPr/>
        </p:nvSpPr>
        <p:spPr>
          <a:xfrm>
            <a:off x="3564000" y="404640"/>
            <a:ext cx="1728720" cy="86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_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églalap 11"/>
          <p:cNvSpPr/>
          <p:nvPr/>
        </p:nvSpPr>
        <p:spPr>
          <a:xfrm>
            <a:off x="3564000" y="1568520"/>
            <a:ext cx="1728720" cy="865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églalap 12"/>
          <p:cNvSpPr/>
          <p:nvPr/>
        </p:nvSpPr>
        <p:spPr>
          <a:xfrm>
            <a:off x="826920" y="2924280"/>
            <a:ext cx="2737080" cy="1152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églalap 13"/>
          <p:cNvSpPr/>
          <p:nvPr/>
        </p:nvSpPr>
        <p:spPr>
          <a:xfrm>
            <a:off x="5292720" y="2924280"/>
            <a:ext cx="2735280" cy="1152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églalap 15"/>
          <p:cNvSpPr/>
          <p:nvPr/>
        </p:nvSpPr>
        <p:spPr>
          <a:xfrm>
            <a:off x="453960" y="4581360"/>
            <a:ext cx="2879640" cy="865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églalap 16"/>
          <p:cNvSpPr/>
          <p:nvPr/>
        </p:nvSpPr>
        <p:spPr>
          <a:xfrm>
            <a:off x="5580000" y="4581360"/>
            <a:ext cx="2879640" cy="865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f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églalap 17"/>
          <p:cNvSpPr/>
          <p:nvPr/>
        </p:nvSpPr>
        <p:spPr>
          <a:xfrm>
            <a:off x="3564000" y="5589720"/>
            <a:ext cx="1871640" cy="503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Egyenes összekötő nyíllal 19"/>
          <p:cNvCxnSpPr>
            <a:stCxn id="149" idx="0"/>
            <a:endCxn id="148" idx="2"/>
          </p:cNvCxnSpPr>
          <p:nvPr/>
        </p:nvCxnSpPr>
        <p:spPr>
          <a:xfrm flipV="1">
            <a:off x="4427280" y="1268280"/>
            <a:ext cx="1080" cy="30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Egyenes összekötő nyíllal 21"/>
          <p:cNvCxnSpPr/>
          <p:nvPr/>
        </p:nvCxnSpPr>
        <p:spPr>
          <a:xfrm flipV="1">
            <a:off x="3563640" y="2432880"/>
            <a:ext cx="361080" cy="491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Egyenes összekötő nyíllal 23"/>
          <p:cNvCxnSpPr/>
          <p:nvPr/>
        </p:nvCxnSpPr>
        <p:spPr>
          <a:xfrm flipH="1" flipV="1">
            <a:off x="5148000" y="2432880"/>
            <a:ext cx="288000" cy="491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Egyenes összekötő nyíllal 25"/>
          <p:cNvCxnSpPr>
            <a:stCxn id="154" idx="0"/>
          </p:cNvCxnSpPr>
          <p:nvPr/>
        </p:nvCxnSpPr>
        <p:spPr>
          <a:xfrm flipH="1" flipV="1">
            <a:off x="3418920" y="4075920"/>
            <a:ext cx="1081800" cy="1513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Egyenes összekötő nyíllal 27"/>
          <p:cNvCxnSpPr>
            <a:stCxn id="154" idx="0"/>
          </p:cNvCxnSpPr>
          <p:nvPr/>
        </p:nvCxnSpPr>
        <p:spPr>
          <a:xfrm flipV="1">
            <a:off x="4500720" y="4075920"/>
            <a:ext cx="1296000" cy="1513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Egyenes összekötő nyíllal 29"/>
          <p:cNvCxnSpPr>
            <a:stCxn id="152" idx="0"/>
            <a:endCxn id="150" idx="2"/>
          </p:cNvCxnSpPr>
          <p:nvPr/>
        </p:nvCxnSpPr>
        <p:spPr>
          <a:xfrm flipV="1">
            <a:off x="1893960" y="4076280"/>
            <a:ext cx="30240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Egyenes összekötő nyíllal 31"/>
          <p:cNvCxnSpPr>
            <a:stCxn id="153" idx="0"/>
            <a:endCxn id="151" idx="2"/>
          </p:cNvCxnSpPr>
          <p:nvPr/>
        </p:nvCxnSpPr>
        <p:spPr>
          <a:xfrm flipH="1" flipV="1">
            <a:off x="6658920" y="4076280"/>
            <a:ext cx="36108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nyitási mód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t olvasásra nyitjuk meg (fstream esetében ez az alapértelmeze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fájlt írásra nyitjuk meg (ofstream esetében ez az alapértelmeze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bináris módban nyitju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az output pozícója a  fájl végére mu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hozzáfűzésre nyitjuk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runca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meglévő fájl esetén a tartalmát töröljü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DC1-A06E-46BE-8792-E47B835EB36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ájlba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to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( );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//default konstruktor, a fájl megnyitását később kell végrehaj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( const char * filename, ios_base::openmode mode = ios_base::ou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91CB-782A-4BDD-B5C9-459F61734F4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éldányosítás írás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.open( fileName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( file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alapértelmezetten írásra nyitja meg a fájlokat. A fenti használat ugyanaz, mintha így hoztuk volna lé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( fileName, ofstream::ou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79F-050F-4DA0-873F-0DE863B5D68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fstream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sznál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 a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b = 3.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r* str = ”valamivalami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stream out( ”out.txt”, ofstream::app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 &lt;&lt; a &lt;&lt; b &lt;&lt; str &lt;&lt; end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.close(); //le kell zá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C63-083F-4795-B2D0-61EE7A08C9E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ájlból olvas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onstrukto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( ); //default konstruktor, a fájl megnyitását később kell végrehaj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( const char * filename, ios_base::openmode mode = ios_base::in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D87-2C46-4A1E-933E-5AAE42640CB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f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éldányosítás olvasás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.open( file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( file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znál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( ”input.txt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 a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&gt;&gt; a &gt;&gt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137E-6E06-49F2-B862-24E9AF30AD4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ész sor beolvas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etline() függvény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eam&amp; getline (istream&amp; is, string&amp; str, char delim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eam&amp; getline (istream&amp; is, string&amp; str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&lt;string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stream in(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put.tx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inpu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tline( in, inpu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C5B9-EF96-4E66-925F-EDFC9EBAE51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– Operá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térési_Tipus operátor felül_definiálandó_operátor (paramét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, ha van egy Tört számokat ábrázoló osztályu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rt operator+( Tort&amp; right);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+,-,*,/ stb.. operátoroknál mindig új érték képződik, a régiek nem változnak, tehát egy ilyen műveletnél új objektum fog létrejö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4067-AA9B-4696-A49A-B6C1E51B83E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zö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_open(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megadja, hogy nyitva van-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en(const char * filename, ios_base::openmode mode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megnyitja a file-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lose(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lezárja a file-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of(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/true, ha elértük a file vég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3C1A-1FD2-4F9C-B523-580FEB2787F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– Operátor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riend VisszatérésiTipus operátorOP(bal, job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, ha van egy Tört számokat ábrázoló osztályu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riend ostream&amp;&amp; operator&lt;&lt;( const Tort&amp; right);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FE8A-4369-4080-AFBA-0A16F5EFC92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[ ]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[] ( int num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ségével az objektumunkat úgy tudjuk kezelni, mint, ha az egy tömb len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Csoport csoport(25); // 25 fős cso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port[12];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// csoport 12. tag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kor van értelme a használatának, ha az osztály rendelkezik valamilyen adatszerkezettel (tömb, vektor,stb…) és annak az elemeivel térünk vis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2A2-C151-48B7-8105-E4E5F234ECF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=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űködése megegyezik a copy konstruktor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=( Osztaly&amp;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y konstruk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gítségével kész objektumokat tudunk lemáso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 egy osztály nem tartalmaz dinamikus adattagot, akkor bitről bitre másol a fordí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 tartalmaz dinamikus adattagot, akkor csak pointer másol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gyetlen paramétere a másolandó objektum 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547-05B3-4F29-816C-B2F85242839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( ) operá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szatérési_Tipus operator()( param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méterek számára nincs korlát, tetsző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ségével az objektumot lehet úgy kezelni mint egy függvény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vényobjektum”: Olyan objektum, amely függvényként viselkedik. Előnye, hogy tárolható vele az állapot is, nem csak a viselk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2ED-C968-49F7-B87F-9045B452916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2133720"/>
          <a:ext cx="7770600" cy="25606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3840"/>
                <a:gridCol w="1295640"/>
                <a:gridCol w="1295280"/>
                <a:gridCol w="129528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&gt;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3BB7-25D9-4B54-9987-39B8DBC1F2A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5661000"/>
          <a:ext cx="7129440" cy="36684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1280"/>
                <a:gridCol w="1782720"/>
              </a:tblGrid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Szövegdoboz 8"/>
          <p:cNvSpPr/>
          <p:nvPr/>
        </p:nvSpPr>
        <p:spPr>
          <a:xfrm>
            <a:off x="611280" y="162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üldefiniálható operátor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9"/>
          <p:cNvSpPr/>
          <p:nvPr/>
        </p:nvSpPr>
        <p:spPr>
          <a:xfrm>
            <a:off x="684360" y="501336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felüldefiniálható operátor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64A-92AB-4926-9D12-C3BFD9F5BE1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ddig: karakterláncok, \0-val bezáró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++-ban van beépített string osztály, ami jóval bővebb funkcionalitást kínál, mint ed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geteg használható függvé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üldefiniált operátor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0C65-F19A-4805-83BF-EEDC512C9E7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11-08T12:53:39Z</dcterms:modified>
  <cp:revision>227</cp:revision>
  <dc:subject/>
  <dc:title>1. dia</dc:title>
</cp:coreProperties>
</file>