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1E-E116-4673-A4CF-060BB7EB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DB0-C209-4D4E-80C1-67B1C820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A55-AD7C-42C3-B5E4-0F6D335D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8CF-C85E-46CB-8BB5-D33B5B44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A68-39B3-48A4-AEE4-C8A33BE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81B-2A80-4394-830C-E0AE440C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BA9-BA07-40C6-8FFB-ADDA44C8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66F-5E74-444A-A7BC-3A1176C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FD6-262F-4E2B-B546-BBD932ED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5FF-92C0-42B0-BBFF-DBB6C38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0D5-CD40-4256-94DC-0A6F99C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96C-E7AF-4481-AD4E-4F96AFC7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74D-2C7F-4889-8C71-E301F2D97C49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EE03-90B5-4F78-9DE7-B2795ECE9D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363-49E8-416B-B159-037D32F54A4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ész sor beolvas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etline() függvény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eam&amp; getline (istream&amp; is, string&amp; str, char delim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eam&amp; getline (istream&amp; is, string&amp; str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rin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.tx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inp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(in.is_open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line( in, input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03C-3ABB-45C0-99EA-AF712E5A4F8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ö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_open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megadja, hogy nyitva van-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en(const char * filename, ios_base::openmode mode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megnyitja a file-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lose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lezárja a file-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of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true, ha elértük a file vég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C94-CA2C-4C84-874A-E2C1A41D0ED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olyan kódrészleteknél, melyek „hibát” eredményezhetnek, érdemes lehet try-catch blokkokat használn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„hibát okozó”, és az azzal közvetlen összefüggésben lévő program részletet tesszük try blokkba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kkor, ha hiba történik, lehetőség van a exception-t (kivételt) elkapni (cat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vételt metódusból a throw kulcsszóval lehe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3BE-4D0B-4CCE-B792-790EACC0951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 (kivétel dobás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int DivideByZero = 10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a hiba kód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függvény, mely eloszt két szá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ivide(double x, double y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(y==0) {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ha az oszt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ow DivideByZero;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dob egy kivételt (itt 10-es kódú kivételt), és a függvénynek meg is áll a fu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x/y;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ha nem volt kivétel, végrehajtja az osz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BCD-1F41-4A2A-BF5D-4BFF9C32B4A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 (kivétel elkapás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y {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</a:rPr>
              <a:t>//try blokkba rakjuk az osztás függvényt, hiszen dobhat hibát (előző dia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vide(1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catch(int i) {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</a:rPr>
              <a:t>//ha dobott egy int típusú kivételt, elkap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f(i==DivideByZero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</a:rPr>
              <a:t>//ha a kivétel ilyen típusú volt, kiírjuk az ok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err &lt;&lt; "Divide by zero error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EB2-73C8-429F-B237-AFA2A99C3F6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halad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őség van kódok helyett rendes kivétel objektumok használatár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bjektum-orientált hibakez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vétel objektumokat dobunk és kapunk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aját kivétel osztályokat is írhatunk, de vannak beépítettek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B1F-9C21-4FDC-A8CF-EFB63FE5A6A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halad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 (kivétel dobás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függvény, mely eloszt két szá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ivide(double x, double y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(y==0) {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ha az oszt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ow std::exception(”0 az oszto”);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dob egy kivételt, és a függvénynek meg is áll a fu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x/y;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//ha nem volt kivétel, végrehajtja az oszt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CB95-80AC-4D21-A49F-1AAF20ABA0E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vételkezelés halad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 (kivétel elkapás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y { </a:t>
            </a:r>
            <a:r>
              <a:rPr b="0" lang="hu-HU" sz="2400" spc="-1" strike="noStrike">
                <a:solidFill>
                  <a:srgbClr val="404040"/>
                </a:solidFill>
                <a:latin typeface="Arial"/>
              </a:rPr>
              <a:t>//try blokkba rakjuk az osztás függvényt, hiszen dobhat hibát (előző dia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vide(1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catch(std::exception&amp; e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err &lt;&lt; e.what() &lt;&lt; end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0C97-8DDE-4D27-BAFB-B04E5D414FA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eépített kivéte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d_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d_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ut_of_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aj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E80-3B5B-4B77-AEA4-2AB080B5AAE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e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st-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plate-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32FC-C352-42BD-85B9-4D82AF0B05D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++ nyelvben a file műveleteket is megvalósíthatjuk streamek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az alap file műveletek egyszerűen használhat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ukhoz include-olni kell az fstream header-t, mely tartalmazza az alapvető művelete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olvasáshoz: i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áshoz: o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6FB9-F2C7-41D2-A5A8-3F79CF01E7D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Élőláb helye 4"/>
          <p:cNvSpPr/>
          <p:nvPr/>
        </p:nvSpPr>
        <p:spPr>
          <a:xfrm>
            <a:off x="741528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BD7-BCE3-4FBF-A050-0BECF3ACDE7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églalap 9"/>
          <p:cNvSpPr/>
          <p:nvPr/>
        </p:nvSpPr>
        <p:spPr>
          <a:xfrm>
            <a:off x="3564000" y="404640"/>
            <a:ext cx="1728720" cy="86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_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églalap 11"/>
          <p:cNvSpPr/>
          <p:nvPr/>
        </p:nvSpPr>
        <p:spPr>
          <a:xfrm>
            <a:off x="3564000" y="1568520"/>
            <a:ext cx="1728720" cy="865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églalap 12"/>
          <p:cNvSpPr/>
          <p:nvPr/>
        </p:nvSpPr>
        <p:spPr>
          <a:xfrm>
            <a:off x="826920" y="2924280"/>
            <a:ext cx="2737080" cy="1152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églalap 13"/>
          <p:cNvSpPr/>
          <p:nvPr/>
        </p:nvSpPr>
        <p:spPr>
          <a:xfrm>
            <a:off x="5292720" y="2924280"/>
            <a:ext cx="2735280" cy="1152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églalap 15"/>
          <p:cNvSpPr/>
          <p:nvPr/>
        </p:nvSpPr>
        <p:spPr>
          <a:xfrm>
            <a:off x="453960" y="4581360"/>
            <a:ext cx="2879640" cy="865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églalap 16"/>
          <p:cNvSpPr/>
          <p:nvPr/>
        </p:nvSpPr>
        <p:spPr>
          <a:xfrm>
            <a:off x="5580000" y="4581360"/>
            <a:ext cx="2879640" cy="865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églalap 17"/>
          <p:cNvSpPr/>
          <p:nvPr/>
        </p:nvSpPr>
        <p:spPr>
          <a:xfrm>
            <a:off x="3564000" y="5589720"/>
            <a:ext cx="1871640" cy="503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Egyenes összekötő nyíllal 19"/>
          <p:cNvCxnSpPr>
            <a:stCxn id="101" idx="0"/>
            <a:endCxn id="100" idx="2"/>
          </p:cNvCxnSpPr>
          <p:nvPr/>
        </p:nvCxnSpPr>
        <p:spPr>
          <a:xfrm flipV="1">
            <a:off x="4427280" y="1268280"/>
            <a:ext cx="1080" cy="30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Egyenes összekötő nyíllal 21"/>
          <p:cNvCxnSpPr/>
          <p:nvPr/>
        </p:nvCxnSpPr>
        <p:spPr>
          <a:xfrm flipV="1">
            <a:off x="3563640" y="2432880"/>
            <a:ext cx="361080" cy="49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Egyenes összekötő nyíllal 23"/>
          <p:cNvCxnSpPr/>
          <p:nvPr/>
        </p:nvCxnSpPr>
        <p:spPr>
          <a:xfrm flipH="1" flipV="1">
            <a:off x="5148000" y="2432880"/>
            <a:ext cx="288000" cy="49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Egyenes összekötő nyíllal 25"/>
          <p:cNvCxnSpPr>
            <a:stCxn id="106" idx="0"/>
          </p:cNvCxnSpPr>
          <p:nvPr/>
        </p:nvCxnSpPr>
        <p:spPr>
          <a:xfrm flipH="1" flipV="1">
            <a:off x="3418920" y="4075920"/>
            <a:ext cx="1081800" cy="151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Egyenes összekötő nyíllal 27"/>
          <p:cNvCxnSpPr>
            <a:stCxn id="106" idx="0"/>
          </p:cNvCxnSpPr>
          <p:nvPr/>
        </p:nvCxnSpPr>
        <p:spPr>
          <a:xfrm flipV="1">
            <a:off x="4500720" y="4075920"/>
            <a:ext cx="1296000" cy="151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Egyenes összekötő nyíllal 29"/>
          <p:cNvCxnSpPr>
            <a:stCxn id="104" idx="0"/>
            <a:endCxn id="102" idx="2"/>
          </p:cNvCxnSpPr>
          <p:nvPr/>
        </p:nvCxnSpPr>
        <p:spPr>
          <a:xfrm flipV="1">
            <a:off x="1893960" y="4076280"/>
            <a:ext cx="30240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Egyenes összekötő nyíllal 31"/>
          <p:cNvCxnSpPr>
            <a:stCxn id="105" idx="0"/>
            <a:endCxn id="103" idx="2"/>
          </p:cNvCxnSpPr>
          <p:nvPr/>
        </p:nvCxnSpPr>
        <p:spPr>
          <a:xfrm flipH="1" flipV="1">
            <a:off x="6658920" y="4076280"/>
            <a:ext cx="36108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nyitá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t olvasásra nyitjuk meg (fstream esetében ez az alapértelmeze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t írásra nyitjuk meg (ofstream esetében ez az alapértelmeze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bináris módban nyitju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az output pozícója a  fájl végére mu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hozzáfűzésre nyitju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runc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meglévő fájl esetén a tartalmát töröljü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D66-D3B3-4623-AED9-758D6EC375F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ájlba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to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( )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//default konstruktor, a fájl megnyitását később kell végrehaj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( const char * filename, ios_base::openmode mode = ios_base::ou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5256-E815-45D3-933F-28292066A72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ányosítás írás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.open( fileName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alapértelmezetten írásra nyitja meg a fájlokat. A fenti használat ugyanaz, mintha így hoztuk volna lé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fileName, ofstream::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648-9D20-41E4-AB4E-B89A80BD0BF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sznál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 a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b = 3.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r* str = ”valamivalami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”out.txt”, ofstream::app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 &lt;&lt; a &lt;&lt; b &lt;&lt; str &lt;&lt; end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.close(); //le kell zá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EEF7-B94F-4085-B22B-FEA5339E298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ájlból olvas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to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( ); //default konstruktor, a fájl megnyitását később kell végrehaj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( const char * filename, ios_base::openmode mode = ios_base::in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5837-1F21-4BCF-BF7A-90ECA2B83EE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ányosítás olvasás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.open( file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file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znál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”input.txt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 a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&gt;&gt; a &gt;&gt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D08-90C9-4C5B-86AF-64589493DA0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1-15T12:32:45Z</dcterms:modified>
  <cp:revision>244</cp:revision>
  <dc:subject/>
  <dc:title>1. dia</dc:title>
</cp:coreProperties>
</file>